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2D27DE5-5970-4EE3-B343-CF6D15B3969B}"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136A93D-F370-473B-9732-95C6F86E660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D0BD1EE-9BA6-4840-B41F-C395B736372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C653C0D-C8DA-4BD1-8A5F-7D9F00B4452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3B240E-C01B-4540-9F86-3B66EADDDD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49E0CA-10AB-4E62-9D8D-21316C0831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0BF141-5B28-464C-BD49-07EFFDC0CD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CF17F8-8BF8-41A7-81BB-27410E6FA5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39E6BB-6C80-4D2B-99B1-29A2941F03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09AB35-B167-4C40-A13E-D22E3E8A3B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C903C8-8B2D-41DC-BEF6-D72F131DC4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3146E9-EDCA-407F-8870-4FD7D337D1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D124AC-A33B-4A72-84DC-EB2C761CF8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AE6D17-FB5E-4D58-8B46-7A571991C5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DAD16F-C535-468E-9EA4-C684F7BF0E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8BF6DF-7F0D-462F-8440-C5ADFF87DD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37121CA-4A0B-4203-8CB5-5344D34D24C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a:t>
            </a:r>
            <a:br>
              <a:rPr sz="2800"/>
            </a:br>
            <a:r>
              <a:rPr b="1" lang="fr-CA"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9AF7000-7CD1-4ADA-8169-CDB4A2B9B19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7A7DD32-B6C1-4590-A01E-11E45A06B15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3CC9B0-5FC0-40FA-B261-02E62E518D8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D8622C0-C726-4BCC-A5D0-51317628020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9F02BEE-6D76-4BCD-AD0C-5B12039B982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9A0880-459F-4960-B57A-10F21152B7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0"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17E1C40-33CB-47CB-B034-A12FFFFF01B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75661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bréviations « s. » et « ca » </a:t>
            </a:r>
            <a:r>
              <a:rPr b="0" lang="fr-CA"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s. » devient « </a:t>
            </a:r>
            <a:r>
              <a:rPr b="0" lang="fr-CA" sz="2000" spc="-1" strike="noStrike">
                <a:solidFill>
                  <a:srgbClr val="008093"/>
                </a:solidFill>
                <a:latin typeface="Arial"/>
              </a:rPr>
              <a:t>siècle</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8093"/>
                </a:solidFill>
                <a:latin typeface="Arial"/>
              </a:rPr>
              <a:t>environ</a:t>
            </a:r>
            <a:r>
              <a:rPr b="0" lang="fr-CA"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Mais</a:t>
            </a:r>
            <a:r>
              <a:rPr b="0" lang="fr-CA"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ériode d’activité de la personne : « </a:t>
            </a:r>
            <a:r>
              <a:rPr b="0" lang="fr-CA" sz="2000" spc="-1" strike="noStrike">
                <a:solidFill>
                  <a:srgbClr val="008093"/>
                </a:solidFill>
                <a:latin typeface="Arial"/>
              </a:rPr>
              <a:t>activité</a:t>
            </a:r>
            <a:r>
              <a:rPr b="0" lang="fr-CA"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AnQ va employer « activit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AA1CC9C-356A-4570-800D-061562D50F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1A9FDFC-2654-4EDB-ABF6-292B7D94B3C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3"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e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1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566F224-4BFA-4EE8-AC24-B223D2C110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19"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4C27985-707A-4816-B16B-B016153DAC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8E16AA5-D570-4614-AAE5-EA5ADEC1842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C153419-B67A-48C6-895A-D0D693A8F2C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94D859-F661-42A1-ACBB-F6CE5B48E25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9446C26-E63D-469E-A284-C4AE0ED6B12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136"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xpo</a:t>
                      </a:r>
                      <a:r>
                        <a:rPr b="0" lang="fr-CA" sz="2000" spc="-1" strike="noStrike">
                          <a:solidFill>
                            <a:srgbClr val="000000"/>
                          </a:solidFill>
                          <a:latin typeface="Arial"/>
                        </a:rPr>
                        <a:t> (</a:t>
                      </a:r>
                      <a:r>
                        <a:rPr b="0" lang="fr-CA" sz="2000" spc="-1" strike="noStrike">
                          <a:solidFill>
                            <a:srgbClr val="008093"/>
                          </a:solidFill>
                          <a:latin typeface="Arial"/>
                        </a:rPr>
                        <a:t>1986</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784204E-FE62-4EC0-9FF9-1E2C8D75EFF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39437E8-8D7E-4A30-8CBC-02F8DA26E0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E89AFF-19A3-42DF-B7E4-870234F72DD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42B2944-C725-4E55-BAA3-66650C81022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E666232-7FC7-41C5-9C2B-B4285428E6A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10</a:t>
            </a:r>
            <a:r>
              <a:rPr b="0" i="1" lang="fr-CA" sz="2800" spc="-1" strike="noStrike">
                <a:solidFill>
                  <a:srgbClr val="000000"/>
                </a:solidFill>
                <a:latin typeface="Arial"/>
              </a:rPr>
              <a:t>	</a:t>
            </a:r>
            <a:r>
              <a:rPr b="0" i="1" lang="fr-CA" sz="2800" spc="-1" strike="noStrike">
                <a:solidFill>
                  <a:srgbClr val="000000"/>
                </a:solidFill>
                <a:latin typeface="Arial"/>
              </a:rPr>
              <a:t>Identification des familles</a:t>
            </a:r>
            <a:r>
              <a:rPr b="0" i="1"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5270AB8-ADBF-4683-B932-832904FF871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5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5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46A940A-CA72-4ECF-A1BC-A5C7DEF7D44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151B2A-E4FC-4840-B6C2-31823614CA9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1F9C1E9-FEC0-4094-BEFA-005D04DC45B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7915E2-49EE-417F-9363-12BE1C402E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0-17T20:04:12Z</dcterms:modified>
  <cp:revision>313</cp:revision>
  <dc:subject/>
  <dc:title>Diapositive 1</dc:title>
</cp:coreProperties>
</file>