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B8448E7-C5CB-45C5-821A-BEB9D30AEFC5}"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144CB10-363F-4266-96D6-206F42CC5FA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7ACEE5-E487-411F-9194-E27B305C28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CA5DEB-3BFE-4F6C-95EC-88CFC12867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8BC107-B251-4E32-BB00-04068CB411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FD9E63-015A-4F9E-9694-8369AA3BBA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9FD0F3-AC21-4D20-8066-9229AD54AD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A856C0-7260-4297-99FB-436D8FA399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5BA64B-E760-4CC1-93AE-2D858F7F7F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3430D4-B50A-42D0-842D-E95417B8CE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DB1789-58C6-4F3C-AEAF-61D191E2E3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461EE2-D769-48D2-B9CE-F3CC5157AC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6A7FA6-8204-4FF0-91D3-FB65E1669E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778F1C-E41A-48EB-8025-33BFC9072B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4D8C8E-53DE-45D1-89A6-EB0DB3FB320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a:t>
            </a:r>
            <a:br>
              <a:rPr sz="2800"/>
            </a:br>
            <a:r>
              <a:rPr b="1" lang="en-US"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6726F5-0A56-4BCA-9858-5FC5180430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3D9C2E-4157-4D01-8B3F-DB33A40468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E1536B-4FBA-4AEC-85AB-FCE5C293AA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29728A-AEBB-49E6-900D-3D0D100252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A3EAE6-DA72-4DFC-8E08-DF2F187461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76" name=""/>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B90DA97E-2B32-4FCE-B97F-CD03F0BAD3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78" name="PlaceHolder 2"/>
          <p:cNvSpPr>
            <a:spLocks noGrp="1"/>
          </p:cNvSpPr>
          <p:nvPr>
            <p:ph/>
          </p:nvPr>
        </p:nvSpPr>
        <p:spPr>
          <a:xfrm>
            <a:off x="653760" y="1600200"/>
            <a:ext cx="75661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bréviations « s. » et « ca » </a:t>
            </a:r>
            <a:r>
              <a:rPr b="0" lang="en-US"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 » devient « </a:t>
            </a:r>
            <a:r>
              <a:rPr b="0" lang="en-US" sz="2000" spc="-1" strike="noStrike">
                <a:solidFill>
                  <a:srgbClr val="008093"/>
                </a:solidFill>
                <a:latin typeface="Arial"/>
              </a:rPr>
              <a:t>siècle</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93"/>
                </a:solidFill>
                <a:latin typeface="Arial"/>
              </a:rPr>
              <a:t>environ</a:t>
            </a:r>
            <a:r>
              <a:rPr b="0" lang="en-US"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Mais</a:t>
            </a:r>
            <a:r>
              <a:rPr b="0" lang="en-US"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iode d’activité de la personne : « </a:t>
            </a:r>
            <a:r>
              <a:rPr b="0" lang="en-US" sz="2000" spc="-1" strike="noStrike">
                <a:solidFill>
                  <a:srgbClr val="008093"/>
                </a:solidFill>
                <a:latin typeface="Arial"/>
              </a:rPr>
              <a:t>activité</a:t>
            </a:r>
            <a:r>
              <a:rPr b="0" lang="en-US"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Q va employer « activité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3ECC48-D317-4DC0-B8EC-216DBACB65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4038480" cy="4525920"/>
          </a:xfrm>
          <a:prstGeom prst="rect">
            <a:avLst/>
          </a:prstGeom>
          <a:noFill/>
          <a:ln w="0">
            <a:noFill/>
          </a:ln>
        </p:spPr>
        <p:txBody>
          <a:bodyPr lIns="90000" rIns="90000" tIns="46800" bIns="46800"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844520" y="1600200"/>
            <a:ext cx="403884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6FE94B08-625F-4B13-8D64-E070FA3085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83" name="PlaceHolder 2"/>
          <p:cNvSpPr>
            <a:spLocks noGrp="1"/>
          </p:cNvSpPr>
          <p:nvPr>
            <p:ph/>
          </p:nvPr>
        </p:nvSpPr>
        <p:spPr>
          <a:xfrm>
            <a:off x="654120" y="1345680"/>
            <a:ext cx="8229600" cy="4526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8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1D298FD-051F-4982-8F46-FADC504863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8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F1A23D4A-4A0E-4426-9E36-980530500F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1656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47F584-93BF-4092-83BE-5EBEBBB8A8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99AFBD-6555-44C3-B535-18051101D5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notices d’autorité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8808F2-E334-4F2E-A231-F588DADED6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3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218F12-31B1-4D10-AE17-3EF536BF83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96" name=""/>
          <p:cNvGraphicFramePr/>
          <p:nvPr/>
        </p:nvGraphicFramePr>
        <p:xfrm>
          <a:off x="423720" y="1346040"/>
          <a:ext cx="8460000" cy="5170320"/>
        </p:xfrm>
        <a:graphic>
          <a:graphicData uri="http://schemas.openxmlformats.org/drawingml/2006/table">
            <a:tbl>
              <a:tblPr/>
              <a:tblGrid>
                <a:gridCol w="4032360"/>
                <a:gridCol w="4427640"/>
              </a:tblGrid>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69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8DC466BC-9A3F-494D-A9F5-EDB0EA4028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6AB18D-2D88-42FD-95DF-BD7F212815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3EEB6C-4B9F-49FD-9E50-F05548DC57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7C301F-9B30-44A6-8122-B23C6C9846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34EFF3-04A3-49F7-8D5B-0F9324C34A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0</a:t>
            </a:r>
            <a:r>
              <a:rPr b="0" i="1" lang="en-US" sz="2800" spc="-1" strike="noStrike">
                <a:solidFill>
                  <a:srgbClr val="000000"/>
                </a:solidFill>
                <a:latin typeface="Arial"/>
              </a:rPr>
              <a:t>	</a:t>
            </a:r>
            <a:r>
              <a:rPr b="0" i="1" lang="en-US" sz="2800" spc="-1" strike="noStrike">
                <a:solidFill>
                  <a:srgbClr val="000000"/>
                </a:solidFill>
                <a:latin typeface="Arial"/>
              </a:rPr>
              <a:t>Identification des familles</a:t>
            </a:r>
            <a:r>
              <a:rPr b="0" i="1"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3" name=""/>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F3C9F0D6-5E97-404A-93DF-982EE9DBA0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39448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0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0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F986BB50-A892-4E68-B70F-F7541C14C1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07F053-79A5-42E1-BC9A-3BEAF9AA7D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339135-2934-4E5C-B658-615E675055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42E4B0-4777-447C-9DD9-126B19083E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204B3C-15A1-499F-B6A9-B3EF9B24BA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47Z</dcterms:modified>
  <cp:revision>305</cp:revision>
  <dc:subject/>
  <dc:title>Diapositive 1</dc:title>
</cp:coreProperties>
</file>