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D611DF3-8934-4B1C-98BC-70EAC5770955}"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9A74341-62FE-4564-B0B9-40DA884CFE0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F929F7-4377-4C4F-A526-847F66FAA4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36A619-2750-4472-84F7-BF4C8FCDBF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359748-383F-4888-9F2A-65471D189F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5F9981-6B9A-4CC0-B7DC-0BE1441EEF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948D50-486C-4E26-8268-245D5F88B9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561824-1686-4F89-8069-B7807D6EA8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3E9DB4-C056-4E41-BF35-8ABFCED6A9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C97907-7B22-448D-808C-A24149BAE9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8C3569-651B-4BAB-909E-2E61A974FF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098D05-C1B5-4EAA-9AF5-C404AF5AD1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FCB906-970A-46EB-A645-69AD2290F0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0408AE-CE62-445A-B40A-0113BEE131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8D48229-439D-44BE-84D3-DEDA4CB5829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a:t>
            </a:r>
            <a:br>
              <a:rPr sz="2800"/>
            </a:br>
            <a:r>
              <a:rPr b="1" lang="en-US"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7FAD4E-8C72-4AAF-A020-9F61565A12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FFF037-3377-4DEC-9D7E-D7C80FBAD5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A218701-A2F7-4088-B1F1-69317445CA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87B634-21E5-463A-8CEF-47E0EE5104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7C9558-5F0E-4DD8-BAE0-4E9186D60B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7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76" name=""/>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C4A05BC3-C331-433E-8D57-E49E925816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78" name="PlaceHolder 2"/>
          <p:cNvSpPr>
            <a:spLocks noGrp="1"/>
          </p:cNvSpPr>
          <p:nvPr>
            <p:ph/>
          </p:nvPr>
        </p:nvSpPr>
        <p:spPr>
          <a:xfrm>
            <a:off x="653760" y="1600200"/>
            <a:ext cx="756612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bréviations « s. » et « ca » </a:t>
            </a:r>
            <a:r>
              <a:rPr b="0" lang="en-US"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 » devient « </a:t>
            </a:r>
            <a:r>
              <a:rPr b="0" lang="en-US" sz="2000" spc="-1" strike="noStrike">
                <a:solidFill>
                  <a:srgbClr val="008093"/>
                </a:solidFill>
                <a:latin typeface="Arial"/>
              </a:rPr>
              <a:t>siècle</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8093"/>
                </a:solidFill>
                <a:latin typeface="Arial"/>
              </a:rPr>
              <a:t>environ</a:t>
            </a:r>
            <a:r>
              <a:rPr b="0" lang="en-US"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Mais</a:t>
            </a:r>
            <a:r>
              <a:rPr b="0" lang="en-US"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ériode d’activité de la personne : « </a:t>
            </a:r>
            <a:r>
              <a:rPr b="0" lang="en-US" sz="2000" spc="-1" strike="noStrike">
                <a:solidFill>
                  <a:srgbClr val="008093"/>
                </a:solidFill>
                <a:latin typeface="Arial"/>
              </a:rPr>
              <a:t>activité</a:t>
            </a:r>
            <a:r>
              <a:rPr b="0" lang="en-US"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Q va employer « activité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1F7CE8-CEA6-4AE8-963D-4099D1431B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4038480" cy="4525920"/>
          </a:xfrm>
          <a:prstGeom prst="rect">
            <a:avLst/>
          </a:prstGeom>
          <a:noFill/>
          <a:ln w="0">
            <a:noFill/>
          </a:ln>
        </p:spPr>
        <p:txBody>
          <a:bodyPr lIns="90000" rIns="90000" tIns="46800" bIns="46800"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844520" y="1600200"/>
            <a:ext cx="403884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818BD7D4-3662-4DFA-8C58-0685CF3462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83" name="PlaceHolder 2"/>
          <p:cNvSpPr>
            <a:spLocks noGrp="1"/>
          </p:cNvSpPr>
          <p:nvPr>
            <p:ph/>
          </p:nvPr>
        </p:nvSpPr>
        <p:spPr>
          <a:xfrm>
            <a:off x="654120" y="1345680"/>
            <a:ext cx="8229600" cy="4526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8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11981323-9F6B-4605-8C89-DB794E36B6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8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EDB1C06D-6B99-4900-984D-5959647510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1656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96E155-4260-45ED-927D-C8B4955E1B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0E4CDA-AC67-4A4F-8AF4-329E6CDCEA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9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notices d’autorité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96D04D-ABB8-46CE-990D-5880DD0521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3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C5C318-A56C-4AD1-8870-6ED782098A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96" name=""/>
          <p:cNvGraphicFramePr/>
          <p:nvPr/>
        </p:nvGraphicFramePr>
        <p:xfrm>
          <a:off x="423720" y="1346040"/>
          <a:ext cx="8460000" cy="5170320"/>
        </p:xfrm>
        <a:graphic>
          <a:graphicData uri="http://schemas.openxmlformats.org/drawingml/2006/table">
            <a:tbl>
              <a:tblPr/>
              <a:tblGrid>
                <a:gridCol w="4032360"/>
                <a:gridCol w="4427640"/>
              </a:tblGrid>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69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444B46E6-73A6-4B4B-9B7A-346F0BFE25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5DEB45-A76B-4A0A-A828-ACC7B5D23D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BCF376-3F59-447D-9411-1C8F7D049F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B63614-2E72-440B-A8DA-26C3E9CF40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E744CE-B923-48DA-B48B-7FEA338DD7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0</a:t>
            </a:r>
            <a:r>
              <a:rPr b="0" i="1" lang="en-US" sz="2800" spc="-1" strike="noStrike">
                <a:solidFill>
                  <a:srgbClr val="000000"/>
                </a:solidFill>
                <a:latin typeface="Arial"/>
              </a:rPr>
              <a:t>	</a:t>
            </a:r>
            <a:r>
              <a:rPr b="0" i="1" lang="en-US" sz="2800" spc="-1" strike="noStrike">
                <a:solidFill>
                  <a:srgbClr val="000000"/>
                </a:solidFill>
                <a:latin typeface="Arial"/>
              </a:rPr>
              <a:t>Identification des familles</a:t>
            </a:r>
            <a:r>
              <a:rPr b="0" i="1"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3" name=""/>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84FDCB69-850F-4E0C-B873-3C12C85D53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39448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0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0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5B97001D-14D2-4669-B2F0-356C39A0EC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D009001-8235-40CA-825D-178866BB02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6ED693-D8EC-47BD-922C-1A38FB998C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0780E6-2DB0-4E03-8EB5-02A767006B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AAF0C50-40E6-4C88-90F5-87C8C310BC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4:47Z</dcterms:modified>
  <cp:revision>305</cp:revision>
  <dc:subject/>
  <dc:title>Diapositive 1</dc:title>
</cp:coreProperties>
</file>