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2AFED5E-6569-4819-8797-6D4A0D7C151C}"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98CE1BE-F746-43B6-AF94-85253557D5C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452A0B2-E455-442A-A6B0-E7996BFA92C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BA82F8F-F5DA-4A84-BCB3-E31183C5C5B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A5B8B3-7977-454E-8B13-B1E42E512E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37B82B-79F4-4365-91F8-2027376B97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B8201C-F392-4E20-A3AB-DD60006C5B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C0943D-33E6-4BDF-AC12-DAAB8AC68B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7EBB0E-3810-4286-8806-4E61470A38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BBF5CB-47CD-4AEA-9173-7EB4119928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AD4A9D-ED3E-497F-AE60-EA86776188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6AEC82-5856-4B3E-934E-ACC4FF474F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42DD21-084E-4157-A171-00E8FD410D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856C15-2831-4EE2-8784-259308364D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971EE0-DA59-4582-84A4-394D143782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568EBC-FD04-4671-BB6C-2598C63AF9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B076603-1FD2-48FC-817B-8BCCD1D9297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a:t>
            </a:r>
            <a:br>
              <a:rPr sz="2800"/>
            </a:br>
            <a:r>
              <a:rPr b="1" lang="fr-CA"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E75EBC1-7D53-47EC-9A51-D0EB280C243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815468-8D6C-459D-B767-2300CCDFC99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87E64EC-F287-4CF6-9CD3-8CD18D6DDE3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2E6804B-AFA8-4894-8C39-45C4F053F04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BBD891B-DAF4-407E-A42B-B00EF9E4B77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3CF6D7-D30F-4399-93CF-438D45CC805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0"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DC2BF3A-F44B-430E-B23A-1D0E508DA9B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4" name="PlaceHolder 2"/>
          <p:cNvSpPr>
            <a:spLocks noGrp="1"/>
          </p:cNvSpPr>
          <p:nvPr>
            <p:ph/>
          </p:nvPr>
        </p:nvSpPr>
        <p:spPr>
          <a:xfrm>
            <a:off x="653760" y="1600200"/>
            <a:ext cx="75661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bréviations « s. » et « ca » </a:t>
            </a:r>
            <a:r>
              <a:rPr b="0" lang="fr-CA"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s. » devient « </a:t>
            </a:r>
            <a:r>
              <a:rPr b="0" lang="fr-CA" sz="2000" spc="-1" strike="noStrike">
                <a:solidFill>
                  <a:srgbClr val="008093"/>
                </a:solidFill>
                <a:latin typeface="Arial"/>
              </a:rPr>
              <a:t>siècle</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8093"/>
                </a:solidFill>
                <a:latin typeface="Arial"/>
              </a:rPr>
              <a:t>environ</a:t>
            </a:r>
            <a:r>
              <a:rPr b="0" lang="fr-CA"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Mais</a:t>
            </a:r>
            <a:r>
              <a:rPr b="0" lang="fr-CA"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ériode d’activité de la personne : « </a:t>
            </a:r>
            <a:r>
              <a:rPr b="0" lang="fr-CA" sz="2000" spc="-1" strike="noStrike">
                <a:solidFill>
                  <a:srgbClr val="008093"/>
                </a:solidFill>
                <a:latin typeface="Arial"/>
              </a:rPr>
              <a:t>activité</a:t>
            </a:r>
            <a:r>
              <a:rPr b="0" lang="fr-CA"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AnQ va employer « activit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689F2A-5F4D-4003-B6F1-3EC6508765D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EAFB2EB-C4D3-4B7C-B055-D9B3ECCC6AA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3"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e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1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CE26BA0-2CC5-416F-8652-40582599EEE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19"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6295DB3-877F-4A92-90C3-98DB0F9B47A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9852AE-F676-4F3C-9923-1ACAE1BE1A6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39900FA-FF98-4E7B-95DA-417E55072D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81F10D-2098-416A-87A3-5F90A6EB878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5B03A9-B316-4A26-8266-A3F47171BD6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136"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xpo</a:t>
                      </a:r>
                      <a:r>
                        <a:rPr b="0" lang="fr-CA" sz="2000" spc="-1" strike="noStrike">
                          <a:solidFill>
                            <a:srgbClr val="000000"/>
                          </a:solidFill>
                          <a:latin typeface="Arial"/>
                        </a:rPr>
                        <a:t> (</a:t>
                      </a:r>
                      <a:r>
                        <a:rPr b="0" lang="fr-CA" sz="2000" spc="-1" strike="noStrike">
                          <a:solidFill>
                            <a:srgbClr val="008093"/>
                          </a:solidFill>
                          <a:latin typeface="Arial"/>
                        </a:rPr>
                        <a:t>1986</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EBD1F0D-F282-411E-94BC-9B5DE15DF9D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B86D6BD-78D6-474D-969C-7F716A700C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6437F1F-19C5-4410-A5E4-AB683E65FC1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D6F6166-4419-4AE3-A7D1-6BF06ADE105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6DD4BB6-0615-4611-BD24-384A4C1C8D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10</a:t>
            </a:r>
            <a:r>
              <a:rPr b="0" i="1" lang="fr-CA" sz="2800" spc="-1" strike="noStrike">
                <a:solidFill>
                  <a:srgbClr val="000000"/>
                </a:solidFill>
                <a:latin typeface="Arial"/>
              </a:rPr>
              <a:t>	</a:t>
            </a:r>
            <a:r>
              <a:rPr b="0" i="1" lang="fr-CA" sz="2800" spc="-1" strike="noStrike">
                <a:solidFill>
                  <a:srgbClr val="000000"/>
                </a:solidFill>
                <a:latin typeface="Arial"/>
              </a:rPr>
              <a:t>Identification des familles</a:t>
            </a:r>
            <a:r>
              <a:rPr b="0" i="1"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6E1BDBD-8E2A-4286-8291-0AD99878C3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5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5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4B161CD-193B-4C1F-9DA2-D49DA3B1B3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3F83F31-4656-4D93-868C-079BE24EEDC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5089B92-CA5F-4E5B-B41B-1D7BF8F52FB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554AF9-8394-4E76-9DB8-CF0EE55D65B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0-17T20:04:12Z</dcterms:modified>
  <cp:revision>313</cp:revision>
  <dc:subject/>
  <dc:title>Diapositive 1</dc:title>
</cp:coreProperties>
</file>