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4424DB3-9351-48B5-BA7C-0C70429635AC}"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72BACAD-2BB7-4DEA-BB72-8530968CA2D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C02E5A-374D-499F-B94C-7BB941753E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DC7A3D-485B-4915-9045-9706C4F455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811CC7-2220-4F9A-AC57-B405FCF518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E4D650-541F-4B00-9CF1-FEAFFD855F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DB57E3-B68B-47D1-91C2-964BAA9BD8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FC78D0-8A12-400B-997D-3D173856C3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20A478-BC06-4E0A-8134-93A297870B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BCF74B-9DB2-46D3-9598-02782F20E0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54D8E0-7F41-499C-8548-ECC40E7047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8982E8-22B7-456D-9C7E-731177178B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4637DE-8A7A-4482-A27F-8246820181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98E420-701F-418C-86E9-FD543B34FF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77A4554-9796-4156-8CC3-B1BC556D2A4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a:t>
            </a:r>
            <a:br>
              <a:rPr sz="2800"/>
            </a:br>
            <a:r>
              <a:rPr b="1" lang="en-US"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FBD93E-6022-4114-80F3-F97B7125B8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982EA3-A257-41AB-BD9B-C2E071CBC6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E8AD60-A3DC-4CFF-8620-DB1E0DE695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2AF2ACF-0F09-4475-BCED-2DDB6E3C41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A27A78-97FA-4979-A936-D40B9348D3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7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76" name=""/>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911A5334-5073-464D-B0F1-85B8BD86EE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78" name="PlaceHolder 2"/>
          <p:cNvSpPr>
            <a:spLocks noGrp="1"/>
          </p:cNvSpPr>
          <p:nvPr>
            <p:ph/>
          </p:nvPr>
        </p:nvSpPr>
        <p:spPr>
          <a:xfrm>
            <a:off x="653760" y="1600200"/>
            <a:ext cx="75661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bréviations « s. » et « ca » </a:t>
            </a:r>
            <a:r>
              <a:rPr b="0" lang="en-US"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 » devient « </a:t>
            </a:r>
            <a:r>
              <a:rPr b="0" lang="en-US" sz="2000" spc="-1" strike="noStrike">
                <a:solidFill>
                  <a:srgbClr val="008093"/>
                </a:solidFill>
                <a:latin typeface="Arial"/>
              </a:rPr>
              <a:t>siècle</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8093"/>
                </a:solidFill>
                <a:latin typeface="Arial"/>
              </a:rPr>
              <a:t>environ</a:t>
            </a:r>
            <a:r>
              <a:rPr b="0" lang="en-US"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Mais</a:t>
            </a:r>
            <a:r>
              <a:rPr b="0" lang="en-US"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ériode d’activité de la personne : « </a:t>
            </a:r>
            <a:r>
              <a:rPr b="0" lang="en-US" sz="2000" spc="-1" strike="noStrike">
                <a:solidFill>
                  <a:srgbClr val="008093"/>
                </a:solidFill>
                <a:latin typeface="Arial"/>
              </a:rPr>
              <a:t>activité</a:t>
            </a:r>
            <a:r>
              <a:rPr b="0" lang="en-US"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Q va employer « activité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423B98-2B25-4692-A766-D07AC95263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4038480" cy="4525920"/>
          </a:xfrm>
          <a:prstGeom prst="rect">
            <a:avLst/>
          </a:prstGeom>
          <a:noFill/>
          <a:ln w="0">
            <a:noFill/>
          </a:ln>
        </p:spPr>
        <p:txBody>
          <a:bodyPr lIns="90000" rIns="90000" tIns="46800" bIns="46800"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844520" y="1600200"/>
            <a:ext cx="403884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ECECB950-BCCC-49FE-B215-4CE326BF5B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83" name="PlaceHolder 2"/>
          <p:cNvSpPr>
            <a:spLocks noGrp="1"/>
          </p:cNvSpPr>
          <p:nvPr>
            <p:ph/>
          </p:nvPr>
        </p:nvSpPr>
        <p:spPr>
          <a:xfrm>
            <a:off x="654120" y="1345680"/>
            <a:ext cx="8229600" cy="4526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8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45EFEF7F-5334-44A4-A859-3FBF7CC159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8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9067D5A5-9D11-4A89-8D42-04441189F0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1656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2390A8D-B912-4EFA-A970-2DE5C15715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396480-4EE1-4067-914B-4640C0A91B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notices d’autorité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AEAD54-24B2-4DBE-9224-B4E7F9CDB8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3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273A80-200F-492A-A675-4AF0927D0E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96" name=""/>
          <p:cNvGraphicFramePr/>
          <p:nvPr/>
        </p:nvGraphicFramePr>
        <p:xfrm>
          <a:off x="423720" y="1346040"/>
          <a:ext cx="8460000" cy="5170320"/>
        </p:xfrm>
        <a:graphic>
          <a:graphicData uri="http://schemas.openxmlformats.org/drawingml/2006/table">
            <a:tbl>
              <a:tblPr/>
              <a:tblGrid>
                <a:gridCol w="4032360"/>
                <a:gridCol w="4427640"/>
              </a:tblGrid>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69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D02F3BC2-D0D6-46B8-8388-E1B2D483C6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42AA24B-CF2D-4F30-BE97-5B93B38D2E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A7164C-4F60-4B8E-9737-9D0296A785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F05A57-AEC3-4B32-BAC7-E3AB187FD6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C1409B-8EBB-492D-BE05-8C7AD66614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0</a:t>
            </a:r>
            <a:r>
              <a:rPr b="0" i="1" lang="en-US" sz="2800" spc="-1" strike="noStrike">
                <a:solidFill>
                  <a:srgbClr val="000000"/>
                </a:solidFill>
                <a:latin typeface="Arial"/>
              </a:rPr>
              <a:t>	</a:t>
            </a:r>
            <a:r>
              <a:rPr b="0" i="1" lang="en-US" sz="2800" spc="-1" strike="noStrike">
                <a:solidFill>
                  <a:srgbClr val="000000"/>
                </a:solidFill>
                <a:latin typeface="Arial"/>
              </a:rPr>
              <a:t>Identification des familles</a:t>
            </a:r>
            <a:r>
              <a:rPr b="0" i="1"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3" name=""/>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43B6C910-9A83-4487-8CCC-F713BDEA1F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39448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0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0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D123414C-67BF-4312-AB01-710B2228AC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0DD69B6-B9C1-4EBB-A5F5-F8B06D19BE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F01051-492C-4845-933B-A9C421B93D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F47107-6DF7-4E26-BD54-EACF442996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F5E7DA-C2CC-4F87-9C76-6B0C20174B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47Z</dcterms:modified>
  <cp:revision>305</cp:revision>
  <dc:subject/>
  <dc:title>Diapositive 1</dc:title>
</cp:coreProperties>
</file>