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3BBB2C-D2EF-46D0-9274-538EFD132D0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5ABA6D-83D4-43F9-9ECE-61F0AE4284E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2E54A5-D1E7-4833-AB8E-95E3CDCD893D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6F0-FC21-4D46-9656-998EEE35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F17-910D-4156-9562-BD4B34FC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A36-12E2-4C1A-832A-A6D675E3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2D3-27C9-41A4-865C-A618FBCA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322-403B-497C-AEDA-72FFA36C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B04-A4D6-4645-AAE1-10716810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15C-12B8-426B-AE74-281171F0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C1E-5C8B-418C-860A-6D552E4B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7A7-66F0-43C9-B5DC-D2CE1B3B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A8C-6E78-4B8B-B2E8-53564B1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349-FD7D-4B20-A983-77A813E2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079-D18F-44CA-9CE0-E7093030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A4EF-F88A-48B3-AB55-71F722CBE2CD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5057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228708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4220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3f3f3f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Daniel Paradis</cp:lastModifiedBy>
  <dcterms:modified xsi:type="dcterms:W3CDTF">2013-11-13T16:57:28Z</dcterms:modified>
  <cp:revision>33</cp:revision>
  <dc:subject/>
  <dc:title>Diapositive 1</dc:title>
</cp:coreProperties>
</file>