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CD048C-6043-445D-A4EE-5C9D2520300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3A31D8-ED65-4862-BD38-CBFD9A452BB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6A4E45-087A-420C-9324-5ACF2505F1EA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A75A-83D2-4DE9-9F31-742ABC36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04C-B541-4A23-AA08-2E73DA06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07C-FCF4-46ED-8215-2154386B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555-3331-4AD1-ACF1-F0D643C9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7EB-7D44-4842-B418-A87A632F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7AE-27A6-46AB-89F2-9AF1269E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4E0-0EE7-4B01-880B-DE71D49D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E42-D49B-484E-AC39-9C25F80B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3EC-A7A9-4A95-9DA5-92E97ADE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67A-B06C-44B8-BF84-D3F75EA9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3C9-2BD2-47E3-B77A-C54F5877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8AE-20C0-4A87-9A22-4A20F968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0E03-88CF-43DE-8E8D-1B8CE2B03C2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98864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ulle ronde 3"/>
          <p:cNvSpPr/>
          <p:nvPr/>
        </p:nvSpPr>
        <p:spPr>
          <a:xfrm>
            <a:off x="5364000" y="2168640"/>
            <a:ext cx="3311640" cy="1620720"/>
          </a:xfrm>
          <a:prstGeom prst="wedgeEllipseCallout">
            <a:avLst>
              <a:gd name="adj1" fmla="val -72532"/>
              <a:gd name="adj2" fmla="val 27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5057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22400" y="260640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3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9120" y="2287080"/>
            <a:ext cx="8229600" cy="33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Lesquels des groupes d’éléments suivants décrivent conformément à RDA une monographie constituée 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42200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f3f3f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3f3f3f"/>
                </a:solidFill>
                <a:latin typeface="Arial"/>
              </a:rPr>
              <a:t>21 pages numérotées de texte, suivies de 18 pages de planches de portraits non numérotées et de 18 feuillets numérotés. Le volume mesure 25,2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[18] pages de planches, 18 feuillets : $b illustrations ; $c 26 centimèt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a 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illustration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5,2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monographi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Daniel Paradis</cp:lastModifiedBy>
  <dcterms:modified xsi:type="dcterms:W3CDTF">2013-11-13T16:57:28Z</dcterms:modified>
  <cp:revision>33</cp:revision>
  <dc:subject/>
  <dc:title>Diapositive 1</dc:title>
</cp:coreProperties>
</file>