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1EAEBC-50EA-4B60-9309-B51315BC24A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F04CD8-73C0-4A0B-A29A-2AB64AA27C5C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45BEDA-8B9F-4822-BD78-D2E12D955062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DD76-FC31-45C3-941B-9482DCE7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092D-052F-4352-A06F-5DB39BBA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7837-D34E-4C25-9D98-1144C6D0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0399-36FB-4F1F-A5CC-1141752C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9D1-8242-4137-9A72-9035509B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DFB3-CD79-462A-96C3-C85FC77C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19A0-0F85-45D4-8300-6878EB84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6630-B492-4FE6-9E03-E24689FE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0AD1-5109-46D1-A698-22052B2C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0EFA-AF16-4EB9-8E43-4B44B3F1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501C-9D6F-4238-8D08-3912D435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E06-E1B1-475D-89E8-B9647F03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6765-6377-48BE-8931-304B58A56710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1988640"/>
            <a:ext cx="85690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62080"/>
                <a:tab algn="l" pos="2511360"/>
                <a:tab algn="l" pos="4572000"/>
                <a:tab algn="l" pos="4935600"/>
                <a:tab algn="l" pos="770724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36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Description des supports matériel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 constituent des éléments fondamentaux R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ype de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ype de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éthode d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Bulle ronde 3"/>
          <p:cNvSpPr/>
          <p:nvPr/>
        </p:nvSpPr>
        <p:spPr>
          <a:xfrm>
            <a:off x="5364000" y="2168640"/>
            <a:ext cx="3311640" cy="1620720"/>
          </a:xfrm>
          <a:prstGeom prst="wedgeEllipseCallout">
            <a:avLst>
              <a:gd name="adj1" fmla="val -72532"/>
              <a:gd name="adj2" fmla="val 2766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Uniquement si la ressource est complète ou si l’importance matérielle totale est conn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5057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Vrai ou faux? Les termes utilisés dans les zones MARC 336, 337 et 338 proviennent de listes fermées que l’on retrouve au chapitre 3, dans RDA.</a:t>
            </a:r>
            <a:r>
              <a:rPr b="1" lang="fr-FR" sz="2800" spc="-1" strike="noStrike">
                <a:solidFill>
                  <a:srgbClr val="37609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22400" y="260640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3"/>
          <p:cNvSpPr/>
          <p:nvPr/>
        </p:nvSpPr>
        <p:spPr>
          <a:xfrm>
            <a:off x="3348000" y="2637000"/>
            <a:ext cx="4896000" cy="259236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Faux! La zone 336 est réservée à l’enregistrement du type de contenu de la ressource. Les instructions et le vocabulaire relatifs au type de contenu se trouvent au chapitre 6, “Identification des œuvres et des expressions”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, enregistrés dans la zone MARC 300, se rapportent au support 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9120" y="2287080"/>
            <a:ext cx="8229600" cy="33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illust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a coul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Lesquels des groupes d’éléments suivants décrivent conformément à RDA une monographie constituée d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8000" y="1422000"/>
            <a:ext cx="896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f3f3f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3f3f3f"/>
                </a:solidFill>
                <a:latin typeface="Arial"/>
              </a:rPr>
              <a:t>21 pages numérotées de texte, suivies de 18 pages de planches de portraits non numérotées et de 18 feuillets numérotés. Le volume mesure 25,2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[18] pages de planches, 18 feuillets : $b illustrations ; $c 26 centimèt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a 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illustrations ; $c 26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portraits ; $c 26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portraits ; $c 25,2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monographi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6:22:24Z</dcterms:created>
  <dc:creator>BANQ</dc:creator>
  <dc:description/>
  <dc:language>en-US</dc:language>
  <cp:lastModifiedBy>Daniel Paradis</cp:lastModifiedBy>
  <dcterms:modified xsi:type="dcterms:W3CDTF">2013-11-13T16:57:28Z</dcterms:modified>
  <cp:revision>33</cp:revision>
  <dc:subject/>
  <dc:title>Diapositive 1</dc:title>
</cp:coreProperties>
</file>