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B4F88C6-4376-4C11-B08C-B6D58E1C91A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D2E301-2481-42BD-9EA2-909846E5D16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B84DEE-7769-415D-94C0-5280293DBFD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D16-CDE9-45B0-BCF8-7CE3DFEC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40D-AB9A-4839-9BA9-707ABF9C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B59-0E4A-4385-9E39-D19A1E82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B53-3AB2-49C0-B0D2-24CE0B42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77E-576A-40E4-AFF8-A35242DA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E2E-65CF-4DFB-B043-5B334898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207-296F-4B31-8941-4107E79A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186-E534-443B-99AC-31FB4841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B95-016A-4819-95A0-1EE8BE14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5F9-6AEE-4DAD-B538-C1874D51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DD6-B62D-4E02-BCAE-79B60212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005-D743-41E4-AD37-3EED2D69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0EC5-9509-4153-8A72-C41CBF48872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98864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ulle ronde 3"/>
          <p:cNvSpPr/>
          <p:nvPr/>
        </p:nvSpPr>
        <p:spPr>
          <a:xfrm>
            <a:off x="5364000" y="2168640"/>
            <a:ext cx="3311640" cy="1620720"/>
          </a:xfrm>
          <a:prstGeom prst="wedgeEllipseCallout">
            <a:avLst>
              <a:gd name="adj1" fmla="val -72532"/>
              <a:gd name="adj2" fmla="val 27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5057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22400" y="260640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3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9120" y="2287080"/>
            <a:ext cx="8229600" cy="33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Lesquels des groupes d’éléments suivants décrivent conformément à RDA une monographie constituée 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42200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f3f3f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3f3f3f"/>
                </a:solidFill>
                <a:latin typeface="Arial"/>
              </a:rPr>
              <a:t>21 pages numérotées de texte, suivies de 18 pages de planches de portraits non numérotées et de 18 feuillets numérotés. Le volume mesure 25,2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[18] pages de planches, 18 feuillets : $b illustrations ; $c 26 centimèt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a 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illustration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5,2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monographi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Daniel Paradis</cp:lastModifiedBy>
  <dcterms:modified xsi:type="dcterms:W3CDTF">2013-11-13T16:57:28Z</dcterms:modified>
  <cp:revision>33</cp:revision>
  <dc:subject/>
  <dc:title>Diapositive 1</dc:title>
</cp:coreProperties>
</file>