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B6BE-3882-4B33-99D4-10619B287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63B4-D954-4DF9-9E20-05ACBA8EB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C67D-2F06-4A03-8816-92456B48A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5D99-55AC-43DF-8DE7-DBE2FD5B6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37B1-1D64-4994-B148-27D994295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F158-22ED-43D9-9EF7-DED66A523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0338-7C92-4DB1-ABD7-CAD2BE1D4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B3E4-C4AF-4B3C-94EB-1B3804078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EE89-A41A-43FF-AF8A-2EBBE8FA3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5E2F-B798-48A2-B1CA-ADD3D6CDA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8314-2482-47CB-8484-F3C662272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5A8E-FA26-418A-A054-98E1CB9E3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18449AC-BFA8-430F-8A41-B9BBCDADE19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3BA3-2221-4B96-9C36-05BD807DF5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59A3-C10E-4DD5-A8AC-3204C6209C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D34E-7C6F-4DB9-814D-373C1FA971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E19D-AA3B-40C8-90B1-4D4BE9A73C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9131-830E-49DD-931F-262FC17954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C09A-B311-449D-89B3-A84B0722C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fr-C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729F-03FA-4ED2-904B-3ECFC40B83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1EBB-E2FD-4D97-AA39-DC50239B1F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ABAB-4CBA-452F-95D4-5CCB4DCC1A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645C-A599-4978-9246-386D3DA75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2T20:34:02Z</dcterms:modified>
  <cp:revision>252</cp:revision>
  <dc:subject/>
  <dc:title>Diapositive 1</dc:title>
</cp:coreProperties>
</file>