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15AC6-71CA-42A0-B789-78B98D8BEC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C74F5-7D7B-4E9C-81CA-ABE08EC69F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1572D-BCB1-41F7-AC2F-636F0A98A4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5194E-7785-4C58-93A1-F3C84F3A4C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2D0BE-BDB4-4701-9F03-07DCCBF35E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7F736-EBC0-4912-8308-6D2501AFF4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B5A49-DA6C-444B-983C-39AB5A9BA9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1B4DF-866D-4557-9172-EA9569E3D1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6E8B5-286D-4EB5-B985-41CA7F9DCB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40CA2-F207-41E8-8835-171BF2CFD2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5FDE7-D526-44B4-AF55-BA39CAE4AF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8CABB-E33E-4638-80EF-17DEDD4D16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E3EB25B1-9FF4-4B02-8C94-8ADC23FB0D04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cription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  <a:ea typeface="ＭＳ Ｐゴシック"/>
              </a:rPr>
              <a:t>Contenu – </a:t>
            </a:r>
            <a:br>
              <a:rPr sz="2800"/>
            </a:br>
            <a:r>
              <a:rPr b="1" i="1" lang="en-US" sz="2800" spc="-1" strike="noStrike">
                <a:solidFill>
                  <a:srgbClr val="006666"/>
                </a:solidFill>
                <a:latin typeface="Arial"/>
                <a:ea typeface="ＭＳ Ｐゴシック"/>
              </a:rPr>
              <a:t>Attributs des expressions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AE53B-3197-4592-BDB1-21E83EE0C0D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ésumé du contenu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gue du contenu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e de la notation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1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u supplémentaire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1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s de bibliographie et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03C0F-2E5D-4308-B9B9-D674E0A8127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ttributs du contenu enregistrés dans la zone 300 du format MAR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ttributs des œuv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ttributs des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22A2C-FDD3-4C16-9628-57EBC7E3D38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gnes directrices générales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Chapitr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endre l’information utilisée pour la description du contenu de l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ressource elle-mê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ans certains cas, l’information peut également être prise de sources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extérieures à la res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056C8-78E1-422B-830A-BFBEDECDEC4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u contenu enregistrés dans la zone 300 du format MARC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Éléments associés au contenu, ils se retrouvent au chapitr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7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des RDA (et non au chapitre 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ntenu illustratif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15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ntenu de couleur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17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upport matériel et contenu dans la zone 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BA3D6-F885-416D-A794-75358A211C0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– 300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illustratif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Élément fondamental LC pour les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ressources destinées à la jeunes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7.15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Enregistrer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700" spc="-1" strike="noStrike">
                <a:solidFill>
                  <a:srgbClr val="008093"/>
                </a:solidFill>
                <a:latin typeface="Arial"/>
              </a:rPr>
              <a:t>illustration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700" spc="-1" strike="noStrike">
                <a:solidFill>
                  <a:srgbClr val="008093"/>
                </a:solidFill>
                <a:latin typeface="Arial"/>
              </a:rPr>
              <a:t>illustrations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selon le ca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LC-PCC PS </a:t>
            </a:r>
            <a:r>
              <a:rPr b="0" lang="fr-CA" sz="2700" spc="-1" strike="noStrike">
                <a:solidFill>
                  <a:srgbClr val="008093"/>
                </a:solidFill>
                <a:latin typeface="Arial"/>
              </a:rPr>
              <a:t>7.15.1.3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: Généralement, ne pas appliquer l’alternative (ajout du type d’illustration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Enregistrer dans la zone MARC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008/18-21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et dans la zon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300 $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18588-6AA8-4216-8EB1-77763DE3A3C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– 300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de coule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 un élément fondamental L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300 $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572000"/>
            <a:ext cx="8305920" cy="94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Verdana"/>
              </a:rPr>
              <a:t>en couleur</a:t>
            </a:r>
            <a:r>
              <a:rPr b="0" lang="fr-CA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CA" sz="1800" spc="-1" strike="noStrike">
                <a:solidFill>
                  <a:srgbClr val="000000"/>
                </a:solidFill>
                <a:latin typeface="Verdana"/>
              </a:rPr>
              <a:t>(les illustrations sont en couleur) </a:t>
            </a: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Verdana"/>
              </a:rPr>
              <a:t>en partie en couleur </a:t>
            </a:r>
            <a:r>
              <a:rPr b="0" lang="fr-CA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CA" sz="1800" spc="-1" strike="noStrike">
                <a:solidFill>
                  <a:srgbClr val="000000"/>
                </a:solidFill>
                <a:latin typeface="Verdana"/>
              </a:rPr>
              <a:t>(10 cartes, dont certaines sont en couleur)</a:t>
            </a: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Verdana"/>
              </a:rPr>
              <a:t>principalement en couleur</a:t>
            </a:r>
            <a:r>
              <a:rPr b="0" lang="fr-CA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fr-CA" sz="1800" spc="-1" strike="noStrike">
                <a:solidFill>
                  <a:srgbClr val="000000"/>
                </a:solidFill>
                <a:latin typeface="Verdana"/>
              </a:rPr>
              <a:t>(illustrations, majoritairement en couleur)</a:t>
            </a: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BE527-26F2-4683-82C5-3ED4E0BC8B0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– 300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ngement important par rapport aux RCAA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Pas d’abrév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uleur (pas « coul. 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fac-similés (pas « fac-sim. 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illustrations (pas « ill. 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9BD14-B5DF-4122-BCEF-331FC6BA226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  <a:ea typeface="ＭＳ Ｐゴシック"/>
              </a:rPr>
              <a:t>Contenu – </a:t>
            </a:r>
            <a:br>
              <a:rPr sz="2800"/>
            </a:br>
            <a:r>
              <a:rPr b="1" i="1" lang="en-US" sz="2800" spc="-1" strike="noStrike">
                <a:solidFill>
                  <a:srgbClr val="006666"/>
                </a:solidFill>
                <a:latin typeface="Arial"/>
                <a:ea typeface="ＭＳ Ｐゴシック"/>
              </a:rPr>
              <a:t>Attributs des œuvres 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33EF3-0EDB-48E4-B99F-E6CF94B2A27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œuv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e du contenu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verture du contenu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cible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sur la thèse ou le mémoire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86E66-E220-445A-B886-10856B3F0C9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Daniel Paradis</cp:lastModifiedBy>
  <cp:lastPrinted>2010-10-18T15:40:26Z</cp:lastPrinted>
  <dcterms:modified xsi:type="dcterms:W3CDTF">2013-10-22T20:34:02Z</dcterms:modified>
  <cp:revision>252</cp:revision>
  <dc:subject/>
  <dc:title>Diapositive 1</dc:title>
</cp:coreProperties>
</file>