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EB9F9-517C-4D96-80F3-4621A16F0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8F95-141B-42AE-8E51-564FFA6F3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A542-720D-4561-8FDC-F16D41B5C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65FB-78E9-494F-9535-16C44F72D5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18B1-8302-4E06-BCDF-99E66CCED2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9FED-7223-43FE-A41F-EE6F52762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D2A2-50B1-421C-855E-FFFE4F089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FF12-A384-4D6A-B674-B241B4349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339C-CF66-456F-8CD7-6EEF7AB42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D71B-33E4-4838-9371-459C1615E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4A873-1F1D-4E05-B5D6-A0CD3191E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4D4A8-4F4A-4FE4-925B-DD2E5E7FF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F1A13D2-4831-4AA6-863A-1609D81C04E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FAA2-D0A2-4F5B-AAC9-5950F74AE3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mé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de la nota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 supplémenta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de bibliographie 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5D37-710D-4091-8DA7-A94C6291E1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45F8-9EB5-4830-AC89-196EFF2A97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471E-28D7-4C9B-AFBC-1294F420A9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C65D-D679-4890-8B4C-FB2B4D9739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97C50-2798-4D77-857A-ECBFF4EBA1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fr-CA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1ED67-3ECA-4C1D-9919-40F088D23F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6C91-E062-4E67-B510-13BB02439D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CC12-8AEE-4321-A02A-98F3054EB3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ibl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ur la thèse ou le mémo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5D038-EE54-4BC3-A9BA-0A8BBCF8CD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0-22T20:34:02Z</dcterms:modified>
  <cp:revision>252</cp:revision>
  <dc:subject/>
  <dc:title>Diapositive 1</dc:title>
</cp:coreProperties>
</file>