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8657-BC6F-48BC-9D37-BCA6B6A2D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A110-8865-4E85-B6C8-705CF4EB8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9274-0018-4EDC-BEFD-7866D353E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E386-1BDF-4183-8BDF-B1EC37CDB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37E3-0CC8-46F6-9E48-6CB4F2A739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0956-4CA6-4FFF-AE3E-ED1FC9660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28CB-3098-4F7F-B6C2-F7A4989A6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81A7-FA03-40C4-A27E-4FC51021E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7CE0-6171-4719-8211-D6AD6957B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78A0-EBDC-475E-987B-0E2DC6A71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4735-1907-4A41-BE32-F5175CB53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FA54-B04D-4578-94E8-014DB40FA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4D072F5-9FE0-4599-A3E1-D75E4E5CF0D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486A-562F-44E5-97F8-AC263C3718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C207-D292-4205-A5E5-2E08E95E08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4898-3C6F-423C-93DD-8224420682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442E-8375-474D-9AFE-C537FF9720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6417-7660-4525-97BB-A69E99ADE7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5685-B159-4285-B22A-7960D33E6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F77E-444A-4D4B-9E41-65EB7F2B7C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40FD-603C-4D66-BA76-A72F89C7C8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D1B5-F4D9-4DDD-970C-302B23C96B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46B0-8F78-4DDF-87C2-A7F0799B39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10Z</dcterms:modified>
  <cp:revision>251</cp:revision>
  <dc:subject/>
  <dc:title>Diapositive 1</dc:title>
</cp:coreProperties>
</file>