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D16CA-46FA-42E1-87BA-FB1834BEFB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F6B2E-65A3-441F-995A-2F308E17C8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8D6A5-B162-4404-B351-CACF0B08D2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8B328-79F8-4ED8-BAB8-E235206CFD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0A515-3EEF-4A35-A632-C985397746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E871B-0BA8-4355-A25A-A51D602C25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4BDDE-D92F-4807-BC1C-61A85EDA28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2D190-6B70-4658-AA76-58F8B4E5D5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75DD6-BEB5-4637-A508-F314C3ACE3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A52AE-8083-4423-90B0-57B7548A2A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83A0F-AA1A-4B1F-AB6F-81B1848304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334A6-7E74-41BF-8D12-E86C03538A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C1D81DF8-1117-46D9-89B2-7F5FF27CF4B0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ption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Contenu – </a:t>
            </a:r>
            <a:br>
              <a:rPr sz="2800"/>
            </a:b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Attributs des expressions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4AA91-7B52-41D2-943A-265E2883CB3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ésumé du contenu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e du contenu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e de la notation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1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u supplémentaire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1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s de bibliographie et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671AE-E557-42B8-9A90-3A5136A1903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ributs du contenu enregistrés dans la zone 300 du format MA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ributs des œuv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ributs d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D6740-6516-4A76-81F3-EF9A5F5D82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gnes directrices générale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Chapitr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endre l’information utilisée pour la description du contenu de l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ressource elle-mê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ans certains cas, l’information peut également être prise de sources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extérieures à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17F40-2619-4CFC-8D1B-6DA360529E8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u contenu enregistrés dans la zone 300 du format MAR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léments associés au contenu, ils se retrouvent au chapitr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es RDA (et non au chapitre 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tenu illustratif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15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tenu de couleur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17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upport matériel et contenu dans la zone 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B8CEA-F7ED-4A90-9A85-447F6B1C53B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– 30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illustratif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lément fondamental LC pour le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ressources destinées à la jeune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.15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Enregistrer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700" spc="-1" strike="noStrike">
                <a:solidFill>
                  <a:srgbClr val="008093"/>
                </a:solidFill>
                <a:latin typeface="Arial"/>
              </a:rPr>
              <a:t>illustration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700" spc="-1" strike="noStrike">
                <a:solidFill>
                  <a:srgbClr val="008093"/>
                </a:solidFill>
                <a:latin typeface="Arial"/>
              </a:rPr>
              <a:t>illustrations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selon le ca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LC-PCC PS </a:t>
            </a:r>
            <a:r>
              <a:rPr b="0" lang="fr-CA" sz="2700" spc="-1" strike="noStrike">
                <a:solidFill>
                  <a:srgbClr val="008093"/>
                </a:solidFill>
                <a:latin typeface="Arial"/>
              </a:rPr>
              <a:t>7.15.1.3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: Généralement, ne pas appliquer l’alternative (ajout du type d’illustration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Enregistrer dans la zone MARC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008/18-21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et dans la zon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00 $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7BF98-ED72-4C9A-9BCD-7BDBE075313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– 30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de coul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 un élément fondamental L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300 $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572000"/>
            <a:ext cx="8305920" cy="94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uleu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les illustrations sont en couleur) 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 partie en couleur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10 cartes, dont certaines sont en couleur)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incipalement en couleur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illustrations, majoritairement en couleur)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6358D-3558-47FD-AC82-13412414A38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– 30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ngement important par rapport aux RCAA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as d’abrév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uleur (pas « coul. 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fac-similés (pas « fac-sim. 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llustrations (pas « ill. 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B713B-34A9-4C71-ABD0-4410E98BEF8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Contenu – </a:t>
            </a:r>
            <a:br>
              <a:rPr sz="2800"/>
            </a:b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Attributs des œuvres 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C256D-1083-4963-9ADB-8B95B0D401A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œuv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e du contenu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verture du contenu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cible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sur la thèse ou le mémoire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2AC35-4C56-4E68-9E62-82A3DB4EED1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Mylène Robichaud</cp:lastModifiedBy>
  <cp:lastPrinted>2010-10-18T15:40:26Z</cp:lastPrinted>
  <dcterms:modified xsi:type="dcterms:W3CDTF">2013-04-04T12:46:10Z</dcterms:modified>
  <cp:revision>251</cp:revision>
  <dc:subject/>
  <dc:title>Diapositive 1</dc:title>
</cp:coreProperties>
</file>