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F387-6D63-43C4-A26A-2EA4094B5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4786-BEB1-4B52-A823-14A3330BE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E745-96CF-4F6F-A17C-2975EE6F3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0804-4F9B-4FC1-B74A-98D117458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E7AC-462D-4E19-9E22-40D3056EA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30D4-92ED-4B6A-AC77-62D5C5EEC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E1C2-7056-4DD0-AFA9-28DB0EDEA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5179-B4CC-4410-A1AF-F27A73363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F559-1F95-4600-B48E-782FBE066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771B-3A94-4D7F-BDE8-4B4955C91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950E-992B-4A69-AC23-F4B989CDC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DD44-6F77-44E0-A9B3-495FB8135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5EF92B6-89D2-44B2-9CC7-36FFEE8DE5E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96C2-83FA-4C33-846A-469C788C0F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E477-7613-4347-B935-C4DE9BCF8E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CCD2-1AA4-4215-B1E7-4F7D4384E6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450E-9DD8-4481-AD87-7F81F9CB48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702B-2993-4137-BB50-5FE8E796CD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82D8-F770-47C3-BF74-CEBD6AA667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141A3-8B48-44DE-B073-71C8044122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C12D2-3AA3-4592-8C9F-F5F4BDEAB4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F8664-EBA0-4EF4-B3F7-3982D48628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F832-D6BC-4A68-94A9-D4E103963E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10Z</dcterms:modified>
  <cp:revision>251</cp:revision>
  <dc:subject/>
  <dc:title>Diapositive 1</dc:title>
</cp:coreProperties>
</file>