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7A99B-9CEE-416B-A24F-1BE1B33C6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E9CE2-FF34-461E-84DE-ED2BE6FA9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580EF-539B-491F-9955-DFDCD0851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8184D-3A2A-46AF-AE14-E2EBC03119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D9365-EB96-4696-9346-8C3B3C0AF5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41481-8422-41D0-9016-317C5A241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8021B-6D2B-491C-84B1-1C36ACA85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CDD0C-DDF8-413D-8AA5-419178B18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B9440-0C97-4DE8-B285-8AD199B44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5408-9C0E-4ACB-99D7-68E6CE02E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5FC9B-8156-4DA9-9226-D372128E1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69B14-D883-49C9-8106-55D7DD36C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0FCB4A3-4CD7-4B04-8A93-8540CC83771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C7424-EAFD-4BA0-A615-9B9C38B0A5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sumé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 de la nota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u supplémenta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de bibliographie et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99D39-F2D7-4EEB-9482-39AA538DF4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C84DF-9241-413A-949E-B2337B4DE9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F5FAC-A136-4061-B93D-7295A8E59D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FD907-4F5E-4221-B284-68A6E9ACE0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38878-D37C-4ADB-BFB8-D0D094DC01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en couleur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fr-CA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2790D-0E87-465C-AAB8-A611EDCAD5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D61C8-395B-4959-B159-47894143D7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95FD7-B2B6-43A3-A2E7-816D2C167D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ibl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ur la thèse ou le mémo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7E12F-656F-423A-ADE3-C727C326E7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Daniel Paradis</cp:lastModifiedBy>
  <cp:lastPrinted>2010-10-18T15:40:26Z</cp:lastPrinted>
  <dcterms:modified xsi:type="dcterms:W3CDTF">2013-10-22T20:34:02Z</dcterms:modified>
  <cp:revision>252</cp:revision>
  <dc:subject/>
  <dc:title>Diapositive 1</dc:title>
</cp:coreProperties>
</file>