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EA7A-0397-43A1-BADF-5352F6B9E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454A-BA67-4C17-BC41-E0D4A160F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AC37-2267-4E4B-86FB-FB51507F9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AE23-4BE5-4888-81AB-A002E6067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6276-80CC-4EBB-B235-4E5D92BCD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5358-53DF-4C15-BE79-44F414E60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2804-6717-43FD-8176-EBBB33A3A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BCD1-6EBA-4426-8AEC-8840EE658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A66B-BED6-40B3-A510-8B822FD1E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E51E-3305-481E-9980-9D9B23053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C983-ACDF-42EB-9D7E-13FBBA63E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7851-E085-4231-8B5A-2F22E329C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7F49DAA-0AD1-4947-AA4D-E6B57969B68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2DEC-7DDF-4268-84A9-3EB9D859C1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B454-8C25-4650-95E4-D3855762B5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5470-E443-42F7-B91F-3D78293ACC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FF2D-DB72-4FF5-8369-E31B970AFE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9E57-B2C6-4663-A6FB-70BB45F6FE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C467-743C-47CF-BA2F-4DB58641FB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fr-CA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C393-9C67-40E8-A2DE-6634645A3F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33E4-870D-406E-9356-9C162CD139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733B-D57A-4F03-9599-AD432838BA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9663-82D5-4B31-A249-008497EA41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2T20:34:02Z</dcterms:modified>
  <cp:revision>252</cp:revision>
  <dc:subject/>
  <dc:title>Diapositive 1</dc:title>
</cp:coreProperties>
</file>