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857A-4E90-40AA-A42D-907F6180F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B097-7CB0-418E-8F0A-54E14B64A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CDDA-57E0-4449-8EA2-5E842EFD8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E1FB-C28F-4B35-8FB1-5C6B654D07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03EE-9282-4696-B4B3-97E116B72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FB4D-5233-4BA6-8643-7CEB17068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4665-CCB6-4DE4-9C9E-351F32AC5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24AC-019A-47BD-91E8-ABC979BE9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3767-BA98-41E7-81CB-DCA1CAD0C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C683-64BA-408C-9C27-59710E371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4DCA-5020-443D-91E0-61AA1CDE1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4FA2-7EB3-4F47-AA76-466F4FB41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738206C-6FD3-47BE-A4EF-A2FBFEF2983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AC07-4826-4F9F-8D14-ECE9091DCA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5AB6-D575-47B7-96C4-0E9D20E8A0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DB9E-1C20-4CE6-9636-B46D4F7AFA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0A42-1943-441A-93BE-588D963327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93C6-6855-4812-B95C-9AC4B32427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37F1-8E58-45C8-BE0F-0CF2114658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075E-32B2-452B-8712-27667F584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AC00-A69E-4D5A-B839-E0BF743FE6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D19E-2622-4DAE-A07A-59DAEFBCEE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E5B3-26E7-4A46-AAD5-B1746E1CD4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10Z</dcterms:modified>
  <cp:revision>251</cp:revision>
  <dc:subject/>
  <dc:title>Diapositive 1</dc:title>
</cp:coreProperties>
</file>