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2E1FD-CC76-4E75-880A-41AA5013D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47F27-08DA-439C-A6B8-AAC1E36B2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4F146-1403-4172-8FFA-6D1B202C3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0574E-6B49-4D7E-9804-3D0B5F9441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8D6A8-0ABD-4477-866C-7521B24091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C8322-E2ED-4049-BF15-EAAD8218A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C5A23-0B7F-484E-98C9-385A3CF82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6C5B5-E3E9-4EBC-840E-244328144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C3E43-4A60-45F4-AED5-1871D5508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D11E6-F94A-40DB-9748-12E2B1903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8341-7B6F-46B6-BD9A-E41EFF0B8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ECB2C-CEE5-4339-BB22-7572EF765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DB0DED3-9276-4A28-AC2B-D4B87B4B553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11133-F4E3-4E72-BEA5-256D1142BC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8A7A-4D7B-4ABA-ACC1-B34CF7340C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315CA-2381-4F1F-BD2D-EBCA9608A6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ivre avec un accompagnement (CD de conférence) : </a:t>
            </a:r>
            <a:r>
              <a:rPr b="0" lang="fr-CA" sz="20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Note :  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FA0B7-DD2B-4FBB-9D5F-9760A524AB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C702E-70E5-4019-B3EE-C46CB4E64D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5543C-9CAE-485C-8F35-B978997A0D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49A7E-D875-45F7-83B9-ACADBEB1E0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44800-3B9B-4C4D-8BBC-F24D9DD694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en-US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00A32-0D18-4750-A4A2-FD07ECBB2E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8741E-9779-44ED-BC10-3321283BC5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69D63-5A5D-405E-A2C9-96A550AD3B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DF en lig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CF5D7-6B2E-40F0-8557-5122A79EA6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F8068-2EF8-4876-A335-DEC69CF2C8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1T18:54:56Z</dcterms:modified>
  <cp:revision>253</cp:revision>
  <dc:subject/>
  <dc:title>Diapositive 1</dc:title>
</cp:coreProperties>
</file>