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8A47-5E84-4145-BB9C-7025E1373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F38B-6909-4C85-A05D-EF5353420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EC73-63E1-4E9A-81B3-B03CF905A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E960-E329-4B6E-AC29-81D708703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EB02-433B-4A6E-8409-9C0F85663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7991-4704-4919-A2F3-314092465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8253-C9AE-4D64-92EE-98BAA6734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F5F2-7183-42B0-8F4B-66F09E018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0D13-EDB3-4FB5-8635-FDE91B341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5BFD-17C6-4B89-AA8A-C428EF6EC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7DCF-EA1B-4D5B-8C0F-0C5A7E9B6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2348-2B99-4DC2-A09A-358678809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3A2F793-1586-4F77-8078-4A360DAF1ED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2454-2ECC-4735-8127-19EBFDB5A1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33C3-F3C3-4B2D-8015-F185724155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AC35-6CE2-4C1E-9DF4-444F243422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2DCE-458C-4B99-8428-3D6E5294BA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354C-F005-49C6-8115-B7CD06DECB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CCAD-3FB8-4C2E-9136-8E2F41BA8F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F567-DC16-4995-8716-460AEC7A2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D98A-2DC5-47F6-9174-5317AEDC58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8792-7F81-48EA-9D0D-52D86BDF22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E644-9434-4F71-B514-B56D146C0C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F01F-8E89-479A-B513-73F945BEC7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F714-AD3A-4BBF-AB0B-81F57BD0F0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47B8-1C1D-4149-8E41-C871F0E075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4:56Z</dcterms:modified>
  <cp:revision>253</cp:revision>
  <dc:subject/>
  <dc:title>Diapositive 1</dc:title>
</cp:coreProperties>
</file>