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E1FEF-77A4-41F2-825F-58CB6E3FC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3F7E3-1DFC-4CD3-80B8-B0764BE79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C9ABA-2B06-43E9-B96B-3199299C6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F5068-6886-494C-88E6-14DA12AEBD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B1490-DBB5-48CF-8CD7-C6CA960BEA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70AC7-2E04-4769-9F40-4CD183EB67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D28C5-EB89-4FFD-AEC9-FC7DCD873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DEAC1-8D90-49DC-BFC2-60C499CE2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8F919-6B63-4D36-A343-09CA4358F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42BAA-0C07-4D0A-BC53-99371E4B61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42B96-3ADE-4D78-A4A6-56092F73A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BAD96-4D25-462B-98EF-52D1FD934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3BA7E70-08BB-4892-BCC6-032F6242B3D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s de RCAA2 reliés à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utiliser d’abréviat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par exemple, « pages », « volumes », pas « p. », « v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envir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env. ») et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’est-à-d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i.e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n numéro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, plutôt que des crochets autour des chif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ention aux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ngements de vocabula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par exemple: « disque informatique » est utilisé pour « disque d’ordinateur » et « disque optique d’ordinate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B48F3-978F-4EAC-8384-29DC866796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LC pour les ressources autres que les publications en série et les ressources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esures du ou des supports matériels et/ou du conteneur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ondies au centimèt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cm » et « mm » sont des symboles, pas des abré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ser le point ISBD après le symbo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seul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 une zone 490 apparaît dans la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00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41D9C-9E9C-45F7-A03E-78E4190837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iv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00 $a 123 pages, 28 pages n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numér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txt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c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</a:rPr>
              <a:t>Note : $b est op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E44C0-4599-4D30-81F8-9529B6B25C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ivre avec un accompagnement (CD de conférence) : </a:t>
            </a:r>
            <a:r>
              <a:rPr b="0" lang="fr-CA" sz="2000" spc="-1" strike="noStrike">
                <a:solidFill>
                  <a:srgbClr val="ff0000"/>
                </a:solidFill>
                <a:latin typeface="Arial"/>
              </a:rPr>
              <a:t>$3 et $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00 $a 244 pages ...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+ $e 1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text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parole énoncé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sans médiation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volum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disque 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0000"/>
                </a:solidFill>
                <a:latin typeface="Arial"/>
              </a:rPr>
              <a:t>Note :  L’utilisation du $3 est optionnelle dans cet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</a:t>
            </a:r>
            <a:r>
              <a:rPr b="1" lang="fr-CA" sz="2000" spc="-1" strike="noStrike" u="sng">
                <a:solidFill>
                  <a:srgbClr val="ff0000"/>
                </a:solidFill>
                <a:uFillTx/>
                <a:latin typeface="Arial"/>
              </a:rPr>
              <a:t>répéter</a:t>
            </a: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 la </a:t>
            </a: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zone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244 pag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1 C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donner une </a:t>
            </a:r>
            <a:r>
              <a:rPr b="1" lang="fr-CA" sz="20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500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a Accompagné d’un CD publié pa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318D3-FA53-44E8-ACA8-82010FECFE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éléments des manifestations et d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93"/>
                </a:solidFill>
                <a:latin typeface="Arial"/>
              </a:rPr>
              <a:t>Information relative à l’acquisition et à l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alités d’acquisition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onnées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d’accès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d’usag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sse URL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44D7C-17B8-4BF9-8F4E-73A3983961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s éléments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79F50-9F8D-4442-B994-A219FA406D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ne discutera pas des éléments spécifiques pour les ressources de formats spéciaux (films, cartes, partitio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es disponibles dans RDA, dans la documentation MARC et dans la compilation d’exemples de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D3923-13B2-4DA2-BF4D-5DEB305EF5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placement de l’IGGD - 245 $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is nouvelles zones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6.9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é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3.2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upport matéri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3.3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B685C-1980-494E-88E1-B6366D101C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 …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 lequel il doit être perç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contenu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4120" y="554184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 :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</a:t>
            </a:r>
            <a:r>
              <a:rPr b="1" i="1" lang="en-US" sz="2400" spc="-1" strike="noStrike">
                <a:solidFill>
                  <a:srgbClr val="008093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musique exécuté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image fix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text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1B687-7497-4C58-B95E-E89B89A3CB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ype général de dispositif de mé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s pour visionner, faire fonctionner, faire défiler, etc., le contenu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média qui s’applique à la partie prédominante ou aux parties les plus considérables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4120" y="5483160"/>
            <a:ext cx="7912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audio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informatiqu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microforme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sans médi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43707-09CD-413B-A575-FCB9E1CA6C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support de stockage et d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’un support matériel combiné avec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ype de disposit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 mé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s 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listés à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support matériel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960" y="5675400"/>
            <a:ext cx="85280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disque audio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disque informatique</a:t>
            </a:r>
            <a:br>
              <a:rPr sz="2200"/>
            </a:b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microfiche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volume - vidéodisqu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CFE4D-FEAC-4BE5-83AF-B2D4C4D97E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ones MARC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v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DF en lign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92C53-7BA6-4888-84B1-857127D35B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 fondamental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ressource est complète ou si l’importance matérielle totale est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Le nombre et le type d’unités et/ou de sous-unités formant une ressourc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Un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mposant physique ou logique d’une ressource (par exemple, 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ous-un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ubdivision physique ou logique d’une unité (par exemple, une page d’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F5665-7F37-46FD-823C-29E616572F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4-11T18:54:56Z</dcterms:modified>
  <cp:revision>253</cp:revision>
  <dc:subject/>
  <dc:title>Diapositive 1</dc:title>
</cp:coreProperties>
</file>