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0BC6-DF2C-41C2-BFE2-25754CED7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6A6C3-734B-4713-80C8-2EE5EC2CC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43AB-528F-4172-B874-6BAA365F8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9560-FBAC-47A2-A1E4-670584C9F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871D-2775-4702-A268-2C3ABA10A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1826-E2F2-475C-B84A-C1D52C4A8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3EC4-A000-4B9D-9BB3-61EECBF47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4804-39AB-43BF-959B-67F8072C0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6E51-B229-4BB7-8757-5076CE11F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E6D1-665A-4CD8-8BC9-A4D6BFEBC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D54E-EAB6-48A0-9DE1-7204D575C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2D21-D969-4EFB-B7DC-5FBF803E9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10ABF68-D2DF-4559-BB13-1964DD8635A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DA0C-B887-423A-A8B5-E59F8C6E34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A80C-8D42-47C1-BEB8-00EF83766F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060B-BA79-49C9-BDB8-FD5CFCA4E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87F7-D1C8-4C6C-8AC5-D0451D6A9F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DB6B-E88B-4E45-88F2-9B92B518D0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7070-095B-4D7B-A0F5-53B353DF87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E050-C957-4D71-9567-B4D726151A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8D18-5F5A-49B4-990F-2CC7FF296C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8280-2B55-417A-B2E1-B67BECDFAD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31DF-E4FB-42B3-B9C5-0B9EFA2A63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4793-7C4B-4525-A559-E73AA533B4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E70E-7B16-435A-8728-B05787FC5C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7A53-2660-41E3-ACD9-C144DA796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4:56Z</dcterms:modified>
  <cp:revision>253</cp:revision>
  <dc:subject/>
  <dc:title>Diapositive 1</dc:title>
</cp:coreProperties>
</file>