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5F56-5869-49EC-9553-5904C065D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D468-7B41-45D6-AAAC-C73F57582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CCA8-A46F-464C-8671-D5C17D6C9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4325-F59C-4449-9A17-7295221406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F190-0CDF-4254-9FE5-F9BCB37A93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F546-4DEF-4920-9C4C-6D168D01C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FE447-694B-4036-AA80-06636D444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F7DA-654A-47A2-AD7D-8D16B3208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4E7C-2F8F-4931-A314-4EF0C60E7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24C6-7D63-4A52-829D-F2A029C91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9007-31FF-4DB6-82B6-25770FAFC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150D5-59BA-42FE-A0F5-52E354533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5E58C26-7A29-4C70-9042-9B6EFE065F3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C82F-3B13-409E-B2CA-119B6FF66D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DF82-A65F-49C9-BD1D-B20E951616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E46BB-1F85-44E2-9408-DB4F120E11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69A5-0F75-4ECB-9AEB-44557F000E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EE37-2D89-4C05-A2DD-997123D19C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3333-714B-4DAE-BD94-EBD0A7F400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3EA6-A148-4C2D-8BB8-80DF1B4ADA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63335-B62A-4061-BF01-286CFEB856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E16C1-3DEC-40D2-950F-AB53014F44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D408-2040-40D7-8999-23B5FBAA84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79FE-CD54-480E-8D67-5A27E5791B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E23B-301A-439F-A839-D0F021D98B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86BC-7F45-4EE8-BA41-C3FBCB713D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5:08Z</dcterms:modified>
  <cp:revision>253</cp:revision>
  <dc:subject/>
  <dc:title>Diapositive 1</dc:title>
</cp:coreProperties>
</file>