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11A6-B373-4507-A09D-FBFF1D59C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DD0D-D84E-4D86-BC9F-0C3DE4F0E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A80F-BB7D-4173-A9B3-BA8304032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CEE1-0115-471D-B737-507B983FA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F4BC-69B3-4F65-82E5-CC68BF159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C9DA-B235-4EC0-906A-80A88D28A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1AE4-89AF-4941-B3C9-657BDE976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EF4C-2AB6-442F-90EB-5DB9231E9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BBE9-CC07-4175-B1BE-75D157799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2B1F-AEFC-431B-9A4A-8A481934E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0872-D924-470F-9EA9-1DE003B77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76DB-0CE5-485D-8A00-228098E95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3FFEB07-556D-47B4-AF83-F0445EB0585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8A14-E3B9-4FBB-8F6B-20503A55E2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A464-8361-4082-BB4F-A583E1C8BC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37BA-88C7-411F-9875-15534FAE66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4CBF-1340-48D2-93BE-CA93674226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A188-760C-4B44-9791-180A52336C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E37D-968D-44EB-AA7A-1DF2ADD8C5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885D-8899-4F9F-B77F-890A47308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D6F7-4872-4B77-B2D0-3DAFEE00D1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6974-E2D3-4261-86C8-F79BE1C9DC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B256-FE07-429B-8FA7-00E7ABA93F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0505-51BF-4E89-BC54-133DB42FF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BF09-8551-4FB3-8A33-C4853D2082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59CB-6B2B-48F3-B5BE-32EBF6DC36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5:08Z</dcterms:modified>
  <cp:revision>253</cp:revision>
  <dc:subject/>
  <dc:title>Diapositive 1</dc:title>
</cp:coreProperties>
</file>