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AFC23-D7C3-40FE-B8AF-855761CAF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CEE8-1534-482E-B09C-FE8F93B98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3FA3C-0B5C-419B-8993-DD6D85C2A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9C28-D04E-41FA-9C75-9F7FAE9855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641B-AF44-420A-998D-5B8B42C25E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E218A-39C6-421B-940F-0EA8F8E37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8B9E-5067-4F16-B8A4-1A7736181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54040-8355-4A80-AA80-C73AE8C84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C153A-4B56-4C0F-BBCE-44F74846C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BA0ED-C0DB-4591-88B7-025E84036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89232-BCBC-402F-BE37-59F9A05F8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340BC-70FC-497E-99E3-C60DCD302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0D53327-3044-41BE-A23F-1D8D8796F5B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5F64B-C5BC-44C1-BA01-328B249381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FDDE9-A347-46D6-AA04-858DED1838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7D5F5-1786-4A63-A57E-94423B4CD9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ivre avec un accompagnement (CD de conférence) : </a:t>
            </a:r>
            <a:r>
              <a:rPr b="0" lang="fr-CA" sz="20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Note :  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6A7F5-A52B-44E8-B3F4-43CF467F60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21BC4-42C6-4C3F-B244-1EF11FD69C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D269E-4F01-4479-850A-ABE014AF9F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EA5B0-73F7-4734-8A4C-7C0E74E431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960D8-5BED-46B8-BF0A-F302C79976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en-US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508B-FAAB-4A73-A5B7-CE15D3E45C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4DA54-00EC-43B6-91C9-11C8BE1A54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9D85-E1DA-4560-842D-B6FA03C3A0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DF en lig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B5DEB-CDDC-4F66-BE46-2C9ED4976C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87E2E-DE36-46B2-984D-AA0DA94A72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1T18:55:08Z</dcterms:modified>
  <cp:revision>253</cp:revision>
  <dc:subject/>
  <dc:title>Diapositive 1</dc:title>
</cp:coreProperties>
</file>