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9EBB-154F-48D1-AA63-F81B4B339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FBD1C-6C4B-4FF1-9E28-FB445CE37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242FC-1BBB-4534-B38C-EA5D7C6D6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0B0D-8624-42E2-96B4-020E6CB804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E882-EA02-42CC-9DCE-638B3D8641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DDE2-0EBC-4A4E-B88E-4092A5F5F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DB759-46B6-4B33-8A6C-ED1B3538F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80B19-E6D9-4408-A922-963D261C2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D12D-6FB2-4414-A961-52F1ABE34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9056A-97BF-4DEC-AE39-F21485E71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63138-02C8-468B-AC15-34D845794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3A32-9029-4EC1-B0E6-A3E20224A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EE586AC-08CF-4DDA-958F-5CB485BFAB1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BADCA-6D10-44B0-991E-9F28B8562D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EE4B-B752-41B9-B11E-B71DDB9C17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1F705-612C-47C5-BFE7-C07CC4B877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ivre avec un accompagnement (CD de conférence) : </a:t>
            </a:r>
            <a:r>
              <a:rPr b="0" lang="fr-CA" sz="20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Note :  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B1EB9-0926-49D1-BD27-991813F460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4FB2D-D2C7-4F33-8C44-C61844CA20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2F95-BEAE-4BDA-B370-EB91B5907F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212F-4870-42D1-9530-4F95A010AB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81EC6-CF46-43D8-82F3-8015D07660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en-US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BA368-E7EA-4025-AEAF-10E1F05526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7F9CD-58A6-4CEB-9549-CAF19B830F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F5281-36FF-4956-9649-3B0CA710CB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DF en lig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37A0-23E3-4D0E-99AE-1425B8F019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314EE-E933-42C2-8C8A-BB774A52B2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1T18:55:08Z</dcterms:modified>
  <cp:revision>253</cp:revision>
  <dc:subject/>
  <dc:title>Diapositive 1</dc:title>
</cp:coreProperties>
</file>