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DDD39-F7B0-44C1-8D9B-79B001B8D9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7B2A2-E395-46C4-9E1D-5A70FB8D3C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7993C-D297-4DAA-B883-5484C7BFB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28642-1D66-4E19-A543-5E56D9CD6C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C23F5-2DF5-4C0B-B831-BDA74D821A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AF73E-26B2-4827-AB4D-84B324EA1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FAC97-A635-4728-8BF6-6276E439F1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1A8C3-5773-46CF-BBF4-99CE29531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54140-9041-41B1-9687-4DA7D9111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16EB4-A030-4758-84BF-1F0167B027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D2B17-6D1C-4BB8-A471-F669130F4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33B0E-56CC-4D0E-83C4-05D88F9419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8666305-6031-4A0F-9BF8-D0172A89DCA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s de RCAA2 reliés à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utiliser d’abréviat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par exemple, « pages », « volumes », pas « p. », « v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envir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env. ») et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’est-à-d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i.e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n numéro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, plutôt que des crochets autour des chif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ention aux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ngements de vocabula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par exemple: « disque informatique » est utilisé pour « disque d’ordinateur » et « disque optique d’ordinate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5DFB1-8A75-481B-A832-936257498E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LC pour les ressources autres que les publications en série et les ressources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esures du ou des supports matériels et/ou du conteneur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ondies au centimèt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cm » et « mm » sont des symboles, pas des abré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ser le point ISBD après le symbo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seul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 une zone 490 apparaît dans la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00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629FF-59DE-4513-B9DD-D156F75EEA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iv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00 $a 123 pages, 28 pages n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numér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txt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c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</a:rPr>
              <a:t>Note : $b est op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593E2-71A5-47ED-A478-51479BCF18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ivre avec un accompagnement (CD de conférence) : </a:t>
            </a:r>
            <a:r>
              <a:rPr b="0" lang="fr-CA" sz="2000" spc="-1" strike="noStrike">
                <a:solidFill>
                  <a:srgbClr val="ff0000"/>
                </a:solidFill>
                <a:latin typeface="Arial"/>
              </a:rPr>
              <a:t>$3 et $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00 $a 244 pages ...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+ $e 1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text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parole énoncé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sans médiation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volum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disque 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0000"/>
                </a:solidFill>
                <a:latin typeface="Arial"/>
              </a:rPr>
              <a:t>Note :  L’utilisation du $3 est optionnelle dans cet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</a:t>
            </a:r>
            <a:r>
              <a:rPr b="1" lang="fr-CA" sz="2000" spc="-1" strike="noStrike" u="sng">
                <a:solidFill>
                  <a:srgbClr val="ff0000"/>
                </a:solidFill>
                <a:uFillTx/>
                <a:latin typeface="Arial"/>
              </a:rPr>
              <a:t>répéter</a:t>
            </a: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 la </a:t>
            </a: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zone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244 pag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1 C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donner une </a:t>
            </a:r>
            <a:r>
              <a:rPr b="1" lang="fr-CA" sz="20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500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a Accompagné d’un CD publié pa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A7CB2-9E3B-4F07-876A-B1F6716E4F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éléments des manifestations et d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93"/>
                </a:solidFill>
                <a:latin typeface="Arial"/>
              </a:rPr>
              <a:t>Information relative à l’acquisition et à l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alités d’acquisition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onnées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d’accès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d’usag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sse URL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ECAE1-8B8B-4504-841F-B5A9FB962C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s éléments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B1D67-DB10-4A21-AFC7-CE87AA7006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ne discutera pas des éléments spécifiques pour les ressources de formats spéciaux (films, cartes, partitio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es disponibles dans RDA, dans la documentation MARC et dans la compilation d’exemples de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644EE-1E2F-4DB6-92E8-43693CFF5F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placement de l’IGGD - 245 $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is nouvelles zones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6.9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é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3.2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upport matéri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3.3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07F8D-2FC4-4F72-9F4B-2FF192274B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 …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 lequel il doit être perç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contenu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4120" y="554184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 :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</a:t>
            </a:r>
            <a:r>
              <a:rPr b="1" i="1" lang="en-US" sz="2400" spc="-1" strike="noStrike">
                <a:solidFill>
                  <a:srgbClr val="008093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musique exécuté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image fix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text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CA051-69FD-44C0-ABCD-65C137C971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ype général de dispositif de mé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s pour visionner, faire fonctionner, faire défiler, etc., le contenu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média qui s’applique à la partie prédominante ou aux parties les plus considérables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4120" y="5483160"/>
            <a:ext cx="7912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audio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informatiqu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microforme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sans médi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122E2-6DC4-40B2-BF4B-0B6791EB23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support de stockage et d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’un support matériel combiné avec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ype de disposit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 mé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s 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listés à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support matériel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960" y="5675400"/>
            <a:ext cx="85280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disque audio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disque informatique</a:t>
            </a:r>
            <a:br>
              <a:rPr sz="2200"/>
            </a:b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microfiche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volume - vidéodisqu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4EFEB-8A4D-4581-A398-9FB8B8C3DE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ones MARC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v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DF en lign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8A8F3-989D-44B1-86D4-C213680075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 fondamental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ressource est complète ou si l’importance matérielle totale est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Le nombre et le type d’unités et/ou de sous-unités formant une ressourc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Un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mposant physique ou logique d’une ressource (par exemple, 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ous-un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ubdivision physique ou logique d’une unité (par exemple, une page d’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B6E3B-E07E-4C8E-A56A-6EEA8E2152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4-11T18:54:56Z</dcterms:modified>
  <cp:revision>253</cp:revision>
  <dc:subject/>
  <dc:title>Diapositive 1</dc:title>
</cp:coreProperties>
</file>