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7491D-861B-4074-AFA8-3976E9AFCB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5C49F-F906-4177-AFA1-E39995B539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DBF08-437E-48A5-BB5F-1DEC8A441E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C5BC4-1FA7-40E1-AF29-A0CED0B650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6BE21-A765-4EC2-9DE2-2A5ABAE3DF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5C7CE-A76A-42A3-B28A-85BD2A5376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0EE19-90BB-4128-81CC-AF3907E920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991AA-EF7F-48A8-8BE7-37E9614512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0A239-CBC9-4C0A-81BF-50F7B2C908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87BD3-709A-4C97-B86A-1398687A3A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63563-75D2-4B83-B39B-3B2D5908A3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185F3-9950-4BEF-84CD-81E3BB15B9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E5A6C5B-10A8-4736-A9AA-A710ED2545D8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ments de RCAA2 reliés à l’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e pas utiliser d’abréviation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par exemple, « pages », « volumes », pas « p. », « v.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tiliser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enviro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 (plutôt que « env. ») et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’est-à-di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 (plutôt que « i.e.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tiliser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on numérot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, plutôt que des crochets autour des chiff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ention aux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hangements de vocabulai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par exemple: « disque informatique » est utilisé pour « disque d’ordinateur » et « disque optique d’ordinateur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9BE08-DA44-43DE-9C1F-212AA7C8C5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LC pour les ressources autres que les publications en série et les ressources en lig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Mesures du ou des supports matériels et/ou du conteneur d’une ressour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ondies au centimètre supéri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cm » et « mm » sont des symboles, pas des abrév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ser le point ISBD après le symbole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seul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 une zone 490 apparaît dans la no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00 $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95210-7DFE-439A-A6A2-07150728EC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3760" y="16002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ivr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00 $a 123 pages, 28 pages no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numérot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6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texte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txt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7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sans médiation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8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volume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nc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Arial"/>
              </a:rPr>
              <a:t>Note : $b est op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ABF31-364C-424F-9E6F-22182BF878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Livre avec un accompagnement (CD de conférence) : </a:t>
            </a:r>
            <a:r>
              <a:rPr b="0" lang="fr-CA" sz="2000" spc="-1" strike="noStrike">
                <a:solidFill>
                  <a:srgbClr val="ff0000"/>
                </a:solidFill>
                <a:latin typeface="Arial"/>
              </a:rPr>
              <a:t>$3 et $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00 $a 244 pages ...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+ $e 1 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6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text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6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parole énoncé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7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sans médiation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7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audio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8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volum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8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disque audio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arr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0000"/>
                </a:solidFill>
                <a:latin typeface="Arial"/>
              </a:rPr>
              <a:t>Note :  L’utilisation du $3 est optionnelle dans cet exe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Au lieu de $e, peut </a:t>
            </a:r>
            <a:r>
              <a:rPr b="1" lang="fr-CA" sz="2000" spc="-1" strike="noStrike" u="sng">
                <a:solidFill>
                  <a:srgbClr val="ff0000"/>
                </a:solidFill>
                <a:uFillTx/>
                <a:latin typeface="Arial"/>
              </a:rPr>
              <a:t>répéter</a:t>
            </a: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 la </a:t>
            </a: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zone 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$a 244 pages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$a 1 CD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Au lieu de $e, peut donner une </a:t>
            </a:r>
            <a:r>
              <a:rPr b="1" lang="fr-CA" sz="2000" spc="-1" strike="noStrike" u="sng">
                <a:solidFill>
                  <a:srgbClr val="ff0000"/>
                </a:solidFill>
                <a:uFillTx/>
                <a:latin typeface="Arial"/>
              </a:rPr>
              <a:t>n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500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a Accompagné d’un CD publié par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FBE43-1876-4A1A-9A3B-34125B925F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tres éléments des manifestations et des i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93"/>
                </a:solidFill>
                <a:latin typeface="Arial"/>
              </a:rPr>
              <a:t>Information relative à l’acquisition et à l’accè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alités d’acquisition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onnées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ions d’accès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ions d’usage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resse URL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6B9B2-F862-4269-9996-D8666EEDEB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escription des supports matéri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utres éléments des manifestations et de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EA398-78C6-455F-9EF6-05A2A98586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it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ne discutera pas des éléments spécifiques pour les ressources de formats spéciaux (films, cartes, partition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es disponibles dans RDA, dans la documentation MARC et dans la compilation d’exemples de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7D939-34E1-42D1-B761-32184581B3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mplacement de l’IGGD - 245 $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is nouvelles zones M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onten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 RDA 6.9 --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méd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 RDA 3.2 --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upport matéri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 RDA 3.3 --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1919D-D382-4C2B-BA37-7195EFA74A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pe de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6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 … l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forme fondamentale de commun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us laquelle le contenu est exprimé et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ens hu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 lequel il doit être perçu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es du tableau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contenu qui s’applique à la partie prédominante ou aux parties les plus considérabl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4120" y="5541840"/>
            <a:ext cx="7912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Exemples :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</a:t>
            </a:r>
            <a:r>
              <a:rPr b="1" i="1" lang="en-US" sz="2400" spc="-1" strike="noStrike">
                <a:solidFill>
                  <a:srgbClr val="008093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musique exécutée</a:t>
            </a:r>
            <a:br>
              <a:rPr sz="2400"/>
            </a:b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image fixe</a:t>
            </a:r>
            <a:br>
              <a:rPr sz="2400"/>
            </a:b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text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BCF18-D308-4FB8-83DD-210F6ADAD8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pe de méd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L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…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ype général de dispositif de méd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is pour visionner, faire fonctionner, faire défiler, etc., le contenu d’une ressour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es du tableau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média qui s’applique à la partie prédominante ou aux parties les plus considérables de la ressou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4120" y="5483160"/>
            <a:ext cx="7912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4659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Exemples: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audio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informatique</a:t>
            </a:r>
            <a:br>
              <a:rPr sz="2400"/>
            </a:b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microforme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sans médiatio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31114-DC0C-43A0-BAC3-8B4D8209DA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pe de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…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form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 support de stockage et du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onten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’un support matériel combiné avec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ype de disposit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de méd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is …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es listés à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3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support matériel qui s’applique à la partie prédominante ou aux parties les plus considérabl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5960" y="5675400"/>
            <a:ext cx="852804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Exemples: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- disque audio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- disque informatique</a:t>
            </a:r>
            <a:br>
              <a:rPr sz="2200"/>
            </a:b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- microfiche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- volume - vidéodisque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B98BD-2FF9-423D-99DA-FD17606F88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ones MARC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ivr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sans médiation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olume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DF en lign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informatiqu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essource en lign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EB2E1-08E0-469E-9068-2545E1D605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ément fondamental 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la ressource est complète ou si l’importance matérielle totale est con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3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 Le nombre et le type d’unités et/ou de sous-unités formant une ressourc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Unit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composant physique ou logique d’une ressource (par exemple, un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ous-unit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subdivision physique ou logique d’une unité (par exemple, une page d’un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300 $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13DB9-E9B0-4704-9E44-88BF91C4A4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Pat Riva</cp:lastModifiedBy>
  <cp:lastPrinted>2010-10-18T15:40:26Z</cp:lastPrinted>
  <dcterms:modified xsi:type="dcterms:W3CDTF">2013-04-11T18:55:08Z</dcterms:modified>
  <cp:revision>253</cp:revision>
  <dc:subject/>
  <dc:title>Diapositive 1</dc:title>
</cp:coreProperties>
</file>