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5B64D-5086-4FC9-A410-66EBB19B8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86171-6F5F-4C82-88DF-AFD23E783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26196-246B-490D-8627-4A9D6657F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49C1-2843-49A8-9F4D-15A9EFA124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49629-CF63-4130-B726-2A90E979CA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BD56F-DC81-4302-8550-3BA0009E2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BEA1A-234A-417B-BAB5-8E5B60B31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9731-5693-4A91-A355-AAFCDF50C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E77F0-3458-4ADA-9BB8-9A8EA6488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30CAA-C6B0-4D44-AE4B-9DED353D4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968A2-EB2B-4090-904F-BBDD2CC31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91052-6B71-4082-ABF2-1B86B98AC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D2BFD26-9217-44CC-94CD-4281B73F48C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336D5-EBD4-4318-BB3C-071FB78D37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C6B1D-A56A-4027-8510-AFD6E2C4F4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AB604-363D-426F-BACA-FD69B6B274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ivre avec un accompagnement (CD de conférence) : </a:t>
            </a:r>
            <a:r>
              <a:rPr b="0" lang="fr-CA" sz="20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Note :  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30CD0-DF09-4408-98B0-F6AA890A2F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CC5FD-9611-4C5F-BE98-3B984F83A3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FEB9F-C01C-4A94-AE63-BFD1875180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6281B-EF2F-4C76-B469-048A553570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2326D-4575-4A4F-BAC8-A7EA9A6097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en-US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83E7-C92D-4759-85D3-5C34D2A80C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BA7BF-C1D9-43E0-9F01-2671452D6F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06906-CCE5-40B8-A0EA-04C8116003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DF en lig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541DE-948C-4489-954D-78BC8EC4B9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59220-F39A-48F0-BAB2-5159B5A01F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1T18:55:08Z</dcterms:modified>
  <cp:revision>253</cp:revision>
  <dc:subject/>
  <dc:title>Diapositive 1</dc:title>
</cp:coreProperties>
</file>