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Quiz - Identification des manifestations et des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35873C0-D3F4-4C6A-A96C-C6529EA991ED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Quiz - Identification des manifestations et des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99C511B-2CD5-4588-8280-507ABEAF527E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8AA1-B5F5-4B75-A86C-4D4B2C10C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BBB8-F421-4D78-9BE9-CA92FBD3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0E8D-35FD-4F5E-924B-2A8919518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1B15-0970-4481-AAE2-FD961AF02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357A-411B-4C1B-8B26-107A8466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1835-2B66-4438-B333-2FDCD951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8A1E-934B-494A-9E91-4919AAAC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CA1E-00AC-4A45-A959-5A9640F2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F70F-4901-4883-9DF4-B350E02D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329E-0663-4A52-A015-14721D6F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6916-B4A5-4A9B-85A0-17648DF1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4438-6766-43A7-B324-35CAD832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3B9E-A0AE-4FFA-BEF7-8EDD0DEE6E30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539640" y="2205000"/>
            <a:ext cx="79218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Arial"/>
              </a:rPr>
              <a:t>Quiz</a:t>
            </a:r>
            <a:br>
              <a:rPr sz="4000"/>
            </a:br>
            <a:r>
              <a:rPr b="1" i="1" lang="fr-FR" sz="3600" spc="-1" strike="noStrike">
                <a:solidFill>
                  <a:srgbClr val="333399"/>
                </a:solidFill>
                <a:latin typeface="Arial"/>
              </a:rPr>
              <a:t>Identification des manifestations et des i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93A5-CF4B-4E21-A29F-F801FB0CB974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333399"/>
                </a:solidFill>
                <a:latin typeface="Arial"/>
              </a:rPr>
              <a:t>Exerc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FE06-5B10-4593-91B6-523CB4C1C14C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"/>
          <p:cNvPicPr/>
          <p:nvPr/>
        </p:nvPicPr>
        <p:blipFill>
          <a:blip r:embed="rId1"/>
          <a:stretch/>
        </p:blipFill>
        <p:spPr>
          <a:xfrm>
            <a:off x="2557440" y="1081080"/>
            <a:ext cx="4029120" cy="4695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"/>
          <p:cNvPicPr/>
          <p:nvPr/>
        </p:nvPicPr>
        <p:blipFill>
          <a:blip r:embed="rId2"/>
          <a:stretch/>
        </p:blipFill>
        <p:spPr>
          <a:xfrm>
            <a:off x="2290680" y="628560"/>
            <a:ext cx="4562640" cy="5600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"/>
          <p:cNvPicPr/>
          <p:nvPr/>
        </p:nvPicPr>
        <p:blipFill>
          <a:blip r:embed="rId3"/>
          <a:stretch/>
        </p:blipFill>
        <p:spPr>
          <a:xfrm>
            <a:off x="2286000" y="604800"/>
            <a:ext cx="457200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7102-54F1-4B22-B9B2-C708C7436831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333399"/>
                </a:solidFill>
                <a:latin typeface="Arial"/>
              </a:rPr>
              <a:t>Zone du titre (245) :</a:t>
            </a:r>
            <a:br>
              <a:rPr sz="2800"/>
            </a:br>
            <a:r>
              <a:rPr b="1" lang="fr-CA" sz="2800" spc="-1" strike="noStrike">
                <a:solidFill>
                  <a:srgbClr val="333399"/>
                </a:solidFill>
                <a:latin typeface="Arial"/>
              </a:rPr>
              <a:t>Lesquelles de ces mentions sont acceptab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1360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5 $a Développement social et émotionnel chez l’enfant et l’adolescent : $b les bases du développement / $c sous la direction de Jean-Pascal Lemelin … [et al.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5 $a Développement social et émotionnel chez l’enfant et l’adolescent : $b les bases du développement / $c sous la direction de Jean-Pascal Lemelin, Marc A. Provost, George M. Tarabulsy, André Plamondon et Caroline Dufres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5 $a Développement social et émotionnel chez l’enfant et l’adolescent : $b les bases du développement / $c sous la direction de Jean-Pascal Lemelin [et quatre autre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5 $a DÉVELOPPEMENT SOCIAL ET ÉMOTIONNEL CHEZ L’ENFANT ET L’ADOLESCENT : $b les bases du développement / $c sous la direction de Jean-Pascal Lemelin [et quatre autre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indefinite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9" dur="indefinite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0" dur="indefinite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indefinite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3" dur="indefinite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4" dur="indefinite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8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indefinite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9" dur="indefinite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0" dur="indefinite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301F-19DB-4325-A742-63F0A1B4E55F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1"/>
          <a:srcRect l="11181" t="14386" r="9548" b="11513"/>
          <a:stretch/>
        </p:blipFill>
        <p:spPr>
          <a:xfrm>
            <a:off x="2008080" y="189000"/>
            <a:ext cx="5050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918F-8190-41D2-BFB9-BF742E87E229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333399"/>
                </a:solidFill>
                <a:latin typeface="Arial"/>
              </a:rPr>
              <a:t>Zone de production, publication, etc. (264) : Lesquelles de ces mentions sont acceptab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1 $a Montréal, Québec : $b Baraka Books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real, $c [201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1 $a Montréal : $b Baraka Books of Montreal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c [201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1 $a Montréal, Québec : $b Baraka Books, $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201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1 $a Montréal, Québec : $b Published by Barak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s of Montreal, $c [201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ux zones 26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1 $a Montréal, Québec : $b Baraka Books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real, $c [201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c ©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indefinite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indefinite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indefinite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indefinite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5" dur="indefinite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6" dur="indefinite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indefinite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indefinite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indefinite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indefinite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43" dur="indefinite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4" dur="indefinite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FDB3-A5A0-4860-9363-A3379322C8E0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620640"/>
            <a:ext cx="78483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99"/>
                </a:solidFill>
                <a:latin typeface="Arial"/>
              </a:rPr>
              <a:t>Le terme RDA pour le concept RCAA2 de « vedette » est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63480" y="2316240"/>
            <a:ext cx="779616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) Cré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b) 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) Variante de point d’accè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) Titre privilégi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F362-D013-4B55-A984-095BE3339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À quels termes RDA correspondent les termes RCAA2 ci-dessous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88920"/>
            <a:ext cx="339408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Auteur, compositeu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Vedette princip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Co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Renvoi v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780000" y="1887480"/>
            <a:ext cx="5184720" cy="29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Variante de point d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Titre privilégié et, si approprié, point d’accès autorisé pour le 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 Description du support maté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95280" y="4684680"/>
            <a:ext cx="85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1) Auteur, compositeur, etc. = c) 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) Vedette principale            = b) Titre privilégié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) Collation                           = d) Description du suppor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4) Renvoi voir                       = a) Variante de point d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F285-3DC1-47CE-A31F-F3CA8CDD1F70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99"/>
                </a:solidFill>
                <a:latin typeface="Arial"/>
              </a:rPr>
              <a:t>Le terme RCAA2 «source principale» a été remplacé par quel terme RDA?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5694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a) Source principale (c.-à.-d. le terme n’a pas changé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b) Source presc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c) Source privilégié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d) Sources privilégié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" dur="indefinite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6" dur="indefinite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CAB8-F71F-45C5-AAB4-5E7CE85302B3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333399"/>
                </a:solidFill>
                <a:latin typeface="Arial"/>
              </a:rPr>
              <a:t>En général, vous cataloguez _____, même si une notice bibliographique contient aussi des éléments des autres entités OEMI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a) L’œuv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b) L’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) La manife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d) L’i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5" dur="indefinite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6" dur="indefinite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6254-741D-463E-8BF9-BE88776172FB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99"/>
                </a:solidFill>
                <a:latin typeface="Arial"/>
              </a:rPr>
              <a:t>Quels sont les moyens de reconnaître une notice bibliographique RDA?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uide/06 a la valeur « c 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uide/18 a la valeur « i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040 $e contient le code « rda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" dur="indefinite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" dur="indefinite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indefinite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1" dur="indefinite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2" dur="indefinite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1BBD-6342-46D8-A858-B1A164BA974B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333399"/>
                </a:solidFill>
                <a:latin typeface="Arial"/>
              </a:rPr>
              <a:t>« Prenez ce que vous voyez et acceptez ce que vous trouvez » est le résumé de quel principe important?</a:t>
            </a: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 principe FRBR des entités du groupe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 principe international de catalogage de représentativ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s lignes directrices de l’IFLA sur la transcription des donn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s instructions RDA sur l’exac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1" dur="indefinite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2" dur="indefinite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5B68-1570-4AB7-A5A5-990105F98830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333399"/>
                </a:solidFill>
                <a:latin typeface="Arial"/>
              </a:rPr>
              <a:t>Faites correspondre le 2</a:t>
            </a:r>
            <a:r>
              <a:rPr b="1" lang="fr-CA" sz="3000" spc="-1" strike="noStrike" baseline="30000">
                <a:solidFill>
                  <a:srgbClr val="333399"/>
                </a:solidFill>
                <a:latin typeface="Arial"/>
              </a:rPr>
              <a:t>e</a:t>
            </a:r>
            <a:r>
              <a:rPr b="1" lang="fr-CA" sz="3000" spc="-1" strike="noStrike">
                <a:solidFill>
                  <a:srgbClr val="333399"/>
                </a:solidFill>
                <a:latin typeface="Arial"/>
              </a:rPr>
              <a:t> indicateur de la zone 264 avec l’élément RDA qu’il doit désigner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993080" cy="19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264 #1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) Mention de 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264 #2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b) Mention de copy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264 #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) Mention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264 #4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) Mention de diffusion/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757080" y="4297320"/>
            <a:ext cx="777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264 #1       = 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c) Mention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264 #2       = 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d) Mention de diffusion/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264 #3       = 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a) Mention de 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264 #4       = 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b) Mention de copy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B4CD-65B6-41E4-B26D-4A9546761191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333399"/>
                </a:solidFill>
                <a:latin typeface="Arial"/>
              </a:rPr>
              <a:t>Vrai ou faux?</a:t>
            </a:r>
            <a:br>
              <a:rPr sz="2800"/>
            </a:br>
            <a:r>
              <a:rPr b="1" lang="fr-CA" sz="2800" spc="-1" strike="noStrike">
                <a:solidFill>
                  <a:srgbClr val="333399"/>
                </a:solidFill>
                <a:latin typeface="Arial"/>
              </a:rPr>
              <a:t>Vous pouvez enregistrer une date de copyright, en plus d’une date de publication, mais vous n’êtes pas obligés de le f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06040" y="2924280"/>
            <a:ext cx="76532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) V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b) F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indefinite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9" dur="indefinite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0" dur="indefinite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18:45:44Z</dcterms:created>
  <dc:creator>BANQ</dc:creator>
  <dc:description/>
  <dc:language>en-US</dc:language>
  <cp:lastModifiedBy>Pat Riva</cp:lastModifiedBy>
  <dcterms:modified xsi:type="dcterms:W3CDTF">2013-04-08T22:55:35Z</dcterms:modified>
  <cp:revision>96</cp:revision>
  <dc:subject/>
  <dc:title>Identification des manifestations et des items</dc:title>
</cp:coreProperties>
</file>