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fr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Quiz - Identification des manifestations et des i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fr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D58C897-9F58-4667-A052-C5974CA03310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Quiz - Identification des manifestations et des i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7C3ECB6-B49A-471A-9CDA-3DF867A32266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E58C-2FCD-43B5-A9A7-0DCA187C3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439F-64BE-43BF-8007-30ED2BD05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EBFF-2AA7-4E80-B874-C814C82D6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3310-E00A-448C-89A0-35D747FBA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00E0-8188-417F-B38F-F7DEBBA52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2242-8705-4980-BF09-632813351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02B5-49A1-464B-84AA-FE868A096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4081-5FDB-46F2-AAF7-A6038B4AD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FC55-32A3-4E03-A713-42D97E20C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307E-83A2-4B6B-938C-25CD3309A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877F-6C70-4051-8A46-72F1D36F2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16FF-A9F1-46C5-AB13-6AD8A7175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DA48A-8E75-4C69-BD32-0E8C53F42A04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539640" y="2205000"/>
            <a:ext cx="79218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333399"/>
                </a:solidFill>
                <a:latin typeface="Arial"/>
              </a:rPr>
              <a:t>Quiz</a:t>
            </a:r>
            <a:br>
              <a:rPr sz="4000"/>
            </a:br>
            <a:r>
              <a:rPr b="1" i="1" lang="fr-FR" sz="3600" spc="-1" strike="noStrike">
                <a:solidFill>
                  <a:srgbClr val="333399"/>
                </a:solidFill>
                <a:latin typeface="Arial"/>
              </a:rPr>
              <a:t>Identification des manifestations et des i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5A265-AF3A-41EC-B0D5-716ECF0C2441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68360" y="162828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333399"/>
                </a:solidFill>
                <a:latin typeface="Arial"/>
              </a:rPr>
              <a:t>Exerc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924FA-5E18-4FEC-B4DB-23E76AEE4248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8" descr=""/>
          <p:cNvPicPr/>
          <p:nvPr/>
        </p:nvPicPr>
        <p:blipFill>
          <a:blip r:embed="rId1"/>
          <a:stretch/>
        </p:blipFill>
        <p:spPr>
          <a:xfrm>
            <a:off x="2557440" y="1081080"/>
            <a:ext cx="4029120" cy="46958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" descr=""/>
          <p:cNvPicPr/>
          <p:nvPr/>
        </p:nvPicPr>
        <p:blipFill>
          <a:blip r:embed="rId2"/>
          <a:stretch/>
        </p:blipFill>
        <p:spPr>
          <a:xfrm>
            <a:off x="2290680" y="628560"/>
            <a:ext cx="4562640" cy="5600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" descr=""/>
          <p:cNvPicPr/>
          <p:nvPr/>
        </p:nvPicPr>
        <p:blipFill>
          <a:blip r:embed="rId3"/>
          <a:stretch/>
        </p:blipFill>
        <p:spPr>
          <a:xfrm>
            <a:off x="2286000" y="604800"/>
            <a:ext cx="4572000" cy="56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BDF2C-AFB6-4C5A-B0BA-4FEEC964D7C6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333399"/>
                </a:solidFill>
                <a:latin typeface="Arial"/>
              </a:rPr>
              <a:t>Zone du titre (245) :</a:t>
            </a:r>
            <a:br>
              <a:rPr sz="2800"/>
            </a:br>
            <a:r>
              <a:rPr b="1" lang="fr-CA" sz="2800" spc="-1" strike="noStrike">
                <a:solidFill>
                  <a:srgbClr val="333399"/>
                </a:solidFill>
                <a:latin typeface="Arial"/>
              </a:rPr>
              <a:t>Lesquelles de ces mentions sont acceptabl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13600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5 $a Développement social et émotionnel chez l’enfant et l’adolescent : $b les bases du développement / $c sous la direction de Jean-Pascal Lemelin … [et al.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5 $a Développement social et émotionnel chez l’enfant et l’adolescent : $b les bases du développement / $c sous la direction de Jean-Pascal Lemelin, Marc A. Provost, George M. Tarabulsy, André Plamondon et Caroline Dufres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5 $a Développement social et émotionnel chez l’enfant et l’adolescent : $b les bases du développement / $c sous la direction de Jean-Pascal Lemelin [et quatre autre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5 $a DÉVELOPPEMENT SOCIAL ET ÉMOTIONNEL CHEZ L’ENFANT ET L’ADOLESCENT : $b les bases du développement / $c sous la direction de Jean-Pascal Lemelin [et quatre autre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indefinite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09" dur="indefinite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10" dur="indefinite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indefinite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13" dur="indefinite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14" dur="indefinite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08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17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indefinite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19" dur="indefinite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0" dur="indefinite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215EB-1AF1-433B-8993-3694D24C0864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"/>
          <p:cNvPicPr/>
          <p:nvPr/>
        </p:nvPicPr>
        <p:blipFill>
          <a:blip r:embed="rId1"/>
          <a:srcRect l="11181" t="14386" r="9548" b="11513"/>
          <a:stretch/>
        </p:blipFill>
        <p:spPr>
          <a:xfrm>
            <a:off x="2008080" y="189000"/>
            <a:ext cx="505008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C5744-FA70-452F-A3E6-B36C0941E52D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333399"/>
                </a:solidFill>
                <a:latin typeface="Arial"/>
              </a:rPr>
              <a:t>Zone de production, publication, etc. (264) : Lesquelles de ces mentions sont acceptabl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64 #1 $a Montréal, Québec : $b Baraka Books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treal, $c [2012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64 #1 $a Montréal : $b Baraka Books of Montreal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c [2012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64 #1 $a Montréal, Québec : $b Baraka Books, $c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2012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64 #1 $a Montréal, Québec : $b Published by Barak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ks of Montreal, $c [2012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ux zones 264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64 #1 $a Montréal, Québec : $b Baraka Books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treal, $c [2012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64 #4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c ©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indefinite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indefinite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indefinite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indefinite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5" dur="indefinite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6" dur="indefinite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indefinite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indefinite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indefinite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indefinite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43" dur="indefinite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4" dur="indefinite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DA993-5A4A-44E4-90D2-6E1766D7D61C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000" y="620640"/>
            <a:ext cx="78483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333399"/>
                </a:solidFill>
                <a:latin typeface="Arial"/>
              </a:rPr>
              <a:t>Le terme RDA pour le concept RCAA2 de « vedette » est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63480" y="2316240"/>
            <a:ext cx="7796160" cy="29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) Créa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b) Point d’accès autoris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c) Variante de point d’accè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d) Titre privilégi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" dur="indefinite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" dur="indefinite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Espace réservé du numéro de diapositiv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08327-B7F7-4499-A64B-9147A850BC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À quels termes RDA correspondent les termes RCAA2 ci-dessous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888920"/>
            <a:ext cx="339408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Auteur, compositeu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Vedette princip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Co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) Renvoi vo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780000" y="1887480"/>
            <a:ext cx="5184720" cy="29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 Variante de point d’accè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 Titre privilégié et, si approprié, point d’accès autorisé pour le créa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) Créa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) Description du support matéri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395280" y="4684680"/>
            <a:ext cx="853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1) Auteur, compositeur, etc. = c) Créa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2) Vedette principale            = b) Titre privilégié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3) Collation                           = d) Description du support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4) Renvoi voir                       = a) Variante de point d’accè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2CF10-B2D4-409E-8A8F-34A44A976140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333399"/>
                </a:solidFill>
                <a:latin typeface="Arial"/>
              </a:rPr>
              <a:t>Le terme RCAA2 «source principale» a été remplacé par quel terme RDA?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2852640"/>
            <a:ext cx="856944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a) Source principale (c.-à.-d. le terme n’a pas changé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b) Source presc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c) Source privilégié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d) Sources privilégié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indefinite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" dur="indefinite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6" dur="indefinite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27CDB-B50E-4E6C-B9F6-58FCBC5BC0BE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333399"/>
                </a:solidFill>
                <a:latin typeface="Arial"/>
              </a:rPr>
              <a:t>En général, vous cataloguez _____, même si une notice bibliographique contient aussi des éléments des autres entités OEMI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a) L’œuv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b) L’ex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c) La manifes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d) L’i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indefinite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5" dur="indefinite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6" dur="indefinite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BBCE2-3FB2-4F07-B10C-C6377E9452AF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333399"/>
                </a:solidFill>
                <a:latin typeface="Arial"/>
              </a:rPr>
              <a:t>Quels sont les moyens de reconnaître une notice bibliographique RDA?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Guide/06 a la valeur « c 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Guide/18 a la valeur « i 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040 $e contient le code « rda 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indefinite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7" dur="indefinite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8" dur="indefinite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indefinite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61" dur="indefinite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62" dur="indefinite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858CC-921C-4AA6-A88B-0CB727BFCBBA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333399"/>
                </a:solidFill>
                <a:latin typeface="Arial"/>
              </a:rPr>
              <a:t>« Prenez ce que vous voyez et acceptez ce que vous trouvez » est le résumé de quel principe important?</a:t>
            </a:r>
            <a:r>
              <a:rPr b="0" lang="fr-CA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82296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e principe FRBR des entités du groupe 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e principe international de catalogage de représentativ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es lignes directrices de l’IFLA sur la transcription des donn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es instructions RDA sur l’exactit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indefinite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1" dur="indefinite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2" dur="indefinite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Espace réservé du numéro de diapositiv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01FF3-4A44-47B2-96CB-9C13BFA423F6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333399"/>
                </a:solidFill>
                <a:latin typeface="Arial"/>
              </a:rPr>
              <a:t>Faites correspondre le 2</a:t>
            </a:r>
            <a:r>
              <a:rPr b="1" lang="fr-CA" sz="3000" spc="-1" strike="noStrike" baseline="30000">
                <a:solidFill>
                  <a:srgbClr val="333399"/>
                </a:solidFill>
                <a:latin typeface="Arial"/>
              </a:rPr>
              <a:t>e</a:t>
            </a:r>
            <a:r>
              <a:rPr b="1" lang="fr-CA" sz="3000" spc="-1" strike="noStrike">
                <a:solidFill>
                  <a:srgbClr val="333399"/>
                </a:solidFill>
                <a:latin typeface="Arial"/>
              </a:rPr>
              <a:t> indicateur de la zone 264 avec l’élément RDA qu’il doit désigner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993080" cy="194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264 #1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) Mention de fabr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264 #2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b) Mention de copy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264 #3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c) Mention de pub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264 #4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d) Mention de diffusion/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757080" y="4297320"/>
            <a:ext cx="7775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333399"/>
                </a:solidFill>
                <a:latin typeface="Arial"/>
              </a:rPr>
              <a:t>264 #1       = </a:t>
            </a:r>
            <a:r>
              <a:rPr b="0" lang="fr-CA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fr-CA" sz="2800" spc="-1" strike="noStrike">
                <a:solidFill>
                  <a:srgbClr val="333399"/>
                </a:solidFill>
                <a:latin typeface="Arial"/>
              </a:rPr>
              <a:t>c) Mention de pub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333399"/>
                </a:solidFill>
                <a:latin typeface="Arial"/>
              </a:rPr>
              <a:t>264 #2       = </a:t>
            </a:r>
            <a:r>
              <a:rPr b="0" lang="fr-CA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fr-CA" sz="2800" spc="-1" strike="noStrike">
                <a:solidFill>
                  <a:srgbClr val="333399"/>
                </a:solidFill>
                <a:latin typeface="Arial"/>
              </a:rPr>
              <a:t>d) Mention de diffusion/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333399"/>
                </a:solidFill>
                <a:latin typeface="Arial"/>
              </a:rPr>
              <a:t>264 #3       = </a:t>
            </a:r>
            <a:r>
              <a:rPr b="0" lang="fr-CA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fr-CA" sz="2800" spc="-1" strike="noStrike">
                <a:solidFill>
                  <a:srgbClr val="333399"/>
                </a:solidFill>
                <a:latin typeface="Arial"/>
              </a:rPr>
              <a:t>a) Mention de fabr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333399"/>
                </a:solidFill>
                <a:latin typeface="Arial"/>
              </a:rPr>
              <a:t>264 #4       = </a:t>
            </a:r>
            <a:r>
              <a:rPr b="0" lang="fr-CA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fr-CA" sz="2800" spc="-1" strike="noStrike">
                <a:solidFill>
                  <a:srgbClr val="333399"/>
                </a:solidFill>
                <a:latin typeface="Arial"/>
              </a:rPr>
              <a:t>b) Mention de copy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D744C-56A5-410E-A059-8F5254111A95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333399"/>
                </a:solidFill>
                <a:latin typeface="Arial"/>
              </a:rPr>
              <a:t>Vrai ou faux?</a:t>
            </a:r>
            <a:br>
              <a:rPr sz="2800"/>
            </a:br>
            <a:r>
              <a:rPr b="1" lang="fr-CA" sz="2800" spc="-1" strike="noStrike">
                <a:solidFill>
                  <a:srgbClr val="333399"/>
                </a:solidFill>
                <a:latin typeface="Arial"/>
              </a:rPr>
              <a:t>Vous pouvez enregistrer une date de copyright, en plus d’une date de publication, mais vous n’êtes pas obligés de le f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06040" y="2924280"/>
            <a:ext cx="765324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) Vr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b) Fa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indefinite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9" dur="indefinite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0" dur="indefinite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8T18:45:44Z</dcterms:created>
  <dc:creator>BANQ</dc:creator>
  <dc:description/>
  <dc:language>en-US</dc:language>
  <cp:lastModifiedBy>Pat Riva</cp:lastModifiedBy>
  <dcterms:modified xsi:type="dcterms:W3CDTF">2013-04-08T22:55:35Z</dcterms:modified>
  <cp:revision>96</cp:revision>
  <dc:subject/>
  <dc:title>Identification des manifestations et des items</dc:title>
</cp:coreProperties>
</file>