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FBCE83-AAA3-4781-B41A-7FD8ECBA898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F81838-9BE6-48D0-ACF2-3E538743212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520-F77D-45D1-89CF-94361828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0C3-6A50-4A9F-9D60-BC31DD4D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122C-A0F5-4F82-83F0-49DB746D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FD7-AA17-467F-A52E-BA95427B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3BF-6CB8-4D40-89ED-8333F08C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7F3-7C26-461C-8B90-2F1290DC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8E0-6981-411C-8424-1469AFAE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C24-42A2-4035-A8F5-003EAB22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EC5-950A-4A47-A3AB-40186F7F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F89-52BE-4224-A8F1-3F8A8526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BE2-46CF-4CE1-85D2-8617FB87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0AA-5380-4E60-ADA8-456FEEA9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98F8-7CAC-4FB9-8AB2-21DD14FA1E41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9640" y="2205000"/>
            <a:ext cx="7921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40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manifestations et des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BF09-3FF5-491C-9340-EBEBE2F0F646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Arial"/>
              </a:rPr>
              <a:t>Exerc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C162-C411-4816-B7C9-BFE33A46B27D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2557440" y="1081080"/>
            <a:ext cx="4029120" cy="469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2"/>
          <a:stretch/>
        </p:blipFill>
        <p:spPr>
          <a:xfrm>
            <a:off x="2290680" y="628560"/>
            <a:ext cx="4562640" cy="560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286000" y="604800"/>
            <a:ext cx="45720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B04E-A6A7-4E47-B2B8-7960D65E89F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Zone du titre (245) :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136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… [et al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, Marc A. Provost, George M. Tarabulsy, André Plamondon et Caroline Dufres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[et quatre autr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[et quatre autr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0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07E3-0C93-4B2B-8588-0D333BECE18E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11181" t="14386" r="9548" b="11513"/>
          <a:stretch/>
        </p:blipFill>
        <p:spPr>
          <a:xfrm>
            <a:off x="2008080" y="189000"/>
            <a:ext cx="5050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DC53-5B61-4694-B5BD-DFFE03E6A199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Zone de production, publication, etc. (264) : 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 : $b Baraka Books of Montrea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, $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Published by Bara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of 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x zones 26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c ©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3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3EE4-720D-4855-B5EC-AE6870592B7D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Le terme RDA pour le concept RCAA2 de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480" y="2316240"/>
            <a:ext cx="77961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5FB1-60B5-4F39-B164-1B8254D27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À quels termes RDA correspondent les termes RCAA2 ci-dessou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8920"/>
            <a:ext cx="33940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80000" y="1887480"/>
            <a:ext cx="51847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95280" y="468468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 Auteur, compositeur, etc. =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) Vedette principale            =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 Collation                           = d) Description du suppor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) Renvoi voir                       =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1303-B066-48D3-B429-B0D13E23EBB2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Le terme RCAA2 «source principale» a été remplacé par quel term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569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32E7-C19D-477F-979E-6C9CE6A227F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E335-6068-4523-980A-FA936F3B1E6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Quels sont les moyens de reconnaître une notice bibliographiqu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0026-0A72-4277-BBEE-210D9D1C4E22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« Prenez ce que vous voyez et acceptez ce que vous trouvez » est le résumé de quel principe important?</a:t>
            </a: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5E09-DBB7-4B91-B1D3-9B02FAB1A4DB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Faites correspondre le 2</a:t>
            </a:r>
            <a:r>
              <a:rPr b="1" lang="fr-CA" sz="3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 indicateur de la zone 264 avec l’élément RDA qu’il doit désign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7080" y="42973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1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2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3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4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BAAC-659B-4A44-88AB-378368505D1E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rai ou faux?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040" y="2924280"/>
            <a:ext cx="76532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Pat Riva</cp:lastModifiedBy>
  <dcterms:modified xsi:type="dcterms:W3CDTF">2013-04-08T22:55:35Z</dcterms:modified>
  <cp:revision>96</cp:revision>
  <dc:subject/>
  <dc:title>Identification des manifestations et des items</dc:title>
</cp:coreProperties>
</file>