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8172F9-B749-4F28-B60B-083D457E48E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0ABD04-A968-4D31-9075-6CB80FE8000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46F-84C7-4476-83E9-841B68BA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8CA-123F-4972-8BDD-BA11E1C8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3DE-B0B3-4FD8-8709-32505FB0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D2B5-C13E-4887-BF69-C51D1720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FA8-38ED-4758-B023-84C623C7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106-1B3A-4C91-93B7-7D8A28DE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A58-3FEA-4F48-B6BB-6B06E258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1F24-BD32-4A5F-B7BF-CA527EDB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1EE-D6D8-4385-BD4C-7BF1B8F6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EAB-EF85-4B8A-99C8-6FE20A99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37B-F6C3-4BAA-96C7-4158E8FE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5F79-34AD-466D-AB47-8D25765E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C857-EC8F-4558-A0A6-5138F731B603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9640" y="2205000"/>
            <a:ext cx="7921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40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manifestations et des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B3BA-B74B-4709-AC90-39F68CB46F0C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Arial"/>
              </a:rPr>
              <a:t>Exerc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A5C2-F2B2-4484-A7D4-E3812A05DC68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2557440" y="1081080"/>
            <a:ext cx="4029120" cy="4695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2"/>
          <a:stretch/>
        </p:blipFill>
        <p:spPr>
          <a:xfrm>
            <a:off x="2290680" y="628560"/>
            <a:ext cx="4562640" cy="560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2286000" y="604800"/>
            <a:ext cx="45720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C80D-49F2-4C65-B193-AB22E7F2B6C2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Zone du titre (245) :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136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 … [et al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, Marc A. Provost, George M. Tarabulsy, André Plamondon et Caroline Dufres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 [et quatre autr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 [et quatre autr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9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0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0" dur="indefinite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7160-2D5E-4DC4-B886-96AA374B635D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11181" t="14386" r="9548" b="11513"/>
          <a:stretch/>
        </p:blipFill>
        <p:spPr>
          <a:xfrm>
            <a:off x="2008080" y="189000"/>
            <a:ext cx="5050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9515-62A4-4E5B-8629-76DEA71D66FF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Zone de production, publication, etc. (264) : 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Baraka Book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eal, 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 : $b Baraka Books of Montrea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Baraka Books, $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Published by Bara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 of Montreal, 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ux zones 26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Baraka Book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eal, 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c ©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3" dur="indefinite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4" dur="indefinite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B67E-FDB7-478A-BF62-D59E9523E4AB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848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Le terme RDA pour le concept RCAA2 de « vedette » e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3480" y="2316240"/>
            <a:ext cx="77961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Cré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) Variante de point d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) 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B905-0435-459F-BCE2-B0E2A9D4C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À quels termes RDA correspondent les termes RCAA2 ci-dessou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8920"/>
            <a:ext cx="33940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uteur, composit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80000" y="1887480"/>
            <a:ext cx="518472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itre privilégié et, si approprié, point d’accès autorisé pour le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Description du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95280" y="468468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) Auteur, compositeur, etc. = 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) Vedette principale            = b) Titre privilégié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) Collation                           = d) Description du suppor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) Renvoi voir                       = 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C983-F62A-44A0-92A4-9B4D041DE467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Le terme RCAA2 «source principale» a été remplacé par quel terme RDA?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569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a) Source principale (c.-à.-d. le terme n’a pas chang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b) Source presc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c) Source privilégié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d) Sources privilégi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E057-EBD3-49BF-BE9A-D55CFF5D21DB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En général, vous cataloguez _____, même si une notice bibliographique contient aussi des éléments des autres entités OEM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) L’œu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)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) La manif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) L’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2FE3-567C-4663-8355-290EAD0C9EDD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Quels sont les moyens de reconnaître une notice bibliographique RDA?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2BE9-B387-43CF-A4D9-C263A82A5A68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« Prenez ce que vous voyez et acceptez ce que vous trouvez » est le résumé de quel principe important?</a:t>
            </a: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0709-0C6D-46B0-83A0-C52FBF744200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Faites correspondre le 2</a:t>
            </a:r>
            <a:r>
              <a:rPr b="1" lang="fr-CA" sz="3000" spc="-1" strike="noStrike" baseline="30000">
                <a:solidFill>
                  <a:srgbClr val="333399"/>
                </a:solidFill>
                <a:latin typeface="Arial"/>
              </a:rPr>
              <a:t>e</a:t>
            </a: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 indicateur de la zone 264 avec l’élément RDA qu’il doit désign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57080" y="42973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1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2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3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4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348C-CF70-4FF8-B8A0-3FF73B3E9422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rai ou faux?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ous pouvez enregistrer une date de copyright, en plus d’une date de publication, mais vous n’êtes pas obligés de le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040" y="2924280"/>
            <a:ext cx="76532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Pat Riva</cp:lastModifiedBy>
  <dcterms:modified xsi:type="dcterms:W3CDTF">2013-04-08T22:55:35Z</dcterms:modified>
  <cp:revision>96</cp:revision>
  <dc:subject/>
  <dc:title>Identification des manifestations et des items</dc:title>
</cp:coreProperties>
</file>