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header&gt;</a:t>
            </a:r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B2474761-57D3-4AFF-A264-E7A36F92D43B}" type="datetime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6-07-30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footer&gt;</a:t>
            </a:r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91ADA03A-D9C5-48D1-B900-511A6DB9D2F6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1200" spc="-1" strike="noStrike" u="sng">
                <a:solidFill>
                  <a:srgbClr val="000000"/>
                </a:solidFill>
                <a:uFillTx/>
                <a:latin typeface="Calibri"/>
              </a:rPr>
              <a:t>Mention de coll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e titre propre de la collection, la numérotation au sein de la collection, le titre propre de la sous-collection, et la numérotation au sein de la sous-collection sont tous des éléments fondamentaux. Les autres sous-éléments relatifs à la mention de collection sont optionne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es instructions sur l’enregistrement de la mention de collection se trouvent sous 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2.12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Quant aux sources d’information, les instructions se trouvent sous chacun des sous-éléments qui constituent la mention de collection. Prenez également note que le 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LC-PCC-PS 2.12.1.2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donne comme instruction de prendre la collection principale et les sous-collections d’une source contenant les deux titres à la fo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’ailleurs, on se souviendra que LC n’établit plus de points d’accès autorisés aux titres des collections (en 830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E699A-7FB9-4130-B8E7-6BB7FA74C8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6EA87-1153-48E4-BBBB-167096EC56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9AB54-767A-47D5-BEDB-94B39CE41D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6F90F-4556-472C-A2A4-CC7D517391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A0542-7549-4374-AE6D-ECF910C1DB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8CB0E-42D9-4933-B31D-53D5E3BAC2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95AC4-41E0-47CD-BD16-8F25966CD6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C2EA1-B3F7-4E6F-B240-1EC92AFA3E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06236-664F-4C37-9BAA-8A1BE33CAF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1875C-CC90-4ED5-82F8-DA0C18A057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60A11-25F7-4DCA-A5A1-7F508C8CDD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B74E7-4BB0-4831-A652-6697327D6F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24A42814-C121-4DC3-B895-6D31743777DF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ier les manifestations et les ite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80"/>
                </a:solidFill>
                <a:latin typeface="Arial"/>
              </a:rPr>
              <a:t>Éléments fondamentaux du chapitre 2 : </a:t>
            </a:r>
            <a:br>
              <a:rPr sz="2800"/>
            </a:br>
            <a:r>
              <a:rPr b="1" i="1" lang="en-US" sz="2800" spc="-1" strike="noStrike">
                <a:solidFill>
                  <a:srgbClr val="008080"/>
                </a:solidFill>
                <a:latin typeface="Arial"/>
              </a:rPr>
              <a:t>« Identification des manifestations et des items »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tre prop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3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mp d’application = « l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titre principal d’une ressour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c’est-à-dire le titre normalement utilisé pour citer la ressource) » = le titre de ce qui est catalogu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e d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représentativit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3.1.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Ne pas corriger les erreu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ur les monograph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499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 n’y aura plus de « [sic] » ou « [i.e. ____ ] 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499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ner une note pour expliqu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6FD57-2BC6-4BF5-A53E-5CD6048E1E1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 :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rreur dans le titre prop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011600" y="3124080"/>
            <a:ext cx="75142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otice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pour 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cette</a:t>
            </a:r>
            <a:r>
              <a:rPr b="0" lang="fr-CA" sz="24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Courier New"/>
                <a:ea typeface="ＭＳ Ｐゴシック"/>
              </a:rPr>
              <a:t>monographi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: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$a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Teusday’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task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246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i 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Titre corrigé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$a Tuesday’s task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76320" y="4648320"/>
            <a:ext cx="906768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otice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pour 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une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Courier New"/>
                <a:ea typeface="ＭＳ Ｐゴシック"/>
              </a:rPr>
              <a:t>publication en séri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: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$a Zoology studie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246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i 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Titre mal orthographié sur le numéro 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a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Zooolog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tudie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914400" y="1905120"/>
            <a:ext cx="77724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otice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CAA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pour 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une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Courier New"/>
                <a:ea typeface="ＭＳ Ｐゴシック"/>
              </a:rPr>
              <a:t>monographi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: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$a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Teusday’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[i.e. Tuesday’s] tasks 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37760-9BAE-4C64-B304-B372C84D904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ntion de responsabilité relative au titre propre - Transcrip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LC-PCC PS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« Généralement ne pas omettre les noms dans une mention de responsabilité.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457200" y="3432240"/>
            <a:ext cx="8305920" cy="222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31840">
              <a:lnSpc>
                <a:spcPct val="100000"/>
              </a:lnSpc>
              <a:tabLst>
                <a:tab algn="l" pos="0"/>
                <a:tab algn="l" pos="1481040"/>
                <a:tab algn="l" pos="2684520"/>
                <a:tab algn="l" pos="3033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ourc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by Susan Brown, Melanie Carlson, Stephen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Lindell, Kevin Ott, and Janet Wilson. 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31840">
              <a:lnSpc>
                <a:spcPct val="100000"/>
              </a:lnSpc>
              <a:tabLst>
                <a:tab algn="l" pos="0"/>
                <a:tab algn="l" pos="1481040"/>
                <a:tab algn="l" pos="2684520"/>
                <a:tab algn="l" pos="3033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DA 2.4.1.5</a:t>
            </a:r>
            <a:r>
              <a:rPr b="1" lang="fr-CA" sz="18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 </a:t>
            </a:r>
            <a:r>
              <a:rPr b="1" i="1" lang="fr-CA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permet </a:t>
            </a:r>
            <a:r>
              <a:rPr b="1" lang="fr-CA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:</a:t>
            </a:r>
            <a:r>
              <a:rPr b="0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$a … / $c by Susan Brown </a:t>
            </a:r>
            <a:r>
              <a:rPr b="0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[et quatre autres]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31840">
              <a:lnSpc>
                <a:spcPct val="100000"/>
              </a:lnSpc>
              <a:tabLst>
                <a:tab algn="l" pos="0"/>
                <a:tab algn="l" pos="1481040"/>
                <a:tab algn="l" pos="2684520"/>
                <a:tab algn="l" pos="3033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DA/LC-PCC PS </a:t>
            </a:r>
            <a:r>
              <a:rPr b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245 $a … / $c by </a:t>
            </a:r>
            <a:r>
              <a:rPr b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Susan Brown, </a:t>
            </a:r>
            <a:r>
              <a:rPr b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Melanie Carlson, Stephen Lindell, Kevin </a:t>
            </a:r>
            <a:r>
              <a:rPr b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Ott, and Janet Wilson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768240" y="6019920"/>
            <a:ext cx="7633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CAA2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245 $a … / $c by Susan Brown … [et al.].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762120" y="2547360"/>
            <a:ext cx="8121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8093"/>
                </a:solidFill>
                <a:latin typeface="Arial"/>
                <a:ea typeface="ＭＳ Ｐゴシック"/>
              </a:rPr>
              <a:t>« Règle de trois » -- Changement par rapport aux RCAA2!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Line 9"/>
          <p:cNvSpPr/>
          <p:nvPr/>
        </p:nvSpPr>
        <p:spPr>
          <a:xfrm>
            <a:off x="1752480" y="5791320"/>
            <a:ext cx="5639040" cy="914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Line 10"/>
          <p:cNvSpPr/>
          <p:nvPr/>
        </p:nvSpPr>
        <p:spPr>
          <a:xfrm flipV="1">
            <a:off x="1676520" y="5791320"/>
            <a:ext cx="5790960" cy="914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E5F89-5E44-4775-9A85-601EB8258C2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 plusieurs mentions 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ule l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miè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registrée est requ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registrer dans l’ordre indiqué par la séquence, la disposition ou la typographie sur la source d’information (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2.4.1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toutes les mentions de responsabilité ne sont pas indiquées, donner l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préfér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à celles identifiant les créateurs du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conten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intellectuel ou artistiq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2.4.2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838080" y="4572000"/>
            <a:ext cx="7804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60640" indent="-2060640">
              <a:lnSpc>
                <a:spcPct val="100000"/>
              </a:lnSpc>
              <a:tabLst>
                <a:tab algn="l" pos="0"/>
                <a:tab algn="l" pos="2060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ur la sourc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“introduction par ______”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060640" indent="-2060640">
              <a:lnSpc>
                <a:spcPct val="100000"/>
              </a:lnSpc>
              <a:tabLst>
                <a:tab algn="l" pos="0"/>
                <a:tab algn="l" pos="2060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édigé par _____”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060640" indent="-2060640">
              <a:lnSpc>
                <a:spcPct val="100000"/>
              </a:lnSpc>
              <a:tabLst>
                <a:tab algn="l" pos="0"/>
                <a:tab algn="l" pos="2060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’il y a uniquement une mention transcrite dans 245 $c, donner “rédigé par _____”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1C03D-0E05-4394-9927-6162D2BD306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dication de l’édition et indication d’un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évision nommée d’une édi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crire tel que trouvé (sous la ligne directrice générale dans 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1.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 Pour les éléments transcrits, utiliser uniquement les abréviations trouvées dans les sources d’information pour l’élément » (Annex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B.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1968480" y="4008960"/>
            <a:ext cx="644364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ource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Third revised edition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CAA2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50 $a 3rd rev. ed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DA</a:t>
            </a:r>
            <a:r>
              <a:rPr b="0" i="1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50 $a Third revised edition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1976400" y="5237640"/>
            <a:ext cx="658152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ourc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2nd enlarged ed., revised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CAA2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 250 $a 2nd enl. ed., rev.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DA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   250 $a 2nd enlarged ed., revised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1A246-D46E-4902-A403-22725D508D2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usieurs éléments RDA dans MARC 264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tion de production - 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tion de publication - 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tion de diffusion ou de distribution - 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tion de fabrication - 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e de copyright - 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élément distinct de la date de pub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ment dans le format bibliographique MARC : zon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6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A6AD0-6B2E-438B-9FC4-A64DA620060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64 Production, Publication, et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6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'est jamais utilisé en RDA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placé par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26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épé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teur 2 précise la fonction de la m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5960" y="3659040"/>
            <a:ext cx="8218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= Production (document non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ublié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1 = Publication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2 = Diffusion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distribution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3 = Fabrication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manufacture (impression)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4 = Date de copyright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A5502-DBBB-40E3-9742-10FE2E99E21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64 Production, Publication, et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ous-zones</a:t>
            </a:r>
            <a:br>
              <a:rPr sz="2800"/>
            </a:b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a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 Lieu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b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 Nom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c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Interprétées selon la valeur dans ind. 2</a:t>
            </a:r>
            <a:br>
              <a:rPr sz="2800"/>
            </a:b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264 #</a:t>
            </a:r>
            <a:r>
              <a:rPr b="1" lang="fr-CA" sz="28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lieu d'édition :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b 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nom</a:t>
            </a:r>
            <a:br>
              <a:rPr sz="2800"/>
            </a:b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d'éditeur,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c 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date de</a:t>
            </a:r>
            <a:br>
              <a:rPr sz="2800"/>
            </a:b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publication.</a:t>
            </a:r>
            <a:br>
              <a:rPr sz="2800"/>
            </a:b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264 #</a:t>
            </a:r>
            <a:r>
              <a:rPr b="1" lang="fr-CA" sz="28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c 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date de copyright </a:t>
            </a:r>
            <a:br>
              <a:rPr sz="2800"/>
            </a:b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(pas de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a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 ou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b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423C5-E3D5-4901-AA3D-2A2CE2CBEA3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64 Production, Publication, et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3760" y="1600200"/>
            <a:ext cx="848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our les PES et ressources intégratr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ndicateur 1 (séquence des mentions)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# = Aucune information fournie / Premier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2 = Intermédiaire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 = Courant / Plus réc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64 </a:t>
            </a:r>
            <a:r>
              <a:rPr b="1" lang="fr-CA" sz="2400" spc="-1" strike="noStrike">
                <a:solidFill>
                  <a:srgbClr val="0000ff"/>
                </a:solidFill>
                <a:latin typeface="Courier New"/>
              </a:rPr>
              <a:t>#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1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Paris ;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New York :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b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Vogue,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c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1964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64 </a:t>
            </a:r>
            <a:r>
              <a:rPr b="1" lang="fr-CA" sz="2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1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3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1980-mai 1993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London :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b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Vo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64 </a:t>
            </a:r>
            <a:r>
              <a:rPr b="1" lang="fr-CA" sz="2400" spc="-1" strike="noStrike">
                <a:solidFill>
                  <a:srgbClr val="0000ff"/>
                </a:solidFill>
                <a:latin typeface="Courier New"/>
              </a:rPr>
              <a:t>3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1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3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juin 1993-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London :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b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0D4EF-C518-4E80-A42C-43C155FD9F1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ntifier les manifestations et les ite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r les notices R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ù sont les instru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ésentation détaillée des élé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E020B-8623-4BCA-858B-38CE3C7D035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ntion de public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ur les ressources publi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2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mp d’application – « une mention identifiant le ou les lieux de publication, le ou les éditeurs, et la ou les dates de publication d’une ressource 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264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cond indicateur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8C90A-F349-4F0A-BA2A-2412CC96757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eu de public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ément fondamental : si plus d’un lieu, seul le premier enregistré est requ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2.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crire les lieux de publication selon la forme qui figure sur la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re à la fois le nom de lieu et les noms des juridictions plus vastes s’ils sont prés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 d’ajouter une juridiction plus vaste si elle n’est pas déjà sur la ressource – jugement du catalogu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57E45-64E7-456B-BDC8-B2641317960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us d’un lieu de public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plus d’un lieu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eul le premi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registré est requ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Aucun « pays d’origine 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 besoin de chercher un lieu au Ca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32AC2-1753-479D-BC92-777A30B09F7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eu de publication non identifié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Fourni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 lieu de publication ou le lieu de publication probable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autant que possi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le bénéfice des utilisateurs et des catalogueurs si le lieu de publication n’est pas identifi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LC-PCC PS 2.8.2.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ique aux catalogueurs de fournir si possible un lieu de publication au lieu d’enregistre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 [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ieu de publication non identifi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BAF1F-16F3-4030-B53E-4628B1ECE33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 d’un lie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914400" y="4610160"/>
            <a:ext cx="79693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ys, province, etc.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nu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:   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Courier New"/>
              </a:rPr>
              <a:t>[Canada]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ys, province, etc. probable :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[</a:t>
            </a:r>
            <a:r>
              <a:rPr b="1" lang="fr-CA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Espagne?]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393840" y="1600200"/>
            <a:ext cx="8489880" cy="26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Lieu connu :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[Toronto]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Lieu probable 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[Munich?]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Lieu probable, mais pays,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province, etc. connu :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[Montréal?, Québec]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66B1C-9EC2-4DC3-943C-7784FAA1CE3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eu de publication : Changements RD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ul le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premier lie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 publication est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fondamen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[S.l.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’est plus autoris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Ne pas corri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’information fictive ou erronée; faire une note pour expliq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1235160" y="2318040"/>
            <a:ext cx="719100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ur la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essourc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:  London - New York – Boston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264 #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a Lond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ou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264 #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a London ; $a New York ; $a Boston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1" name="Rectangle 19"/>
          <p:cNvSpPr/>
          <p:nvPr/>
        </p:nvSpPr>
        <p:spPr>
          <a:xfrm>
            <a:off x="1000080" y="5099040"/>
            <a:ext cx="739152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264 #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$a Red Oak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[Iowa]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          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(ajout correct mais non requis)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A54E5-754B-4E3B-9EE5-48959337BED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m de l’édit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lément fondamental – si plus d’un nom,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seul le premier enregistr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st requ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2.8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le nom de l’éditeur selon la forme qui  figure sur la source d’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registrer tout mot ou toute expression indiquant la fonction (autre que celle de publicatio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LC-PCC PS 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e pas omettre les niveaux dans la hiérarchie de collectiv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41802-CDAB-4861-A971-578B25576D7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m de l’éditeur non identifié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aucun éditeur n’est identifié dans la ressource ou dans d’autres sources, enregistrer </a:t>
            </a:r>
            <a:br>
              <a:rPr sz="2800"/>
            </a:b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« [éditeur non identifié] 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e plus utilis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« [s.n.] 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39FB7-358B-476C-8E7D-5AA89D1CA99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m de l’édit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846000" y="1508040"/>
            <a:ext cx="723924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379520"/>
                <a:tab algn="l" pos="142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64 #1 $a New York :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$b J.J. Wilson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  Publishing Company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379520"/>
                <a:tab algn="l" pos="142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379520"/>
                <a:tab algn="l" pos="142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Pas</a:t>
            </a:r>
            <a:r>
              <a:rPr b="1" i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:</a:t>
            </a:r>
            <a:r>
              <a:rPr b="1" i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64 #1 $b Wilson Pub. Co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846000" y="3032280"/>
            <a:ext cx="723924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42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ource :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Humanities Association, Literature    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42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Division, Renaissance Literature Section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42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64 #1 $a Chicago :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$b Humanities Association,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 Literature Division,</a:t>
            </a:r>
            <a:r>
              <a:rPr b="0" lang="fr-CA" sz="18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Renaissance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 Literature Section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9" name="Text Box 15"/>
          <p:cNvSpPr/>
          <p:nvPr/>
        </p:nvSpPr>
        <p:spPr>
          <a:xfrm>
            <a:off x="846000" y="4861080"/>
            <a:ext cx="723924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15920">
              <a:lnSpc>
                <a:spcPct val="100000"/>
              </a:lnSpc>
              <a:tabLst>
                <a:tab algn="l" pos="0"/>
                <a:tab algn="l" pos="1030320"/>
                <a:tab algn="l" pos="1538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ource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 Toronto -- Pilkington Pub. Co.        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174600" indent="-115920">
              <a:lnSpc>
                <a:spcPct val="100000"/>
              </a:lnSpc>
              <a:tabLst>
                <a:tab algn="l" pos="0"/>
                <a:tab algn="l" pos="1030320"/>
                <a:tab algn="l" pos="1538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  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ouston -- Davidson Publishers 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174600" indent="-115920">
              <a:lnSpc>
                <a:spcPct val="100000"/>
              </a:lnSpc>
              <a:tabLst>
                <a:tab algn="l" pos="0"/>
                <a:tab algn="l" pos="1030320"/>
                <a:tab algn="l" pos="1538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64 #1 $a Toronto :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$b Pilkington Pub. Co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0" name="Text Box 16"/>
          <p:cNvSpPr/>
          <p:nvPr/>
        </p:nvSpPr>
        <p:spPr>
          <a:xfrm>
            <a:off x="846000" y="6080040"/>
            <a:ext cx="72392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64 #1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$b [éditeur non identifié]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E5EEE-7B46-45ED-9569-27785883A37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te de publication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2.8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registrer la date telle qu’elle figure sur la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C-PCC PS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1.8.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remière alternative), transcrire les chiffres romains pour les dates de publication; ne pas convertir en chiffres arab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outer les dates du calendrier grégorien ou julien entre crochets si elles ne sont pas déjà sur la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851FE-6B0C-4ED3-9CD1-EBF060766E7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ntifier les notices RD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Guide/18 contient le code « i » (ponctuation ISBD comprise) ; peut aussi contenir « c » (ponctuation ISBD omi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040 $e contient le code « rda 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Ordre des sous-zones recommandé par OCLC 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040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___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fre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rda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c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___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d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A003B-0E4D-446C-8ED2-464E5657DEA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te de publication : Changements RDA (ressource en une parti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’il n’y a aucune date de publication sur la ressource,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fourn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e date probable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lorsque c’est possi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ivre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LC-PCC PS 2.8.6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r l’ajout d’une date de publication probable au lieu de donn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 [date de publication non identifiée]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A9474-1C32-4044-B2A3-DF76847B44F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tes fournies - 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catégories dans RDA 1.9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née réelle con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264  … $c [2010]</a:t>
            </a:r>
            <a:r>
              <a:rPr b="0" lang="en-US" sz="2400" spc="-1" strike="noStrike">
                <a:solidFill>
                  <a:srgbClr val="00808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’une ou l’autre de deux années consécu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264  … $c [2009 ou 2010]</a:t>
            </a:r>
            <a:r>
              <a:rPr b="0" lang="en-US" sz="2400" spc="-1" strike="noStrike">
                <a:solidFill>
                  <a:srgbClr val="00808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née prob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264  … $c [2010?]</a:t>
            </a:r>
            <a:r>
              <a:rPr b="0" lang="en-US" sz="2400" spc="-1" strike="noStrike">
                <a:solidFill>
                  <a:srgbClr val="00808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Écart probable d’années (« entre ___ et ___? 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264  … $c [entre 2008 et 2010?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264  … $c [entre 1970 et 1979?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264  … $c [entre 1800 et 1899?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us ancienne et/ou plus récente date possible connue (« pas avant », « pas après » ou « entre ___ et ___ 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264  … $c [pas avant le 15 janvier 20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13349-99EC-4E21-A3F6-FB21FA9F38C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te de copyrigh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Élément fondamental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si les dates de publication ou de diffusion ou de distribution ne sont pas identifiées pour une ressource en une par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LC-PCC PS :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es dates de copyright ne sont pas requises pour les monographies en plusieurs parties, les publications en série et les ressources intégratr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2.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écéder du symbole de copyright (</a:t>
            </a: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©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 ou du symbole de phonogramme (</a:t>
            </a:r>
            <a:r>
              <a:rPr b="0" lang="en-US" sz="2400" spc="-1" strike="noStrike">
                <a:solidFill>
                  <a:srgbClr val="008080"/>
                </a:solidFill>
                <a:latin typeface="Webdings"/>
                <a:ea typeface="Webdings"/>
              </a:rPr>
              <a:t>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 (ou des termes </a:t>
            </a: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ou </a:t>
            </a: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phonogramm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Zone MARC 264, second indicateur </a:t>
            </a: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4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$c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st la seule sous-zone utilisée; pas de point f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1523880" y="5545080"/>
            <a:ext cx="60962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712880"/>
                <a:tab algn="l" pos="2801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Exemples </a:t>
            </a:r>
            <a:r>
              <a:rPr b="1" lang="fr-FR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</a:t>
            </a:r>
            <a:r>
              <a:rPr b="1" lang="fr-FR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264 #4 $c ©2002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712880"/>
                <a:tab algn="l" pos="2801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FR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  </a:t>
            </a:r>
            <a:r>
              <a:rPr b="1" lang="fr-FR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264 #4 $c </a:t>
            </a:r>
            <a:r>
              <a:rPr b="1" lang="en-US" sz="2000" spc="-1" strike="noStrike">
                <a:solidFill>
                  <a:srgbClr val="008080"/>
                </a:solidFill>
                <a:latin typeface="Webdings"/>
                <a:ea typeface="Webdings"/>
              </a:rPr>
              <a:t></a:t>
            </a:r>
            <a:r>
              <a:rPr b="1" lang="fr-FR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1983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FE1F7-DCB9-448F-B83A-7AB57EB4ACD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ntion de colle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Élément fondament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Sous-éléments fondamentau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re propre de la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érotation au sein de la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re propre de la sous-coll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érotation au sein de la sous-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4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AC80E-68DB-4A63-988F-3FD1C8A671C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érotation à l’intérieur de la collection et à l’intérieur de la sous-colle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0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2.12.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t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 2.12.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C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490 $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crire les termes et les chiffre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els que s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808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Utiliser l’annexe B (abréviations) seulement pour le point d’accès en 8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 lignes directrices sont généralement les mêmes que celles pour la numérotation des publications en série (RDA 2.6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381480" y="5227560"/>
            <a:ext cx="47131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490 $a … $v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volum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32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3381480" y="5927760"/>
            <a:ext cx="47577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490 $a … $v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Band LXXXVIII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EEAAD-D324-48E4-B02F-ACE415C7CDE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ntifiant de la manifes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ément fondamen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2.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mp d’application = « une chaîne de caractères associée à une manifestation et qui sert à distinguer cette manifestation d’autres manifestations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’il y a plus d’un identifiant pour la manifestation,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privilégier un identifiant reconnu à l’échelle internationa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i cela s’appl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32E95-07DC-4B8B-BD7A-9AD9C716589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ntifiant de la manifes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80"/>
                </a:solidFill>
                <a:latin typeface="Arial"/>
              </a:rPr>
              <a:t>Catégorie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’identifiant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ISBN, ISSN et autres identifiants enregistrés selon des schémas reconnus à l’échelle internationa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identifiants attribués par des éditeurs, des diffuseurs ou des distributeurs, des centres d’information, etc., selon des schémas conçus à l’inter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les numéros d’éditeur pour la musique et les cotag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808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8080"/>
                </a:solidFill>
                <a:latin typeface="Arial"/>
              </a:rPr>
              <a:t>pas les URL, ce sont des localisations</a:t>
            </a: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 (voir RDA </a:t>
            </a:r>
            <a:r>
              <a:rPr b="0" lang="fr-CA" sz="2600" spc="-1" strike="noStrike">
                <a:solidFill>
                  <a:srgbClr val="008080"/>
                </a:solidFill>
                <a:latin typeface="Arial"/>
              </a:rPr>
              <a:t>4.6</a:t>
            </a: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AA3C2-909E-4BD6-8BCF-A59F83F3F93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e relative à la manifestat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 à l’it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léments fondamentaux L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relative au tit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relative à la livraison, la partie ou l’itération servant de base pour l’identification de la ressour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2.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F2EC8-2664-404C-9CBF-16538E1FA23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ur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10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rivilégié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source du titre prop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lus 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urces pour l’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lnSpc>
                <a:spcPct val="105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source dans son intégralité, avec un ordre de prior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lnSpc>
                <a:spcPct val="105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ite, toute autre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roche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 l’information est puisée d’une source extérie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lnSpc>
                <a:spcPct val="105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BD : Les crochets doivent être répétés pour les éléments successifs d’une même zone, p. ex.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0">
              <a:lnSpc>
                <a:spcPct val="105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Montréal] : [éditeur non identifié], [2013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41B4D-21CB-4051-8875-6329BCC9991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cription : ‘Prenez ce que vous voyez et acceptez ce que vous trouvez’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e de représentativité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incipes internationaux de catalog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général, ne pas modifier ce qui est sur la res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ésentation exac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vorise la réutilisation des données trouv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CFE11-333F-48CA-B116-64403BFE484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cription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juscu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654120" y="1547640"/>
            <a:ext cx="8229600" cy="2281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8093"/>
                </a:solidFill>
                <a:latin typeface="Arial"/>
              </a:rPr>
              <a:t>Accepte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les majuscules trouvées :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1066680" indent="-1066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45 10 $a Cairo : $b THE CITY VICTORIOUS /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$c Max Rodenbeck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50 ## $a FIRST VINTAGE DEPARTURES EDITION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654120" y="3828960"/>
            <a:ext cx="8229600" cy="1827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8093"/>
                </a:solidFill>
                <a:latin typeface="Arial"/>
              </a:rPr>
              <a:t>Change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les majuscules trouvées :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45 10 $a Cairo : $b the city victorious /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$c Max Rodenbeck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50 ## $a First Vintage Departures edition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1752480" y="5656320"/>
            <a:ext cx="632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93"/>
                </a:solidFill>
                <a:latin typeface="Arial"/>
                <a:ea typeface="ＭＳ Ｐゴシック"/>
              </a:rPr>
              <a:t>Ces deux transcriptions sont aussi acceptables l’une que l’autre!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0CA6B-E9E2-4E9B-A199-84BF0070A29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cription : Éléments transcrits vs Éléments enregistré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inction entre les éléments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transcri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les éléments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enregistr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les éléments </a:t>
            </a: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transcrits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énéralement accepter les données telles qu’elles sont trouvées sur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les éléments </a:t>
            </a: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enregistrés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’information trouvée est souvent adaptée (par exemple, les tirets dans un ISBN sont omi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C4B3E-6D36-4725-A12F-55D2C555C2D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cription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ngue et écritu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-226080">
              <a:lnSpc>
                <a:spcPct val="80000"/>
              </a:lnSpc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Transcri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… dans la langue et l’écriture utilisées dans la res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-226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e des éléments transcr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Éléments non transcr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-226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rs de </a:t>
            </a:r>
            <a:r>
              <a:rPr b="0" i="1" lang="en-US" sz="2000" spc="-1" strike="noStrike">
                <a:solidFill>
                  <a:srgbClr val="008093"/>
                </a:solidFill>
                <a:latin typeface="Arial"/>
              </a:rPr>
              <a:t>l’enregistre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’autres éléments (par exemple, importance matérielle, notes), les enregistrer en franç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-226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rs de </a:t>
            </a:r>
            <a:r>
              <a:rPr b="0" i="1" lang="en-US" sz="2000" spc="-1" strike="noStrike">
                <a:solidFill>
                  <a:srgbClr val="008093"/>
                </a:solidFill>
                <a:latin typeface="Arial"/>
              </a:rPr>
              <a:t>l’ajout de donné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à l’intérieur d’un élément, les enregistrer dans la langue et l’écriture de l’élément auquel elles sont ajout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-226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rs de </a:t>
            </a:r>
            <a:r>
              <a:rPr b="0" i="1" lang="en-US" sz="2000" spc="-1" strike="noStrike">
                <a:solidFill>
                  <a:srgbClr val="008093"/>
                </a:solidFill>
                <a:latin typeface="Arial"/>
              </a:rPr>
              <a:t>l’ajo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’un élément, généralement l’ajouter en franç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ce qui a trait aux écriture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non latin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la politique de LC dit de translittérer l’information ou de donner les deux formes (en utilisant des zones MARC 88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9DD81-2E53-46FE-8D8A-45DDFC3BDBC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’est-ce que je catalogue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WordArt 3"/>
          <p:cNvSpPr txBox="1"/>
          <p:nvPr/>
        </p:nvSpPr>
        <p:spPr>
          <a:xfrm rot="218400">
            <a:off x="1910880" y="2352600"/>
            <a:ext cx="5992920" cy="30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93"/>
                </a:solidFill>
                <a:latin typeface="Impact"/>
              </a:rPr>
              <a:t>Manifestation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93"/>
              </a:solidFill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F1DCA-6466-42F9-A01F-2472A3FDF0C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Pat Riva</cp:lastModifiedBy>
  <cp:lastPrinted>2010-10-18T15:40:26Z</cp:lastPrinted>
  <dcterms:modified xsi:type="dcterms:W3CDTF">2013-11-28T22:21:09Z</dcterms:modified>
  <cp:revision>294</cp:revision>
  <dc:subject/>
  <dc:title>Diapositive 1</dc:title>
</cp:coreProperties>
</file>