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8EB9A3B9-4B37-41DA-BDCD-E3BF715828CF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F2F1CFD-4874-4BE6-B332-B5A99E9ACF3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9DB6-2441-4635-A25C-91898388E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97FB-F2C6-4111-B83D-191F3191D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623C-4AFD-456A-A04F-69AC27470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323F-7C9A-4239-A7C3-C9F0BBB46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B7DF-EB39-4053-897C-EA4DF59F1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906A-D0F5-4AAD-974D-328A11EA8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0F1B-CF8C-4D44-9511-77BCEB3BA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A9AB-EF56-4B18-A0F5-A72C155BC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FE61-3055-4B4E-925C-858EE7EFF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B920-CC95-47CC-B11F-2798A6431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4A13-0641-483E-BE74-F2D88FA8B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6CE5-FEEF-40CE-A6C3-81DE78792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1833495-DD8F-4E3C-81D8-0847028AB32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3F27-452D-424D-AF8F-7D9F2C2CBE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D448-64C7-4930-B965-62FBA47FC9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223C-CBD0-444D-8EDD-6C6324F3C9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0301-3E80-441D-A3BC-639308D8E3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58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DCBB-3691-4EA4-BD51-57C8A89BB3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57D3-C39B-41CC-B637-647B20DB1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D0D1-A6F2-413F-9DD9-87A6810D62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 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.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1AAE-ADD0-4D2C-90FA-4CA3BEA4DA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8E7C-3519-4555-B348-D36332FDF3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89EB-CAAC-4D39-B0DE-34C98CA89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2485-80E7-4C3C-9115-AEB3D9DE14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A2D0-19BE-4D91-8D37-343ADC7B11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FFCB-974F-429A-B3F6-2908FCF379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3FC8-BABE-41FF-BEFD-C6EC9393BA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BE08-DFCB-44F6-A673-2E96620E8A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D796-E9C3-4E17-B5BE-00CC5145C6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tout mot ou toute expression indiquant la fonction (autre que celle de publ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B134-41EE-4977-9AF3-76B184D796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BC86-3461-4AC8-BFAD-3D70660A01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5C80-67F8-47B8-BABE-2E0E53A129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entre crochets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AB03-F403-4831-BF9E-E563421ED0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CC21-4983-4F77-A65E-CC664F172D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002B-068B-4BD2-AA9F-C4F312DE1E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970 et 197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800 et 189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8081-EAFB-443E-842A-90D6F73A82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LC-PCC PS :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4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(ou des termes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phonogram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54508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AB6A-94E5-4F89-9E1D-E21179B9F0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93B9-DFC2-488E-B6C9-3284BC9AB2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777A-E8DC-49A0-8CF1-611B25452A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B9FB-C319-4701-9C65-D0FE49FF9F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57C1-6745-4C5E-BB23-C5D41D3791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la partie ou l’itération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311C-A813-411D-9ED3-B664F304AF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D : Les crochets doivent être répétés pour les éléments successifs d’une même zone, p. ex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ntréal] : [éditeur non identifié], [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8F16-1B34-430C-B213-52C1EACA83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8AC0-8FD0-4D16-AF86-DF4B6DF496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7322-8A22-48F3-AE28-601B4A64EF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E128-054C-46C5-AE4A-159CE91CE9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8B1D-0EA0-4DE9-9DAD-C60AEAC85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51B2-BEAF-49BD-B195-FC2A6F668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1:09Z</dcterms:modified>
  <cp:revision>294</cp:revision>
  <dc:subject/>
  <dc:title>Diapositive 1</dc:title>
</cp:coreProperties>
</file>