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head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38BCB5E4-CB37-458F-8C48-39CC581ACAED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29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FDF6A29B-B7F9-4A84-A5C0-9F4D76EC08B2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Mention de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titre propre de la collection, la numérotation au sein de la collection, le titre propre de la sous-collection, et la numérotation au sein de la sous-collection sont tous des éléments fondamentaux. Les autres sous-éléments relatifs à la mention de collection sont optionn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instructions sur l’enregistrement de la mention de collection se trouvent sous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2.1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uant aux sources d’information, les instructions se trouvent sous chacun des sous-éléments qui constituent la mention de collection. Prenez également note que le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C-PCC-PS 2.12.1.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donne comme instruction de prendre la collection principale et les sous-collections d’une source contenant les deux titres à la fo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’ailleurs, on se souviendra que LC n’établit plus de points d’accès autorisés aux titres des collections (en 83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41D5-AAEF-4454-92A1-4405A5303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F3AC4-BEC3-4EFA-81B4-21BF936BF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6F3E1-0E7F-4728-BF28-CCA783756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3DB7D-2FDB-4014-8292-3C246A5C18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3B055-1C82-4542-B2D3-A4AF67E16A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7E150-6158-4958-B20A-588FA6018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BA1EC-38CD-4913-8692-48A449358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C59EA-BA95-4021-AC32-3DE057D94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5AD66-2B88-41FC-B0AE-2A11DCEAE1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95A01-10AB-4A17-8314-1A32D2BF2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77E4D-3F05-4BF0-B4B3-2B6A93180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FF79D-7722-4E5B-B9E9-AD26A99C1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D58EB6F-B999-4BBE-8254-5CB115870FB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Éléments fondamentaux du chapitre 2 : </a:t>
            </a:r>
            <a:br>
              <a:rPr sz="2800"/>
            </a:b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« Identification des manifestations et des items 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mp d’application = «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itre principal d’une res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’est-à-dire le titre normalement utilisé pour citer la ressource) » = le titre de ce qui est catalog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présentativ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1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e pas corriger les erre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mon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n’y aura plus de « [sic] » ou « [i.e. ____ ]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ner une note pour expliq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D8D44-F166-40A4-89EA-A2E3CE987F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reur dans le 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011600" y="3124080"/>
            <a:ext cx="7514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ette</a:t>
            </a:r>
            <a:r>
              <a:rPr b="0" lang="fr-CA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corrig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$a Tuesday’s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320" y="4648320"/>
            <a:ext cx="90676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publication en sér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Zoology 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mal orthographié sur le numéro 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Zooolog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14400" y="1905120"/>
            <a:ext cx="7772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CAA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[i.e. Tuesday’s] tasks 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78371-7E06-429F-AB32-DAAE804A0B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responsabilité relative au titre propre - Transcri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C-PCC PS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 Généralement ne pas omettre les noms dans une mention de responsabilité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57200" y="3432240"/>
            <a:ext cx="830592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by Susan Brown, Melanie Carlson, Stephen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ndell, Kevin Ott, and Janet Wilson.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 2.4.1.5</a:t>
            </a:r>
            <a:r>
              <a:rPr b="1" lang="fr-CA" sz="18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ermet 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… / $c by Susan Brown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[et quatre autres]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/LC-PCC PS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245 $a … / $c by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Susan Brown,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Melanie Carlson, Stephen Lindell, Kevin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Ott, and Janet Wilson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68240" y="6019920"/>
            <a:ext cx="7633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45 $a … / $c by Susan Brown … [et al.]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762120" y="2547360"/>
            <a:ext cx="8121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« Règle de trois » -- Changement par rapport aux RCAA2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Line 9"/>
          <p:cNvSpPr/>
          <p:nvPr/>
        </p:nvSpPr>
        <p:spPr>
          <a:xfrm>
            <a:off x="1752480" y="5791320"/>
            <a:ext cx="563904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1676520" y="5791320"/>
            <a:ext cx="579096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3FB60-7344-455E-892C-C00ABB1A13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plusieurs mentions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 l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miè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registrée est req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dans l’ordre indiqué par la séquence, la disposition ou la typographie sur la source d’information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toutes les mentions de responsabilité ne sont pas indiquées, donner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réfé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à celles identifiant les créateurs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intellectuel ou artist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2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38080" y="4572000"/>
            <a:ext cx="780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sour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“introduction par _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’il y a uniquement une mention transcrite dans 245 $c, donner “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0B511-6B75-4111-9227-E299AA7F9A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ion de l’édition et indication d’un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vision nommée d’une éd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tel que trouvé (sous la ligne directrice générale dans 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Pour les éléments transcrits, utiliser uniquement les abréviations trouvées dans les sources d’information pour l’élément » (Annex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968480" y="4008960"/>
            <a:ext cx="64436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Third revised edi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3rd rev. ed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Third revised edi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976400" y="5237640"/>
            <a:ext cx="6428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nd enlarged ed., revised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250 $a 2nd enl. ed., rev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  250 $a 2nd enlarged ed., revised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B1829-F32C-4C26-99CD-D168474D67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éléments RDA dans MARC 26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roduc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ubl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diffusion ou de distribu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fabr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de copyright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élément distinct de la date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 dans le format bibliographique MARC :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15CAE-52BC-4068-907B-324EC816CE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'est jamais utilisé en RD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placé par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ur 2 précise la fonction de la m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960" y="3659040"/>
            <a:ext cx="8218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= Production (document n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ublié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 = Publica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 = Diffus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 = Fabricat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anufacture (impression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4 = Date de copyrigh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906BC-3CCB-48C1-B4E2-4E2910A3B7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s-zones</a:t>
            </a:r>
            <a:br>
              <a:rPr sz="2800"/>
            </a:b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Lie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Nom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nterprétées selon la valeur dans ind.2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lieu d'édition :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nom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'éditeur,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publication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 copyright 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(pas d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o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1B67B-767D-4E3A-8D45-77C1401C45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 les PES et ressources intégr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dicateur 1 (séquence des mention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# = Aucune information fournie / Prem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= Intermédiair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 = Courant / Plus ré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#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Paris ;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New York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64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80-mai 199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juin 1993-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81D2F-D965-4B61-94FC-C3241C2DFC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les notices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détaillée des élé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8D6F2-3283-451A-BFED-2E808EB971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ressources publ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– « une mention identifiant le ou les lieux de publication, le ou les éditeurs, et la ou les dates de publication d’une ressource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64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ond indicateur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7D336-4DF1-4BE2-A83F-A4F18086A0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: si plus d’un lieu, seul le premier enregistré est req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les lieux de publication selon la forme qui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re à la fois le nom de lieu et les noms des juridictions plus vastes s’ils sont pré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d’ajouter une juridiction plus vaste si elle n’est pas déjà sur la ressource – jugement du catalogu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2F48B-7A20-4E80-B206-BE8F8A69B7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 d’un 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plus d’un lieu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ul le premi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registré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cun « pays d’origine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besoin de chercher un lieu au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C6A4D-2960-41BD-8620-3E65E66C70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lieu de publication ou le lieu de publication probable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tant que po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 bénéfice des utilisateurs et des catalogueurs si le lieu de publication n’est pas identifi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2.8.2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que aux catalogueurs de fournir si possible un lieu de publication au lieu d’enregistr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eu de publication non identifi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69BD5-A732-452A-8963-4DC84AC0F3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d’un li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914400" y="4610160"/>
            <a:ext cx="7969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nu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: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[Canada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probable :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</a:t>
            </a:r>
            <a:r>
              <a:rPr b="1" lang="fr-CA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Espagne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93840" y="1600200"/>
            <a:ext cx="848988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connu :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Toronto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 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unich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, mais pays,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rovince, etc. connu :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ontréal?, Québec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F4B3D-B111-4B91-B32F-5D4658AD1B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: Changement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 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emier lie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publication est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[S.l.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’est plu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Ne pas corri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fictive ou erronée; faire une note pour 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235160" y="2318040"/>
            <a:ext cx="7191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ssour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 London - New York –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u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 ; $a New York ; $a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1000080" y="5099040"/>
            <a:ext cx="739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Red Oak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Iowa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ajout correct mais non requis)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70450-C7BD-4ACD-8470-1EA564A58D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– si plus d’un nom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eul le premier enregistr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8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le nom de l’éditeur selon la forme qui  figure sur la source d’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 pas omettre les niveaux dans la hiérarchie de collec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4352E-DD55-4CC7-B327-9BCF6687CD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ucun éditeur n’est identifié dans la ressource ou dans d’autres sources, enregistrer </a:t>
            </a:r>
            <a:br>
              <a:rPr sz="2800"/>
            </a:b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« [éditeur non identifié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 plus utilis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« [s.n.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46FC7-76A7-4CF2-A274-56F8DF081EA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46000" y="150804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New York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J.J. Wilson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Publishing Company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Pas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b Wils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46000" y="3032280"/>
            <a:ext cx="723924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: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Humanities Association, Literature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ivision, Renaissance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Chicag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Humanities Association,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Division,</a:t>
            </a:r>
            <a:r>
              <a:rPr b="0" lang="fr-CA" sz="18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Renaissance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846000" y="486108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Toronto -- Pilkington Pub. Co.    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ouston -- Davidson Publishers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Toront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Pilkingt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846000" y="6080040"/>
            <a:ext cx="7239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[éditeur non identifié]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386F8-1070-4296-96DB-88F20D53FE3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8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la date telle qu’elle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1.8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mière alternative), transcrire les chiffres romains pour les dates de publication; ne pas convertir en chiffres ara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es dates du calendrier grégorien ou julien si elles ne sont pas déjà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92104-C7D1-4C4E-9327-AA1F00A8362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notice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Guide/18 contient le code « i » (ponctuation ISBD comprise) ; peut aussi contenir « c » (ponctuation ISBD om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rdre des sous-zones recommandé par OCLC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0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QMBN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d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QMBN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Q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47750-9B93-4814-A576-4ACE05B4C4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: Changements RDA (ressource en une parti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n’y a aucune date de publication sur la ressource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e date probab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orsque c’est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vr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2.8.6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r l’ajout d’une date de publication probable au lieu de donn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[date de publication non identifiée]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8F807-62ED-4BEF-90B3-60B709F081E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s fournies -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catégories dans RDA 1.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réelle con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une ou l’autre de deux années consécu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09 ou 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?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cart probable d’années (« entre ___ et ___?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2008 et 2010?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 ancienne et/ou plus récente date possible connue (« pas avant », « pas après » ou « entre ___ et ___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pas avant le 15 janvier 20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332A1-E2BF-4446-8449-45C836D93AB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copyr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les dates de publication ou de diffusion ou de distribution ne sont pas identifiées pour une ressource en une par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dates de copyright ne sont pas requises pour les monographies en plusieurs parties, les publications en série et les ressources intégratr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céder du symbole de copyright (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ou du symbole de phonogramme (</a:t>
            </a:r>
            <a:r>
              <a:rPr b="0" lang="en-US" sz="23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264, second indicateur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la seule sous-zone utilisée; pas de point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523880" y="5337000"/>
            <a:ext cx="6096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xemples 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©200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</a:t>
            </a:r>
            <a:r>
              <a:rPr b="1" lang="en-US" sz="20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1983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E282B-927E-493D-9F04-48CE3BB6F6F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ous-éléments fondamenta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sous-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sous-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4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9849-4CAF-424C-9E2D-A7468235569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érotation à l’intérieur de la collection et à l’intérieur de la sous-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2.12.9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t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 2.12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490 $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ranscrire les termes et les chiffr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tels que su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Utiliser l’annexe B (abréviations) seulement pour le point d’accès en 8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lignes directrices sont généralement les mêmes que celles pour la numérotation des publications en série (RDA 2.6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381480" y="5227560"/>
            <a:ext cx="4713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volu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3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381480" y="5927760"/>
            <a:ext cx="4757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Band LXXXVIII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98EC9-0B2C-4658-9340-3A837EBC345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= « une chaîne de caractères associée à une manifestation et qui sert à distinguer cette manifestation d’autres manifestations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plus d’un identifiant pour la manifestation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ivilégier un identifiant reconnu à l’échelle internation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89DC4-6FA0-4101-8ED6-0E473E30FFE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80"/>
                </a:solidFill>
                <a:latin typeface="Arial"/>
              </a:rPr>
              <a:t>Catégori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’identifi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SBN, ISSN et autres identifiants enregistrés selon des schémas reconnus à l’échelle internationa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dentifiants attribués par des éditeurs, des diffuseurs ou des distributeurs, des centres d’information, etc., selon des schémas conçus à l’inter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les numéros d’éditeur pour la musique et les cota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pas les URL, ce sont des localisations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 (voir RDA </a:t>
            </a: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4.6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E65D0-C3FC-4A8C-B5E0-8D2D3BB35E1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relative à la manifest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 à l’i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s fondamentaux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au ti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à la livraison, à la partie servant de base pour l’identification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BEC81-B550-4943-B571-FE7DDB20C27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rivilégié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source du titre pro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rces pour l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source dans son intégralité, avec un ordre de pri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ite, toute autr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roch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l’information est puisée d’une source extérie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2F2CA-7152-4484-8F64-7A716E02DE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‘Prenez ce que vous voyez et acceptez ce que vous trouvez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représentativité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ncipes internationaux de catalog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ne pas modifier ce qui est sur la res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ésentation exa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a réutilisation des données trouv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11A2E-A7D2-40D1-864F-C973285BD4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juscu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54120" y="1547640"/>
            <a:ext cx="8229600" cy="228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Accept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54120" y="3828960"/>
            <a:ext cx="8229600" cy="1827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Chang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752480" y="565632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Ces deux transcriptions sont aussi acceptables l’une que l’autre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213D7-2931-4F98-AB46-526CEF86C4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Éléments transcrits vs Éléments enregistr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 entre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ranscr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enregist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transcrit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énéralement accepter les données telles qu’elles sont trouvées sur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enregistré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trouvée est souvent adaptée (par exemple, les tirets dans un ISBN sont om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8966A-9C65-4BD7-BAAA-827A3C96B0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et écri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Transcr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dans la langue et l’écriture utilisées dans la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 des éléments transcr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s non transcr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enregist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autres éléments (par exemple, importance matérielle, notes), les enregistr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 de donné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à l’intérieur d’un élément, les enregistrer dans la langue et l’écriture de l’élément auquel elles sont ajou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un élément, généralement l’ajout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ce qui a trait aux 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n lat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a politique de LC dit de translittérer l’information ou de donner les deux formes (en utilisant des zones MARC 8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E4748-FF55-4A8E-8A36-E5D217C766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’est-ce que je catalogu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 rot="218400">
            <a:off x="1910880" y="2352600"/>
            <a:ext cx="5992920" cy="30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93"/>
                </a:solidFill>
                <a:latin typeface="Impact"/>
              </a:rPr>
              <a:t>Manifestation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93"/>
              </a:soli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DBD26-C468-4F1C-AF0B-E8A0A8EDE3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9T22:25:31Z</dcterms:modified>
  <cp:revision>284</cp:revision>
  <dc:subject/>
  <dc:title>Diapositive 1</dc:title>
</cp:coreProperties>
</file>