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92A82D1-840A-46B5-98A5-74B56986D424}"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D16C41A-56ED-48DA-A77D-9A592FC77E8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60B85E-77F3-4F61-9413-B1951E6BF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F128B3-7989-4BFD-B7B6-C52E6EADEE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D4837F-C386-4F74-BDEB-95E6C629A0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CCC2F4-F444-4629-985A-71BC3D3DB5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5A898E-57F0-4DB8-95F0-7205F67728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DC2607-6F00-4C4B-B70B-C359B395B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902CB4-2BD4-4588-A051-920644102A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B4B80B-AA26-4CCE-8855-F717224C44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3CEC07-9360-4B5A-9C62-2C233E0EA2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E97A5-A241-4BEC-A1D0-3511A6C76F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261544-47C9-4733-8D24-BBB4DAC32F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EE7964-B44F-4AAE-8756-7CFB1640DC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D7BE1A-9C70-47B3-9A87-C3A5DCED91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F6B51E-74A6-4B6E-BBC1-D2AA586654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759C1B-1A19-4218-9533-19320B070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78"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79"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0"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1"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2"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3"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4"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5"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6"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7"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88"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89"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50385ED-6811-415F-81DC-0DE43C9D7D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4"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5"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6"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7"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98"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99"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0"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1"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3" name=""/>
          <p:cNvGrpSpPr/>
          <p:nvPr/>
        </p:nvGrpSpPr>
        <p:grpSpPr>
          <a:xfrm>
            <a:off x="5984640" y="4267080"/>
            <a:ext cx="2012760" cy="1694520"/>
            <a:chOff x="5984640" y="4267080"/>
            <a:chExt cx="2012760" cy="1694520"/>
          </a:xfrm>
        </p:grpSpPr>
        <p:sp>
          <p:nvSpPr>
            <p:cNvPr id="104"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5"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6"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7"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08"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09"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0"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3"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4"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E04EB5CC-369C-4025-9144-F870499EC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0FA69151-7166-45C9-873B-2471649B84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18"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98C6626-1915-48C6-A5D3-56DA4135BC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907D292-BA6B-4861-8151-8A52C24123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E31E686-27D3-4330-BCD6-5FF0426643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DCCFD3B-D80D-4DDF-A821-29ED9C461C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BAEF0C20-CFEF-47D5-9747-38D6BC109A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F08F4B-76E6-4CF8-93C0-D44E4EB850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5479C5BD-3FD1-46B6-8A2E-3CBD4AF8DB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BF9060-FE77-4D9E-8304-4B07E30C70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2"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8A689091-D455-4CD6-946C-E6B87A89F6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65D78B5B-6AC3-4B08-B6C0-77893A7E1B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2450D1-4A46-42CF-B568-3BCEC0D593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DAF53E-CC89-48B0-B87F-CD7CABD49C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9EE73A-BEA9-4375-A86E-8EFBF723D2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007ECC-B1BB-4425-961F-C3CFD33BF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3B7C97-5E34-49B5-92DF-D76DB0C9C1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524D66-01A1-443A-9F04-7EFDFCC90E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92C0A8-4C78-484C-B133-DEB0E0CB30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49"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6E86CCAE-CE1F-43EC-AA42-A75B1D9925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B037E0-F335-49FD-A478-EE79B16CD4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D0217F-EAFF-4542-8EE2-431E9ED98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4C8EA4-F6D5-428F-B480-190EFF385C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77DA79-5B0D-456A-AF4A-BBB0EC789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F9F80748-AC32-405E-8490-5F031AF2D31F}"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cp:lastModifiedBy>
  <cp:lastPrinted>2010-10-18T15:40:26Z</cp:lastPrinted>
  <dcterms:modified xsi:type="dcterms:W3CDTF">2013-10-22T20:58:20Z</dcterms:modified>
  <cp:revision>261</cp:revision>
  <dc:subject/>
  <dc:title>Diapositive 1</dc:title>
</cp:coreProperties>
</file>