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410C74E-19BC-42A4-B3DF-D26C0735BDF2}"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74E92AB-B1F7-49A4-AD6F-479E8FD1058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337F8E-3F10-45E4-8CFF-1BD093BA94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A2377D-6322-41A1-A3F4-E322EAA755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A9EB84-D8C4-4AC8-B406-1F19AAA6F6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3D3693-9171-4514-803E-7A390198C0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17A1C5-20C1-46D1-B44A-D609EA632A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9FA1FB-83DB-4378-8ED5-39FC02C26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DDD2AE-9338-434A-8D3E-BC44DFE109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F25DCF-BB7D-487B-9D27-7B7E8D6852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F02FFF-6F43-4D41-BFB4-A1951589AE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3160A5-2CBB-4A40-95AB-5CFBD522D2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6E69D1-7A1D-477A-B5D6-E1A6C741A8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FEA84E-D853-4892-AB5E-7E81D9C154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6FC368-67F0-44E5-9079-92AEA76037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A86DC9-AEDE-412B-AF77-692533048C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3AD6AA-D945-4539-9331-F7B68F07EC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78"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79"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0"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1"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2"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3"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4"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5"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6"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7"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88"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89"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0"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766DDF4-BDA9-4CE8-8092-389E24C9ED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4"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5"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6"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7"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98"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99"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0"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1"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3" name=""/>
          <p:cNvGrpSpPr/>
          <p:nvPr/>
        </p:nvGrpSpPr>
        <p:grpSpPr>
          <a:xfrm>
            <a:off x="5984640" y="4267080"/>
            <a:ext cx="2012760" cy="1694520"/>
            <a:chOff x="5984640" y="4267080"/>
            <a:chExt cx="2012760" cy="1694520"/>
          </a:xfrm>
        </p:grpSpPr>
        <p:sp>
          <p:nvSpPr>
            <p:cNvPr id="104"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5"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6"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7"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08"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09"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0"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3"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4"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FE1C713E-CF83-4D95-8B43-CEE22782ED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C4038C5-9ABF-4C69-A739-E7FCED9450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18"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FC30A4F-4616-45A6-92F9-C3A0ECFC7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09FB5009-E01A-451A-8B56-78D93BDDD4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2D30D03-89D5-4C5F-8875-7F19353BC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EF106650-2158-4F89-AA3D-611CA06A77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5A7A944A-E2F5-4B13-93E3-A9CB5C4D91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70C149-D3B6-4871-8ACB-AE3EFCF9A7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6E4E1F40-3C95-40D9-96E1-E1D5F0C03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A1FAAC-15BD-45ED-8C46-C9FD3A278C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2"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F24DB65A-1E03-4CB2-8164-0F89B6C46F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AD708A15-6E7B-4D75-89CB-E1B32A90B4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AD08D8-120C-4570-9881-67CDB0EAAF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129D27-8A33-4195-A80E-940C9BAF45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8CE55F-E99D-4959-9CA4-D1A20A2C21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1B7A58-5A9C-4C77-A63E-07B6B07606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4A8800-06F4-4BE8-8CD4-61934B340F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140F08-0A57-4FD9-B5DB-01117EBFF9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536A50-2001-4821-BBFE-C7FE0E2AC1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49"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E807D158-8B5E-4FCC-BCC3-86931F242C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2D2B1C-639B-4B78-A05D-57AED798A6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396BC2-9258-43EA-9B62-AC0CB6BBD4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90A1D8-74FF-4677-B39A-A5EBAC8F67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6CCF0F-1D7F-4FB0-85B6-CC662BAC80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94EF33DB-A23C-49E2-8222-BC2050DFFEBA}"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cp:lastModifiedBy>
  <cp:lastPrinted>2010-10-18T15:40:26Z</cp:lastPrinted>
  <dcterms:modified xsi:type="dcterms:W3CDTF">2013-10-22T20:58:20Z</dcterms:modified>
  <cp:revision>261</cp:revision>
  <dc:subject/>
  <dc:title>Diapositive 1</dc:title>
</cp:coreProperties>
</file>