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D49DCD7-064F-4117-9404-80438A3D9784}"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02EB0C9-3897-4D9B-8EF5-F8CBF469CA9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121254-C564-4165-9CFB-95E13CD76F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0383FF-370B-4757-BE76-3DECEEB771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E1275F-27B2-4F44-A976-34FA0E4837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46E809-427A-495E-8888-5420745B79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698DC6-97BF-4D89-9B41-944FE608E4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36458C-6995-4581-B3D5-513B935D49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D3DB22-C818-40BD-AB2C-74D97DA20B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362A53-6AFD-4301-B7A8-606F4378A7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FA59D1-D819-4FE9-9462-E83E2E77A0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7BFCDB-AE4E-440F-97F4-49E1306BFA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ABF684-8B8E-43D2-9CFA-33458DDED4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41ED7E-7358-4DDC-9AD0-06064EF0BC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C8D252B-39B9-48BC-AB17-3D988CCB8C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Image 7" descr="Image CA-CC.jpg"/>
          <p:cNvPicPr/>
          <p:nvPr/>
        </p:nvPicPr>
        <p:blipFill>
          <a:blip r:embed="rId1"/>
          <a:srcRect l="0" t="4545" r="0" b="0"/>
          <a:stretch/>
        </p:blipFill>
        <p:spPr>
          <a:xfrm>
            <a:off x="0" y="0"/>
            <a:ext cx="9144000" cy="4800600"/>
          </a:xfrm>
          <a:prstGeom prst="rect">
            <a:avLst/>
          </a:prstGeom>
          <a:ln w="0">
            <a:noFill/>
          </a:ln>
        </p:spPr>
      </p:pic>
      <p:pic>
        <p:nvPicPr>
          <p:cNvPr id="49" name="Image 9" descr="bandeauux ppt5.jpg"/>
          <p:cNvPicPr/>
          <p:nvPr/>
        </p:nvPicPr>
        <p:blipFill>
          <a:blip r:embed="rId2"/>
          <a:stretch/>
        </p:blipFill>
        <p:spPr>
          <a:xfrm>
            <a:off x="0" y="228600"/>
            <a:ext cx="9144000" cy="1146240"/>
          </a:xfrm>
          <a:prstGeom prst="rect">
            <a:avLst/>
          </a:prstGeom>
          <a:ln w="0">
            <a:noFill/>
          </a:ln>
        </p:spPr>
      </p:pic>
      <p:sp>
        <p:nvSpPr>
          <p:cNvPr id="50"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1"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52"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53"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43AFD1-CA11-4364-92A5-B39A6744F6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misé pour être utilisé comme produit en lign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et accès de tout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utilisables dans un environnement numérique (Internet, catalogues Web,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adaptables aux structures de bases de données émergen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7F542B-A2DD-4F1A-ABD0-DF7D2FE471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Spécifications fonctionnelles des notices bibliographiques (</a:t>
            </a:r>
            <a:r>
              <a:rPr b="0" i="1" lang="fr-CA" sz="2400" spc="-1" strike="noStrike">
                <a:solidFill>
                  <a:srgbClr val="008093"/>
                </a:solidFill>
                <a:latin typeface="Arial"/>
              </a:rPr>
              <a:t>FRBR</a:t>
            </a:r>
            <a:r>
              <a:rPr b="0" i="1" lang="fr-CA" sz="2400" spc="-1" strike="noStrike">
                <a:solidFill>
                  <a:srgbClr val="000000"/>
                </a:solidFill>
                <a:latin typeface="Arial"/>
              </a:rPr>
              <a:t>; 1998, trad. fr.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Fonctionnalités requises des données d’autorité (</a:t>
            </a:r>
            <a:r>
              <a:rPr b="0" i="1" lang="fr-CA" sz="2400" spc="-1" strike="noStrike">
                <a:solidFill>
                  <a:srgbClr val="008093"/>
                </a:solidFill>
                <a:latin typeface="Arial"/>
              </a:rPr>
              <a:t>FRAD</a:t>
            </a:r>
            <a:r>
              <a:rPr b="0" i="1" lang="fr-CA" sz="2400" spc="-1" strike="noStrike">
                <a:solidFill>
                  <a:srgbClr val="000000"/>
                </a:solidFill>
                <a:latin typeface="Arial"/>
              </a:rPr>
              <a:t>; 2009, trad. f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Principes internationaux de catalogage (</a:t>
            </a:r>
            <a:r>
              <a:rPr b="0" i="1" lang="fr-CA" sz="2400" spc="-1" strike="noStrike">
                <a:solidFill>
                  <a:srgbClr val="008093"/>
                </a:solidFill>
                <a:latin typeface="Arial"/>
              </a:rPr>
              <a:t>ICP</a:t>
            </a:r>
            <a:r>
              <a:rPr b="0" i="1" lang="fr-CA" sz="2400" spc="-1" strike="noStrike">
                <a:solidFill>
                  <a:srgbClr val="000000"/>
                </a:solidFill>
                <a:latin typeface="Arial"/>
              </a:rPr>
              <a:t>; 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D52FD1-01C1-4302-8F39-BB96CE9BF9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80"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81"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82"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83"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84"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85"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86"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87"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88"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89"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90"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1"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2"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3"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4"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40DF4D2D-75E4-435E-8A6E-B6CB736363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96"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97"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98"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99"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100"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01"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2"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3"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4"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05" name=""/>
          <p:cNvGrpSpPr/>
          <p:nvPr/>
        </p:nvGrpSpPr>
        <p:grpSpPr>
          <a:xfrm>
            <a:off x="5984640" y="4267080"/>
            <a:ext cx="2012760" cy="1694520"/>
            <a:chOff x="5984640" y="4267080"/>
            <a:chExt cx="2012760" cy="1694520"/>
          </a:xfrm>
        </p:grpSpPr>
        <p:sp>
          <p:nvSpPr>
            <p:cNvPr id="106" name=""/>
            <p:cNvSpPr/>
            <p:nvPr/>
          </p:nvSpPr>
          <p:spPr>
            <a:xfrm>
              <a:off x="6620400" y="4267080"/>
              <a:ext cx="13770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07"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08"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09"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10"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1"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2"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3"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4"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5"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6"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7"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8A444F8D-9556-4FCE-AB7D-CE5DC12D57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D672E4DC-DE0F-41FC-ABA1-CF60CD8E4A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0"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34F9467C-BD92-4539-AA22-65AED52F58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2"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F282F539-FA96-4E16-AE6F-7F13C86F49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4"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93F47A01-DEE1-47DE-94B4-4BF4726D78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6"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20F84392-F2C2-4499-8C14-80AD8448CA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e la journée</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à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Toolki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manifestations et des item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es supports matériel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u conten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îne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 po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ersonnes, collectivités, lieux</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et expression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clus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E3C3A6-0AA9-4151-ABE1-B04A270B49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206FC549-3BF8-4FBC-8576-59C551061E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30"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1E2EEB3C-7D27-4435-8E34-C17FE0B889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34C73D-C438-42CE-A62F-1620585795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4"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2EEC0A02-B23A-478C-A3BA-0294F3FA5B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6"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1A4F2AE5-F8A2-4293-A6F2-C8E96FE683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3403ED-12F7-45CB-9E00-FABA7AA7CE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05BD9B-2E91-447C-B864-EC1D6BF89C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B4DDC8-D91B-40F6-9A77-2A990A62C8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és sur les attributs obligatoires pour une notice de niveau national (FRBR/FRAD)</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s au niveau de l’élé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 </a:t>
            </a:r>
            <a:r>
              <a:rPr b="0" lang="en-US" sz="1800" spc="-1" strike="noStrike">
                <a:solidFill>
                  <a:srgbClr val="008093"/>
                </a:solidFill>
                <a:latin typeface="Arial"/>
              </a:rPr>
              <a:t>Éléments fondamentaux</a:t>
            </a:r>
            <a:r>
              <a:rPr b="0" lang="en-US" sz="1800" spc="-1" strike="noStrike">
                <a:solidFill>
                  <a:srgbClr val="000000"/>
                </a:solidFill>
                <a:latin typeface="Arial"/>
              </a:rPr>
              <a:t> »)</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Éléments fondamentaux si » – situation décrite</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léments fondamentaux listés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 un groupe dans RDA 0.6</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parément dans les chapitres appropriés</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a identifié des éléments additionnels comme « éléments fondamentaux LC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4FD27C-35FD-4E74-BE3A-EA557C0FF9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irement indiquées dans le Toolkit par des lignes verticales et du texte en ver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s à une instruct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ées additionnell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mission de données</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ropres à l’agen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EDD103-06FE-4F08-B6BC-9F24C7FEC3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3F60EB-D80D-41A1-ACE6-B4AAB6700A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79D15F-C719-478F-90C7-5510278011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151"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2FDFA156-B7CB-44A0-A2A0-CBAE2CD6CC0F}"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C388D3-5CB3-4DEB-8C58-E29D75F7C0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210801-BBF5-46A9-9429-E6F0C78E45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1863AC-1ED9-4C16-A567-887576EC3D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plus en plus complex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nque de structure logiqu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élange de données de contenu et de support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hiérarchiques absent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ntré anglo-américai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ède FRB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supporte pas assez la ‘collocation’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a pas prévu l’Internet et les métadonnées ou les vocabulaires bien structur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85EE29-85B7-46E6-9CB4-7DDF7F52F9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68" name="Picture 7" descr="RDAlogo_rgb"/>
          <p:cNvPicPr/>
          <p:nvPr/>
        </p:nvPicPr>
        <p:blipFill>
          <a:blip r:embed="rId1"/>
          <a:stretch/>
        </p:blipFill>
        <p:spPr>
          <a:xfrm>
            <a:off x="4419720" y="1981080"/>
            <a:ext cx="4459320" cy="1236960"/>
          </a:xfrm>
          <a:prstGeom prst="rect">
            <a:avLst/>
          </a:prstGeom>
          <a:ln w="0">
            <a:noFill/>
          </a:ln>
        </p:spPr>
      </p:pic>
      <p:pic>
        <p:nvPicPr>
          <p:cNvPr id="69" name="Picture 7" descr="aacr"/>
          <p:cNvPicPr/>
          <p:nvPr/>
        </p:nvPicPr>
        <p:blipFill>
          <a:blip r:embed="rId2"/>
          <a:stretch/>
        </p:blipFill>
        <p:spPr>
          <a:xfrm>
            <a:off x="990720" y="1676520"/>
            <a:ext cx="2128680" cy="2590560"/>
          </a:xfrm>
          <a:prstGeom prst="rect">
            <a:avLst/>
          </a:prstGeom>
          <a:ln w="0">
            <a:noFill/>
          </a:ln>
        </p:spPr>
      </p:pic>
      <p:sp>
        <p:nvSpPr>
          <p:cNvPr id="70"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71" name="Straight Arrow Connector 8"/>
          <p:cNvCxnSpPr>
            <a:endCxn id="70"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72"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83484919-CD9F-4342-BBF1-A6E0B4E7BD4D}"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69"/>
                                        </p:tgtEl>
                                      </p:cBhvr>
                                    </p:animEffect>
                                    <p:set>
                                      <p:cBhvr>
                                        <p:cTn id="11" dur="1" fill="hold">
                                          <p:stCondLst>
                                            <p:cond delay="999"/>
                                          </p:stCondLst>
                                        </p:cTn>
                                        <p:tgtEl>
                                          <p:spTgt spid="69"/>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71"/>
                                        </p:tgtEl>
                                      </p:cBhvr>
                                    </p:animEffect>
                                    <p:set>
                                      <p:cBhvr>
                                        <p:cTn id="14" dur="1" fill="hold">
                                          <p:stCondLst>
                                            <p:cond delay="999"/>
                                          </p:stCondLst>
                                        </p:cTn>
                                        <p:tgtEl>
                                          <p:spTgt spid="71"/>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2"/>
                                        </p:tgtEl>
                                        <p:attrNameLst>
                                          <p:attrName>style.visibility</p:attrName>
                                        </p:attrNameLst>
                                      </p:cBhvr>
                                      <p:to>
                                        <p:strVal val="visible"/>
                                      </p:to>
                                    </p:set>
                                    <p:animEffect filter="dissolve" transition="in">
                                      <p:cBhvr additive="repl">
                                        <p:cTn id="19" dur="1000"/>
                                        <p:tgtEl>
                                          <p:spTgt spid="72"/>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1000"/>
                                        <p:tgtEl>
                                          <p:spTgt spid="68"/>
                                        </p:tgtEl>
                                      </p:cBhvr>
                                    </p:animEffect>
                                  </p:childTnLst>
                                </p:cTn>
                              </p:par>
                              <p:par>
                                <p:cTn id="23" nodeType="withEffect" fill="hold" presetClass="exit" presetID="9">
                                  <p:stCondLst>
                                    <p:cond delay="0"/>
                                  </p:stCondLst>
                                  <p:childTnLst>
                                    <p:animEffect filter="dissolve" transition="out">
                                      <p:cBhvr additive="repl">
                                        <p:cTn id="24" dur="1000"/>
                                        <p:tgtEl>
                                          <p:spTgt spid="70"/>
                                        </p:tgtEl>
                                      </p:cBhvr>
                                    </p:animEffect>
                                    <p:set>
                                      <p:cBhvr>
                                        <p:cTn id="25" dur="1" fill="hold">
                                          <p:stCondLst>
                                            <p:cond delay="999"/>
                                          </p:stCondLst>
                                        </p:cTn>
                                        <p:tgtEl>
                                          <p:spTgt spid="70"/>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72"/>
                                        </p:tgtEl>
                                      </p:cBhvr>
                                    </p:animEffect>
                                    <p:set>
                                      <p:cBhvr>
                                        <p:cTn id="2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29Z</dcterms:modified>
  <cp:revision>260</cp:revision>
  <dc:subject/>
  <dc:title>Diapositive 1</dc:title>
</cp:coreProperties>
</file>