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4BF442F-ADC8-49E3-98E5-3190859AB283}"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2BAD856-9F3E-494A-B211-EDF34F425BC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6B81C8-9C9D-4C1A-8A7C-69285B09B8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3B5668-0F9C-4829-9586-046E8C4236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6A431F-64BD-4BD3-8D5A-D22917EFCB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880A6C-12A3-4A2C-AAB6-E4FF2B44FD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10EF0A-BC05-48D0-8F54-F4DF3F7C66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0ED665-314F-4702-B4D2-83DA057926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41C0DD-09C1-4931-A770-F0C1D324E9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A04AF7-E8FB-4F80-9856-1E4B20E2D1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D13F61-2A26-40F9-9D09-E8AB516D61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60C488-781F-4A1C-BACF-50DA81AE40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F732EE-7F59-4123-840F-BE0BAF2279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85E73C-7177-4B73-BB9A-EA5D09309C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E5610F3-A42A-4C35-AD8F-17EE93FE4D0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Image 7" descr="Image CA-CC.jpg"/>
          <p:cNvPicPr/>
          <p:nvPr/>
        </p:nvPicPr>
        <p:blipFill>
          <a:blip r:embed="rId1"/>
          <a:srcRect l="0" t="4545" r="0" b="0"/>
          <a:stretch/>
        </p:blipFill>
        <p:spPr>
          <a:xfrm>
            <a:off x="0" y="0"/>
            <a:ext cx="9144000" cy="4800600"/>
          </a:xfrm>
          <a:prstGeom prst="rect">
            <a:avLst/>
          </a:prstGeom>
          <a:ln w="0">
            <a:noFill/>
          </a:ln>
        </p:spPr>
      </p:pic>
      <p:pic>
        <p:nvPicPr>
          <p:cNvPr id="49" name="Image 9" descr="bandeauux ppt5.jpg"/>
          <p:cNvPicPr/>
          <p:nvPr/>
        </p:nvPicPr>
        <p:blipFill>
          <a:blip r:embed="rId2"/>
          <a:stretch/>
        </p:blipFill>
        <p:spPr>
          <a:xfrm>
            <a:off x="0" y="228600"/>
            <a:ext cx="9144000" cy="1146240"/>
          </a:xfrm>
          <a:prstGeom prst="rect">
            <a:avLst/>
          </a:prstGeom>
          <a:ln w="0">
            <a:noFill/>
          </a:ln>
        </p:spPr>
      </p:pic>
      <p:sp>
        <p:nvSpPr>
          <p:cNvPr id="50"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51"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52"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53"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A85AD3-C6C4-4EFC-904B-D42FD9D0DC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misé pour être utilisé comme produit en lign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et accès de tout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utilisables dans un environnement numérique (Internet, catalogues Web,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adaptables aux structures de bases de données émergen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330569-B62E-465D-A16B-484CCA1A93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Spécifications fonctionnelles des notices bibliographiques (</a:t>
            </a:r>
            <a:r>
              <a:rPr b="0" i="1" lang="fr-CA" sz="2400" spc="-1" strike="noStrike">
                <a:solidFill>
                  <a:srgbClr val="008093"/>
                </a:solidFill>
                <a:latin typeface="Arial"/>
              </a:rPr>
              <a:t>FRBR</a:t>
            </a:r>
            <a:r>
              <a:rPr b="0" i="1" lang="fr-CA" sz="2400" spc="-1" strike="noStrike">
                <a:solidFill>
                  <a:srgbClr val="000000"/>
                </a:solidFill>
                <a:latin typeface="Arial"/>
              </a:rPr>
              <a:t>; 1998, trad. fr. 20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Fonctionnalités requises des données d’autorité (</a:t>
            </a:r>
            <a:r>
              <a:rPr b="0" i="1" lang="fr-CA" sz="2400" spc="-1" strike="noStrike">
                <a:solidFill>
                  <a:srgbClr val="008093"/>
                </a:solidFill>
                <a:latin typeface="Arial"/>
              </a:rPr>
              <a:t>FRAD</a:t>
            </a:r>
            <a:r>
              <a:rPr b="0" i="1" lang="fr-CA" sz="2400" spc="-1" strike="noStrike">
                <a:solidFill>
                  <a:srgbClr val="000000"/>
                </a:solidFill>
                <a:latin typeface="Arial"/>
              </a:rPr>
              <a:t>; 2009, trad. fr. 20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Principes internationaux de catalogage (</a:t>
            </a:r>
            <a:r>
              <a:rPr b="0" i="1" lang="fr-CA" sz="2400" spc="-1" strike="noStrike">
                <a:solidFill>
                  <a:srgbClr val="008093"/>
                </a:solidFill>
                <a:latin typeface="Arial"/>
              </a:rPr>
              <a:t>ICP</a:t>
            </a:r>
            <a:r>
              <a:rPr b="0" i="1" lang="fr-CA" sz="2400" spc="-1" strike="noStrike">
                <a:solidFill>
                  <a:srgbClr val="000000"/>
                </a:solidFill>
                <a:latin typeface="Arial"/>
              </a:rPr>
              <a:t>; 2009)</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882FB3-1A24-4074-841C-79CDDF438B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80"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81"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82"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83"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84"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85"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86"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87"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88"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89"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90"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1"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2"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3"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4"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1A0D91B1-76EE-492D-BD05-E45A7F0B18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96"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97"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98"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99"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100"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01"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2"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3"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4"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105" name=""/>
          <p:cNvGrpSpPr/>
          <p:nvPr/>
        </p:nvGrpSpPr>
        <p:grpSpPr>
          <a:xfrm>
            <a:off x="5984640" y="4267080"/>
            <a:ext cx="2012760" cy="1694520"/>
            <a:chOff x="5984640" y="4267080"/>
            <a:chExt cx="2012760" cy="1694520"/>
          </a:xfrm>
        </p:grpSpPr>
        <p:sp>
          <p:nvSpPr>
            <p:cNvPr id="106" name=""/>
            <p:cNvSpPr/>
            <p:nvPr/>
          </p:nvSpPr>
          <p:spPr>
            <a:xfrm>
              <a:off x="6620400" y="4267080"/>
              <a:ext cx="13770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107"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108"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109"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110"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1"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2"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3"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4"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5"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6"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7"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B5838E3D-6DE9-4C2D-B3E3-2F97CA0D27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093A80D1-BF1A-4277-AF89-86A5125F5F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0"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C3A37C5C-D121-45F6-A600-160182B3C4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2"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0675C756-6A14-4A60-AB47-D319315412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4"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12550E49-0F05-429B-AC00-A456861DE2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6"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EBDBA291-40DA-4FE5-8731-BE40149F4F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e la journée</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à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Toolki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manifestations et des item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es supports matériel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u conten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îne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 po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ersonnes, collectivités, lieux</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et expression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clus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8BCF9A-9796-4677-9F41-9AD49D1D1C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8D3521D5-A176-4D12-A598-07F16522CC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30"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10F1F2C9-409D-4A4E-9270-7D9251CF57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443D49-2837-43C4-A021-86F804832A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4"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2ACD856C-A062-4A7B-A3B2-98405503AB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6"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604F23A0-FC7A-47B4-B9B3-EBFA12AE88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90172D-8F69-4104-8180-28BA29BC59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4B5968-0B4B-4EB6-A6C4-6A517F7BD7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E86537-B9AE-429E-B602-DD9A8E2C9A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és sur les attributs obligatoires pour une notice de niveau national (FRBR/FRAD)</a:t>
            </a:r>
            <a:endParaRPr b="0" lang="en-US" sz="2000" spc="-1" strike="noStrike">
              <a:solidFill>
                <a:srgbClr val="000000"/>
              </a:solidFill>
              <a:latin typeface="Arial"/>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finis au niveau de l’élé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 </a:t>
            </a:r>
            <a:r>
              <a:rPr b="0" lang="en-US" sz="1800" spc="-1" strike="noStrike">
                <a:solidFill>
                  <a:srgbClr val="008093"/>
                </a:solidFill>
                <a:latin typeface="Arial"/>
              </a:rPr>
              <a:t>Éléments fondamentaux</a:t>
            </a:r>
            <a:r>
              <a:rPr b="0" lang="en-US" sz="1800" spc="-1" strike="noStrike">
                <a:solidFill>
                  <a:srgbClr val="000000"/>
                </a:solidFill>
                <a:latin typeface="Arial"/>
              </a:rPr>
              <a:t> »)</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Éléments fondamentaux si » – situation décrite</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léments fondamentaux listés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 un groupe dans RDA 0.6</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éparément dans les chapitres appropriés</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a identifié des éléments additionnels comme « éléments fondamentaux LC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5DF31A-0585-4D2B-BDE9-8522B48B8C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airement indiquées dans le Toolkit par des lignes verticales et du texte en ver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s à une instruct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ées additionnell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mission de données</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ropres à l’agen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A1EA9FB-B70E-4FC0-89C7-56114563E4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773278-5EEA-4D81-BDBA-E060EBC4C7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ABBCA6-D566-43FB-8C52-20D81E2777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151"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E1A8D8A8-4C00-4FD9-AF92-77C19F7BF8C0}"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D503270-3F1A-49DD-B17C-6E67720EF9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850D84F-59E1-46EC-84DC-193FEEE8F2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6E0059-C1CA-4B2E-BC2D-AA1EABCC1C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plus en plus complex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nque de structure logiqu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élange de données de contenu et de support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hiérarchiques absent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ntré anglo-américai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ède FRB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supporte pas assez la ‘collocation’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a pas prévu l’Internet et les métadonnées ou les vocabulaires bien structur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62353A-C0A5-4945-BC8D-BB2F02308C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68" name="Picture 7" descr="RDAlogo_rgb"/>
          <p:cNvPicPr/>
          <p:nvPr/>
        </p:nvPicPr>
        <p:blipFill>
          <a:blip r:embed="rId1"/>
          <a:stretch/>
        </p:blipFill>
        <p:spPr>
          <a:xfrm>
            <a:off x="4419720" y="1981080"/>
            <a:ext cx="4459320" cy="1236960"/>
          </a:xfrm>
          <a:prstGeom prst="rect">
            <a:avLst/>
          </a:prstGeom>
          <a:ln w="0">
            <a:noFill/>
          </a:ln>
        </p:spPr>
      </p:pic>
      <p:pic>
        <p:nvPicPr>
          <p:cNvPr id="69" name="Picture 7" descr="aacr"/>
          <p:cNvPicPr/>
          <p:nvPr/>
        </p:nvPicPr>
        <p:blipFill>
          <a:blip r:embed="rId2"/>
          <a:stretch/>
        </p:blipFill>
        <p:spPr>
          <a:xfrm>
            <a:off x="990720" y="1676520"/>
            <a:ext cx="2128680" cy="2590560"/>
          </a:xfrm>
          <a:prstGeom prst="rect">
            <a:avLst/>
          </a:prstGeom>
          <a:ln w="0">
            <a:noFill/>
          </a:ln>
        </p:spPr>
      </p:pic>
      <p:sp>
        <p:nvSpPr>
          <p:cNvPr id="70"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71" name="Straight Arrow Connector 8"/>
          <p:cNvCxnSpPr>
            <a:endCxn id="70"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72"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1D302EEE-71DB-4DB2-9190-D44BB06524B3}"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1"/>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69"/>
                                        </p:tgtEl>
                                      </p:cBhvr>
                                    </p:animEffect>
                                    <p:set>
                                      <p:cBhvr>
                                        <p:cTn id="11" dur="1" fill="hold">
                                          <p:stCondLst>
                                            <p:cond delay="999"/>
                                          </p:stCondLst>
                                        </p:cTn>
                                        <p:tgtEl>
                                          <p:spTgt spid="69"/>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71"/>
                                        </p:tgtEl>
                                      </p:cBhvr>
                                    </p:animEffect>
                                    <p:set>
                                      <p:cBhvr>
                                        <p:cTn id="14" dur="1" fill="hold">
                                          <p:stCondLst>
                                            <p:cond delay="999"/>
                                          </p:stCondLst>
                                        </p:cTn>
                                        <p:tgtEl>
                                          <p:spTgt spid="71"/>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72"/>
                                        </p:tgtEl>
                                        <p:attrNameLst>
                                          <p:attrName>style.visibility</p:attrName>
                                        </p:attrNameLst>
                                      </p:cBhvr>
                                      <p:to>
                                        <p:strVal val="visible"/>
                                      </p:to>
                                    </p:set>
                                    <p:animEffect filter="dissolve" transition="in">
                                      <p:cBhvr additive="repl">
                                        <p:cTn id="19" dur="1000"/>
                                        <p:tgtEl>
                                          <p:spTgt spid="72"/>
                                        </p:tgtEl>
                                      </p:cBhvr>
                                    </p:animEffect>
                                  </p:childTnLst>
                                </p:cTn>
                              </p:par>
                              <p:par>
                                <p:cTn id="20" nodeType="withEffect" fill="hold" presetClass="entr" presetID="9">
                                  <p:stCondLst>
                                    <p:cond delay="0"/>
                                  </p:stCondLst>
                                  <p:childTnLst>
                                    <p:set>
                                      <p:cBhvr>
                                        <p:cTn id="21" dur="1" fill="hold">
                                          <p:stCondLst>
                                            <p:cond delay="0"/>
                                          </p:stCondLst>
                                        </p:cTn>
                                        <p:tgtEl>
                                          <p:spTgt spid="68"/>
                                        </p:tgtEl>
                                        <p:attrNameLst>
                                          <p:attrName>style.visibility</p:attrName>
                                        </p:attrNameLst>
                                      </p:cBhvr>
                                      <p:to>
                                        <p:strVal val="visible"/>
                                      </p:to>
                                    </p:set>
                                    <p:animEffect filter="dissolve" transition="in">
                                      <p:cBhvr additive="repl">
                                        <p:cTn id="22" dur="1000"/>
                                        <p:tgtEl>
                                          <p:spTgt spid="68"/>
                                        </p:tgtEl>
                                      </p:cBhvr>
                                    </p:animEffect>
                                  </p:childTnLst>
                                </p:cTn>
                              </p:par>
                              <p:par>
                                <p:cTn id="23" nodeType="withEffect" fill="hold" presetClass="exit" presetID="9">
                                  <p:stCondLst>
                                    <p:cond delay="0"/>
                                  </p:stCondLst>
                                  <p:childTnLst>
                                    <p:animEffect filter="dissolve" transition="out">
                                      <p:cBhvr additive="repl">
                                        <p:cTn id="24" dur="1000"/>
                                        <p:tgtEl>
                                          <p:spTgt spid="70"/>
                                        </p:tgtEl>
                                      </p:cBhvr>
                                    </p:animEffect>
                                    <p:set>
                                      <p:cBhvr>
                                        <p:cTn id="25" dur="1" fill="hold">
                                          <p:stCondLst>
                                            <p:cond delay="999"/>
                                          </p:stCondLst>
                                        </p:cTn>
                                        <p:tgtEl>
                                          <p:spTgt spid="70"/>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72"/>
                                        </p:tgtEl>
                                      </p:cBhvr>
                                    </p:animEffect>
                                    <p:set>
                                      <p:cBhvr>
                                        <p:cTn id="28" dur="1" fill="hold">
                                          <p:stCondLst>
                                            <p:cond delay="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4:29Z</dcterms:modified>
  <cp:revision>260</cp:revision>
  <dc:subject/>
  <dc:title>Diapositive 1</dc:title>
</cp:coreProperties>
</file>