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24C1CCA-E392-4446-99D0-CCEE03E39ED3}"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2ACA358-D6A9-47BA-9612-F971332776E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297BF4-57F1-4F16-B90A-0063F69CA8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3E0E0B-D1B8-483C-9A2B-14D5DACA23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45AE94-5D37-4007-9B23-CCAFE3535F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22F9ED-3B3F-4D9E-84A4-0ACA490C12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C5BF55-8FA3-4EDA-8222-D3F89B2CA0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8D396A-998C-49ED-9280-25AEBC85BF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55A3B8-7F90-4589-B1B9-488B26A80B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2B2D3A-03FD-4574-8F9F-58FA5787BC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C2BA11-D0AE-4DC7-8EB1-A38F028DE1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57524E-0543-45B4-8CEA-7F6C60A31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C072A0-9482-4254-8543-6AC023C063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A145D8-A8D6-454E-8576-7F0652C455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3BC92F-81E0-41D9-9D27-53426704F4B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695429-1709-474D-A88D-EB89F1E5E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664039-3DC1-4A2A-8EC7-C2D8844158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852CC1-2D60-44D1-86C4-D7EE58288E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80"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81"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2"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3"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4"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5"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6"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8"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9"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90"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3"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4"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D394A19-194F-4F37-A7E9-1080A6C31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6"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7"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8"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9"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00"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01"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3"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4"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5" name=""/>
          <p:cNvGrpSpPr/>
          <p:nvPr/>
        </p:nvGrpSpPr>
        <p:grpSpPr>
          <a:xfrm>
            <a:off x="5984640" y="4267080"/>
            <a:ext cx="2012760" cy="1694520"/>
            <a:chOff x="5984640" y="4267080"/>
            <a:chExt cx="2012760" cy="1694520"/>
          </a:xfrm>
        </p:grpSpPr>
        <p:sp>
          <p:nvSpPr>
            <p:cNvPr id="106"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7"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8"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9"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10"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3"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4"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6"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7"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DAC61746-E702-44B0-B7F8-95FF1987D3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0D661AA0-4DF0-4E6B-9D60-AF7F371A7B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D28E831-299D-4C3A-BB4F-7DABDD74CE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31F026FB-4D92-4C1E-9DFB-F1BAA1932C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B4F75425-C7BC-41FE-A152-804FD51336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E4DC7CD5-AC72-41DF-B6DE-5FA4F8850E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46A5C6-FA81-42A7-94C6-0EF8267849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8A244DE3-E8AA-4C36-88A0-4B708D5C4E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3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834228B-1452-45BE-A224-8D0FA952A3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6FA0AA-76A2-463B-A872-38A8D626D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7138EEFE-26AC-45BF-B57F-850CE0B43F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6"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1E2F9593-897D-4A24-8334-2CD8874E7D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AA7704-3D8A-45B0-8681-4435B0535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4E52F4-FF04-433E-BCF4-C26A25C7BF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A68C7F-302E-4CA2-B1E5-DF7E52E24D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9EFA09-7030-4B0F-9437-A5C0F1721D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7ACE40-A60D-4F29-91B5-50D3325BD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51E04B-12B1-4ACE-BB36-0D6677A3D8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5ACD36-1293-4800-A90B-166C8F69AE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51"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641B8970-3900-4057-9244-88F3EE481097}"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E72BDF-4DB0-4ADF-B200-3D18BB9F5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0A07E3-FB41-44FD-BD23-3931BDB4BC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4E7892-3C36-4CD9-9B2A-2F231BAC40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EA4532-1560-4AFE-89CB-5973B961EC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E8E7C8CB-F461-4155-B48B-AE38C6D5454F}"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29Z</dcterms:modified>
  <cp:revision>260</cp:revision>
  <dc:subject/>
  <dc:title>Diapositive 1</dc:title>
</cp:coreProperties>
</file>