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F2E-FC7D-4667-A0EE-CDC8ED204C0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0CE3-5625-4E8A-B53A-F4C8C6243792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1F3-8628-4A0E-95F4-3B96E3E3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599-DAC9-4432-8BE8-0CF15D88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81D-4DB2-4D70-A8DF-D52FC732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BA7-CB7B-407E-91AD-93B74083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C53-C745-4FA9-989A-D4FAC541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A5A-9474-4455-A0BB-262CC835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C7A-AC0E-4EB4-A524-F4440F29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BC7-23F6-44E9-A053-F7F3659D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063-187D-4AC9-90CD-B6E86480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64B-06B7-44A6-A1A4-E17760F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D8D-9D67-4CDD-BABD-E8F1403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CD0-F2A5-481A-A831-CCC11F8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8D06-8F6E-43ED-85FF-7DBE34CC7D2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Quiz</a:t>
            </a:r>
            <a:br>
              <a:rPr sz="4400"/>
            </a:b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Les relations 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En utilisant le format MARC 21, quelle est la méthode privilégiée pour exprimer des relations entre publications en sér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85264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structurée, en utilisant les zones de liaisons (780, 785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non-structurée sous forme de note générale (zone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2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Quelles sont les relations fondamentales LC qui doivent être établies dans les notices d’autorité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différentes identités d’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collectivité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collectivités qui précèdent/succè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famille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rai ou faux? Les catalogueurs de LC qui créent des notices d’autorité conformes à RDA vont continuer d’utiliser les valeurs «a» et «b» dans la sous-zone 51X $w afin d’établir des relations avec les collectivités qui précèdent/succè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507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3"/>
          <p:cNvSpPr/>
          <p:nvPr/>
        </p:nvSpPr>
        <p:spPr>
          <a:xfrm>
            <a:off x="3348000" y="3357720"/>
            <a:ext cx="2665440" cy="1260360"/>
          </a:xfrm>
          <a:prstGeom prst="wedgeEllipseCallout">
            <a:avLst>
              <a:gd name="adj1" fmla="val -82638"/>
              <a:gd name="adj2" fmla="val 4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e DCM, Section Z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 jugement du catalogueur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rait prendre en considération si un élément est nécessaire pour donner accès à la res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essentiel pour décider quelles relations additionnelles on doit établir, en plus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est pas requis pour l’enregistrement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376092"/>
                </a:solidFill>
                <a:latin typeface="Calibri"/>
              </a:rPr>
              <a:t>Vrai ou faux? LC suggère d’établir une relation entre les items «reliés avec» lorsque des descriptions sont rédigées pour deux ressources ou plus, qui ont été publiées séparé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50760" y="33238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Bulle ronde 4"/>
          <p:cNvSpPr/>
          <p:nvPr/>
        </p:nvSpPr>
        <p:spPr>
          <a:xfrm>
            <a:off x="3132000" y="2852640"/>
            <a:ext cx="2880000" cy="1260720"/>
          </a:xfrm>
          <a:prstGeom prst="wedgeEllipseCallout">
            <a:avLst>
              <a:gd name="adj1" fmla="val -73870"/>
              <a:gd name="adj2" fmla="val 1398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C-PCC PS 28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Les indicateurs de relation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177300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géné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exprimés sous la forme d’un code, enregistré dans la sous-zone MARC $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2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3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sans $e aut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e seule zone 700 pour Garié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cune zone 7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indicateur de relation «auteur», saisi en $e dans 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49770" t="23770" r="26335" b="12982"/>
          <a:stretch/>
        </p:blipFill>
        <p:spPr>
          <a:xfrm>
            <a:off x="2700360" y="60480"/>
            <a:ext cx="43927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5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cune zone 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 $e auteur, $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éditeur intellectu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6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7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4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8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3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7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Quelle est la définition d’ «oeuvre en relation»? Trouver deux endroits dans l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RDA Toolkit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où l’on retrouve cette défini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>
                <a:solidFill>
                  <a:srgbClr val="000000"/>
                </a:solidFill>
                <a:latin typeface="Calibri"/>
              </a:rPr>
              <a:t>Œuvre associée à la ressource décrite (par exemple, adaptation, commentaire, supplément, continuation, partie d’une œuvr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.1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Jeu d’éléme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.B.: Une variante de cette définition se trou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également sous 24.1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 retrouve-t-on dans les 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annexes I, J et K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474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fermées de termes relatifs aux types de médias, de contenus et de supports matériels 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ouvertes d’indicateurs de relation pour qualifier les différents types de relations existant entre les ent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lles méthodes propose RDA pour exprimer les relations en MARC 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91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nregistrer un point d’accès autorisé accompagné d’un indicateur de relation, saisi dans une sous-zone MAR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es zones de lia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a ponctuation ISB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non-structurée dans la zone des notes générales (5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urnir uniquement un identifiant, par ex. un numéro ISB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Parmi les énoncés ci-dessous, lesquels expriment une 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œuvres et les personnes/collectivités/familles qui sont fondamentales selon L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premier créateur nommé d’une œuv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rtiste qui a créé une œuvre d’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compositeur d’une œuvre mus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nnotateur d’un item manusc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expressions et les personnes/collectivités/familles qui sont fondamentales selon L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ganisme de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llustra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mandi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es œuvres en relation et les expressions en relation sont des relations fondamentales LC pour les compil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997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Parmi les relations fondamentales LC suivantes,</a:t>
            </a:r>
            <a:br>
              <a:rPr sz="3200"/>
            </a:b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 lesquelles doivent être enregistrées par les catalogueurs LC lorsqu’ils traitent une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42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œuvre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express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manifestat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item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ulle ronde 3"/>
          <p:cNvSpPr/>
          <p:nvPr/>
        </p:nvSpPr>
        <p:spPr>
          <a:xfrm>
            <a:off x="5867280" y="3789360"/>
            <a:ext cx="3095640" cy="1692360"/>
          </a:xfrm>
          <a:prstGeom prst="wedgeEllipseCallout">
            <a:avLst>
              <a:gd name="adj1" fmla="val -76564"/>
              <a:gd name="adj2" fmla="val -2936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oir les directives sous LC-PCC PS 27.1 et 2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6:10:48Z</dcterms:modified>
  <cp:revision>105</cp:revision>
  <dc:subject/>
  <dc:title>Quiz Module 8: les relations RDA</dc:title>
</cp:coreProperties>
</file>