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059D-0149-4C3C-B5C8-678242EF6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25E3-F556-43D7-B7E8-0EA8CE4F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4321-8DA2-4643-839E-F56FFFF8F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D055-17C8-4C32-9297-F7C95AB55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3DEC-6872-40E4-ABF7-DCCAD027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DB14-BA97-43B7-88F9-D1163BFC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A943-9D2E-4CF2-835E-C58A8613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B8C1-A263-437D-BD76-77B11C41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3419-D30C-44A4-AECC-C1661916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287D-3D8B-4E22-A0CC-6724CF92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888B-FF77-419D-8B22-101AE6F5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F034-70BF-4BD9-B8B0-5EBD11EE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5A4A-A14A-4CCA-A174-9B4F55287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des personnes, familles et collectiv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CFB1-5597-45D8-AD01-E515FF8227E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sir le nom privilégié RDA pour le congrès ci-dess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Fifth Annual SoFiE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11 2# $a Fifth Annual SoFiE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11 2# $a Annual SoFiE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11 2# $a SoFiE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ED4B-419C-4E4D-A97C-933E767CC7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1" dur="indefinite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2" dur="indefinite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le norme de catalogage a été utilisée pour créer l’autorité 1XX ci-dess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110 1# $a États-Unis. $b Department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ou RCAA2 pourrait avoir été utilis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DCF1-9942-4755-9445-7B2E8498AC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indefinite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9" dur="indefinite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0" dur="indefinite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rai ou Fau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A nous dit de déterminer le nom privilégié pour une collectivité à partir de n’importe quelle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748C-5A15-4EC1-A2D3-7D87905E77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7" dur="indefinite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8" dur="indefinite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rai ou Fau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8480" indent="-528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nous dit de déterminer le nom privilégié pour une collectivité à partir des sources suivantes (en ordre de préférence)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-5922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sources privilégiées d’information dans les ressources associées à la collectiv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-5922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res mentions formelles apparaissant dans les ressources associées à la collectiv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-5922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res sources (incluant des sources de référ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480" indent="-528480"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480" indent="-528480">
              <a:spcBef>
                <a:spcPts val="10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212E-D77D-4474-9623-7D3AAE6EEB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indefinite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5" dur="indefinite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6" dur="indefinite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rai ou Fau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nom privilégié pour une collectivité est un élément fondamental. Les variantes du nom pour une collectivité sont option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BA48-1688-4BC5-8E04-6DEBC8BA9E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3" dur="indefinite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4" dur="indefinite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quels des éléments suivants sont fondamentaux pour les collectivité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m privilégié pour la collectiv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resse de la collectiv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éro d’ordre d’un congrè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ège social de la collectiv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e de la collectiv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5492-01CA-42CE-95CA-27ACFEC950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indefinite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1" dur="indefinite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2" dur="indefinite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indefinite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7" dur="indefinite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8" dur="indefinite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vez-vous coder une zone 376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formation sur la famil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dans une notice d’autorité pour une collectivit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7416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099B-B2EB-4BBA-B9AC-ACBCE5AA7F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indefinite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5" dur="indefinite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6" dur="indefinite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quel des points d’accès autorisés suivants est correctement formaté selon RDA et MARC 21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79200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00 1# $a Carleton (Famil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50      $a Carleton, Fam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10 2# $a Carleton (Famille : $d 1757-1865 : $c Alexandria, Virg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00 3# $a Carleton (Famille : $g Carleton, James, 1757-182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DCBE-0E46-406F-AB68-96DFC6C221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indefinite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3" dur="indefinite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4" dur="indefinite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le norme de catalogage a été utilisée pour créer l’autorité 1XX ci-dess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 0# $a M. B., $d activité 19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588B-DDF3-4923-BC53-5A61447670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le norme de catalogage a été utilisée pour créer l’autorité 1XX ci-dess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100 1# $a Ohlhausen, Peter $c (Chercheur en ges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ou RCAA2 pourrait avoir été utilis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99FB-7FCB-464E-A524-F2F5205A4A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" dur="indefinite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" dur="indefinite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-ce possible d’avoir un point d’accès autorisé RDA pour un nom personnel indifférenci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1D08-8B54-4E33-AAEC-26A0A44816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indefinite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3" dur="indefinite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4" dur="indefinite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ù pouvez-vous trouver dans le RDA Toolkit la définition de « Affiliation » comme attribut d’une person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A 11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A 9.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A 9.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395D-A470-4610-AFE9-EB07E647E6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’est-ce que nous indique la zone autorité 378 ci-dess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100 1# $a Carmichael, Emmett B., $d 1895-19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78      $q Emmett Bry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a forme développée du prénom de Carmichael est Emmett Bry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 nom du père de Carmichael est Emmett Bry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ucune de ces répo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0A02-D37A-4616-B61E-25D936BD65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9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0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ourquoi ce point d’accès autorisé RDA n’inclut pas une sous-zone $q (Emmett Bryan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100 1# $a Carmichael, Emmett B., $d 1895-19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78      $q Emmett Bry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ne forme développée n’est jamais enregistrée dans la zone 1XX d’un point d’accès autorisé d’un nom de personne 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Il n’y avait pas de conflit, donc la forme développée n’a pas été ajoutée au point d’accès autorisé 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 catalogueur a utilisé son ju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DADC-DB69-4773-BAB9-E9F7E95E20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7" dur="indefinite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" dur="indefinite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-ce que vous pouvez coder une zone 376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formation sur la famil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dans une notice d’autorité pour une person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1433-ECF4-4712-AAC0-6918304F57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indefinite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5" dur="indefinite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6" dur="indefinite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le norme de catalogage a été utilisée pour créer l’autorité 1XX ci-dess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111 2# $a Annual Conference on Development and Change $n (1re : $d 2005 : $c Nīmrāna, Inde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0D9A-0EF2-45ED-87A0-1536630B1F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indefinite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3" dur="indefinite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4" dur="indefinite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7T18:07:42Z</dcterms:created>
  <dc:creator>BANQ</dc:creator>
  <dc:description/>
  <dc:language>en-US</dc:language>
  <cp:lastModifiedBy>Mylène Robichaud</cp:lastModifiedBy>
  <dcterms:modified xsi:type="dcterms:W3CDTF">2013-04-15T14:43:04Z</dcterms:modified>
  <cp:revision>34</cp:revision>
  <dc:subject/>
  <dc:title>Autorités RDA</dc:title>
</cp:coreProperties>
</file>