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0220-FE59-46AE-9B77-6C09E630881A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8123-F4D9-4610-9434-D5AB4951538E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D9C-8F1B-4302-80AD-1E848086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5DBB-6909-467C-83B5-53A5531B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BAF-F4B0-4CA5-864C-18A92B91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EF6-B52A-4E22-BD0E-B0207B3A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2C15-E9B9-4412-8311-2692E591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55C-95AE-4E95-A587-DC933EDC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21FC-9936-460E-BB87-410AC7D7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07BE-2B5F-42C3-B5D4-D919FCF5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AE9A-81FC-483A-8626-CBB8A104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DCB-2FCA-480F-9B2C-F8E227D0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DD08-42AB-44A0-A27A-7EBAEDF2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3FC-3288-4115-9FA2-73E24448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2A68-A7F4-4F14-A21B-DE5AF576A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CA" sz="26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2600"/>
            </a:br>
            <a:r>
              <a:rPr b="1" lang="fr-FR" sz="2600" spc="-1" strike="noStrike">
                <a:solidFill>
                  <a:srgbClr val="333399"/>
                </a:solidFill>
                <a:latin typeface="Arial"/>
              </a:rPr>
              <a:t>Description des supports matériel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 constituent des éléments fondamentaux R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type de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type de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éthod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Bulle ronde 3"/>
          <p:cNvSpPr/>
          <p:nvPr/>
        </p:nvSpPr>
        <p:spPr>
          <a:xfrm>
            <a:off x="5435640" y="1844640"/>
            <a:ext cx="3311640" cy="1620720"/>
          </a:xfrm>
          <a:prstGeom prst="wedgeEllipseCallout">
            <a:avLst>
              <a:gd name="adj1" fmla="val -85620"/>
              <a:gd name="adj2" fmla="val 3021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quement si la ressource est complète ou si l’importance matérielle totale est con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50572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Vrai ou faux? Les termes utilisés dans les zones MARC 336, 337 et 338 proviennent de listes fermées que l’on retrouve au chapitre 3, dans RDA.</a:t>
            </a:r>
            <a:r>
              <a:rPr b="1" lang="fr-FR" sz="2800" spc="-1" strike="noStrike">
                <a:solidFill>
                  <a:srgbClr val="37609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22400" y="260640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3"/>
          <p:cNvSpPr/>
          <p:nvPr/>
        </p:nvSpPr>
        <p:spPr>
          <a:xfrm>
            <a:off x="3348000" y="2637000"/>
            <a:ext cx="4896000" cy="25923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aux! La zone 336 est réservée à l’enregistrement du type de contenu de la ressource. Les instructions et le vocabulaire relatifs au type de contenu se trouvent au chapitre 6, “Identification des œuvres et des expressions”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, enregistrés dans la zone MARC 300, se rapportent au support 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9120" y="185580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illust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a coul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squels des groupes d’éléments suivants décrivent conformément à RDA une monographie constituée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1566360"/>
            <a:ext cx="896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21 pages numérotées de texte, suivies de 18 pages de planches de portraits non numérotées et de 18 feuillets numérotés. Le volume mesure 25,2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[18] pages de planches, 18 feuillets : $b illustrations ; $c 26 centimèt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a 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illustration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5,2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monographi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333399"/>
                </a:solidFill>
                <a:latin typeface="Arial"/>
              </a:rPr>
              <a:t>Quels éléments décrivent conformément à RDA une ressource constituée d’un guide pour l’apprentissage de l’anglais et d’une cassette où sont enregistrés des exercices pour la pratique de l’or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parole énoncé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audio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cassette audio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sons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audio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audiocassett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parole énoncé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onore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cassett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7" dur="indefinite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8" dur="indefinite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indefinite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5" dur="indefinite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6" dur="indefinite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9" dur="indefinite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0" dur="indefinite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3" dur="indefinite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4" dur="indefinite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7" dur="indefinite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8" dur="indefinite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2:24Z</dcterms:created>
  <dc:creator>BANQ</dc:creator>
  <dc:description/>
  <dc:language>en-US</dc:language>
  <cp:lastModifiedBy>Pat Riva</cp:lastModifiedBy>
  <dcterms:modified xsi:type="dcterms:W3CDTF">2013-04-12T22:31:34Z</dcterms:modified>
  <cp:revision>23</cp:revision>
  <dc:subject/>
  <dc:title>Diapositive 1</dc:title>
</cp:coreProperties>
</file>