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23B7-B87A-4727-A155-C125A24CA154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9213-87F7-4F5A-82AE-6F5E32EB2D58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61F6-67BA-48A7-BB5C-C8638BBC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D62F-58AA-41F9-B2EA-3B5BFE0A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954E-13A6-4F62-A3C6-2A66665E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30EF-9952-4B47-93A9-602DF260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DA8A-F0A2-4063-9423-9EC41481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FD8B-CA45-47F7-B709-2C3A1E07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84C5-2553-4F21-9856-0528A655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07AA-CE42-40C9-8AAE-4D7F1CB5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69E0-7161-4EC4-8F74-9E30E537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42E0-FA13-4F07-B24F-3C80F165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32B9-3906-43C6-B0CA-2B1F814B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D459-92E4-4D8F-A790-85D65113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F543-8116-46CB-B021-47361C71A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1196640"/>
            <a:ext cx="856908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262080"/>
                <a:tab algn="l" pos="2511360"/>
                <a:tab algn="l" pos="4572000"/>
                <a:tab algn="l" pos="4935600"/>
                <a:tab algn="l" pos="770724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CA" sz="26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2600"/>
            </a:br>
            <a:r>
              <a:rPr b="1" lang="fr-FR" sz="2600" spc="-1" strike="noStrike">
                <a:solidFill>
                  <a:srgbClr val="333399"/>
                </a:solidFill>
                <a:latin typeface="Arial"/>
              </a:rPr>
              <a:t>Description des supports matériels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 constituent des éléments fondamentaux R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type de mé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type de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éthode de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Bulle ronde 3"/>
          <p:cNvSpPr/>
          <p:nvPr/>
        </p:nvSpPr>
        <p:spPr>
          <a:xfrm>
            <a:off x="5435640" y="1844640"/>
            <a:ext cx="3311640" cy="1620720"/>
          </a:xfrm>
          <a:prstGeom prst="wedgeEllipseCallout">
            <a:avLst>
              <a:gd name="adj1" fmla="val -85620"/>
              <a:gd name="adj2" fmla="val 3021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quement si la ressource est complète ou si l’importance matérielle totale est con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50572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Vrai ou faux? Les termes utilisés dans les zones MARC 336, 337 et 338 proviennent de listes fermées que l’on retrouve au chapitre 3, dans RDA.</a:t>
            </a:r>
            <a:r>
              <a:rPr b="1" lang="fr-FR" sz="2800" spc="-1" strike="noStrike">
                <a:solidFill>
                  <a:srgbClr val="376092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22400" y="260640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à coins arrondis 3"/>
          <p:cNvSpPr/>
          <p:nvPr/>
        </p:nvSpPr>
        <p:spPr>
          <a:xfrm>
            <a:off x="3348000" y="2637000"/>
            <a:ext cx="4896000" cy="259236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aux! La zone 336 est réservée à l’enregistrement du type de contenu de la ressource. Les instructions et le vocabulaire relatifs au type de contenu se trouvent au chapitre 6, “Identification des œuvres et des expressions”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, enregistrés dans la zone MARC 300, se rapportent au support 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9120" y="1855800"/>
            <a:ext cx="822960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illust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dimen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a coule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squels des groupes d’éléments suivants décrivent conformément à RDA une monographie constituée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8000" y="1566360"/>
            <a:ext cx="89647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21 pages numérotées de texte, suivies de 18 pages de planches de portraits non numérotées et de 18 feuillets numérotés. Le volume mesure 25,2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[18] pages de planches, 18 feuillets : $b illustrations ; $c 26 centimèt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a 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illustrations ; $c 26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portraits ; $c 26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portraits ; $c 25,2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monographi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333399"/>
                </a:solidFill>
                <a:latin typeface="Arial"/>
              </a:rPr>
              <a:t>Quels éléments décrivent conformément à RDA une ressource constituée d’un guide pour l’apprentissage de l’anglais et d’une cassette où sont enregistrés des exercices pour la pratique de l’or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parole énoncé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audio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cassette audio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sons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audio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audiocassett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parole énoncé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sonore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cassett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7" dur="indefinite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8" dur="indefinite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1" dur="indefinite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2" dur="indefinite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indefinite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5" dur="indefinite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6" dur="indefinite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9" dur="indefinite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0" dur="indefinite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3" dur="indefinite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4" dur="indefinite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7" dur="indefinite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8" dur="indefinite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6:22:24Z</dcterms:created>
  <dc:creator>BANQ</dc:creator>
  <dc:description/>
  <dc:language>en-US</dc:language>
  <cp:lastModifiedBy>Pat Riva</cp:lastModifiedBy>
  <dcterms:modified xsi:type="dcterms:W3CDTF">2013-04-12T22:31:34Z</dcterms:modified>
  <cp:revision>23</cp:revision>
  <dc:subject/>
  <dc:title>Diapositive 1</dc:title>
</cp:coreProperties>
</file>