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6375-4037-4E86-ACAB-1497831CD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35FD-F8BD-41E1-9AF8-611FB394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33F4-811C-4DEA-B283-725DE1CE1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08E4-0DF8-4E75-A92E-50A284734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0894-F081-4C03-A334-C18818A0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A600-4038-45D9-8BCF-E7EA193E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6864-3BF8-4785-89EF-5B87F2C6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CCBE-1F59-4183-8167-3D59688B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24CB-63D7-4CD2-84A1-B34A7D6D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F1B3-86DE-4D62-9340-B66F1519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7652-2BD3-4D7D-8755-667A3559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571E-B030-4C21-ABDB-4D615B40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8930-43D7-4224-B546-8ABDDE1ED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des manifestations et des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devez-vous consulter pour déterminer les décisions LC concernant les alternatives, les options et les exceptions dans RDA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a) LC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b) Annexes 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) LC-PCC 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d) Les workflows LC dans le Toolkit 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77B2-ED2F-4025-B6CD-73373CAA16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indefinite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indefinite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général, vous cataloguez _____, même si une notice bibliographique contient aussi des éléments des autres entités OEM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L’œuv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L’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La manife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L’i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A8A8-0FB2-4552-9B7D-BD858DEF83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3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4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s sont les moyens de reconnaître une notice bibliographique RDA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uide/06 a la valeur « c 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uide/18 a la valeur « i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040 $e contient le code « rda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77BA-8D4D-456B-9E26-0D61967E03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indefinite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1" dur="indefinite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2" dur="indefinite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indefinite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7" dur="indefinite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8" dur="indefinite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quels des énoncés suivants au sujet des sources sont vrais?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) RDA identifie une seule source prescrite pour chaque élément de la notice bibliographiqu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 Il y a moins de sources valides avec RDA qu’il y en avait avec les RCAA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) Vous ne devez mettre de l’information entre crochets que si elle est dérivée de l’extérieur de la ressou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) RDA donne généralement un ordre de priorité pour les sources pour la plupart des catégories de res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DA00-9DE9-4B8E-BF3F-1085E31D3E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5" dur="indefinite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6" dur="indefinite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indefinite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indefinite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 Prenez ce que vous voyez et acceptez ce que vous trouvez » est le résumé de quel principe importa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principe FRBR des entités du groupe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principe international de catalogage de représentativ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lignes directrices de l’IFLA sur la transcription des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instructions RDA sur l’exact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C98A-12AE-4D9A-8360-28BB20B2FB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indefinite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indefinite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s quelle procédure trouve-t-on les très importantes « Lignes directrices générales sur la transcription »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LC-PCC PS 1.7.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LC-PCC PS 2.2.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LC-PCC PS 2.3.2.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LC-PCC PS 6.2.1.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1906-3498-44F8-8D00-F7B3307181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indefinite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7" dur="indefinite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8" dur="indefinite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quel des énoncés suivants exprime le mieux la politique LC sur les majuscules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Prendre ce que vous voyez sur la ressour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Suivre les instructions de l’annex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Vous pouvez faire n’importe laquelle des deux options; aucune n’est considérée meille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16CE-DDA4-4868-880D-E9E373B038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indefinite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5" dur="indefinite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6" dur="indefinite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ai ou faux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ce qui concerne la ponctuation, les chiffres, les symboles et les abréviations, la politique LC est généralement d’enregistrer ce qui est sur la ressourc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Vra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F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3470-D23C-400E-BC3A-00EAE32CAF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indefinite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3" dur="indefinite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4" dur="indefinite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quel des énoncés suivants exprime le plus exactement l’aspect fondamental du complément du titre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C’est un élément fondamental RDA et il doit être enregistré par tous les catalogueu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C’est un élément fondamental LC et il doit être enregistré si vous êtes un catalogueur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Ce n’est pas un élément fondamental mais vous pouvez l’enregistrer si vous le désir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Vous pouvez faire ce que vous voulez en ce qui concerne le complément du ti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6E5A-47CC-49DA-8738-80F85E504C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1EAE-A33A-4461-B39A-C515C40A0D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 principes internationaux de catalogage suivants, lequel vient en premier et devrait toujours être gardé à l’esprit lorsque l’on donne la description bibliographique et les points d’accè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Exact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Représentativ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Confort de l’utilis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Économ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) Cohérence et norma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26E0-4722-4986-ACA3-A879912FD9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57440" y="1081080"/>
            <a:ext cx="4029120" cy="4695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90680" y="628560"/>
            <a:ext cx="4562640" cy="5600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286000" y="604800"/>
            <a:ext cx="4572000" cy="5648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C8E4-5C3C-4B2C-934A-2FD03AA755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du titre (245) 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quelles de ces mentions sont acceptab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éveloppement social et émotionnel chez l’enfant et l’adolescent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s bases du développement /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us la direction de Jean-Pascal Lemelin … [et al.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éveloppement social et émotionnel chez l’enfant et l’adolescent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s bases du développement /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s la direction de Jean-Pascal Lemelin, Marc A. Provost, George M. Tarabulsy, André Plamondon et Caroline Dufres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éveloppement social et émotionnel chez l’enfant et l’adolescent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s bases du développement /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s la direction de Jean-Pascal Lemelin [et quatre autre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ÉVELOPPEMENT SOCIAL ET ÉMOTIONNEL CHEZ L’ENFANT ET L’ADOLESCENT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s bases du développement /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us la direction de Jean-Pascal Lemelin [et quatre autre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4D26-DE82-4805-810C-26D641D42D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indefinite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7" dur="indefinite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78" dur="indefinite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indefinite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83" dur="indefinite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4" dur="indefinite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terme RDA pour le concept RCAA2 de   « vedette » est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Cré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Point d’accès autor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Variante de point d’accè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Titre privilégi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3B69-819E-4038-9DBB-84EB61479F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À quels termes RDA correspondent les termes RCAA2 ci-dessou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228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Auteur, compositeu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Vedette princip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Co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Renvoi 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35280" y="1599840"/>
            <a:ext cx="532944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Variante de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Titre privilégié et, si approprié, point d’accès autorisé pour le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Description du support maté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4508640"/>
            <a:ext cx="85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) Auteur, compositeur, etc. -&gt; c)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2) Vedette principale ----------&gt; b) Titre privilégié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) Collation ----------------------&gt; d) Description du support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té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4) Renvoi voir -------------------&gt; a) Variante de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2C1C-652C-4CDC-9FDD-B7473E4961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terme RCAA2 «source principale» a été remplacé par quel terme RDA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Source principale (c.-à.-d. le terme n’a pas chang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Source presc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Source privilég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Sources privilégi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27C5-361C-4355-A93E-A46BFDAF29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1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2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 chapitre RDA allez-vous consulter pour déterminer le titre privilégié d’une œuvre créée par une personne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Chapitr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Chapitr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Chapitre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Chapitre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634B-BBA3-405C-9541-0279846BEF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9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0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identifier les attributs d’une collectivité qui est un contributeur d’une expression d’une œuvre, quel chapitre RDA allez-vous consulter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Chapitre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Chapitre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Chapitre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Chapitre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8815-4A60-46B3-B9D7-E3657C781F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ai ou faux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instructions qui vous disent comment construire le point d’accès pour une personne, une famille ou une collectivité sont au début des chapitres 9, 10 ou 1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Vr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F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79640" y="4076640"/>
            <a:ext cx="3600360" cy="1944720"/>
          </a:xfrm>
          <a:prstGeom prst="cloudCallout">
            <a:avLst>
              <a:gd name="adj1" fmla="val -47925"/>
              <a:gd name="adj2" fmla="val -70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instructions sont à l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s chapi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DDC4-D516-4A25-B0B7-0EBD8DB7E7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indefinite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5" dur="indefinite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6" dur="indefinite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quels des énoncés suivants au sujet des éléments fondamentaux sont vra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50752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) Les éléments fondamentaux sont basés sur des éléments considérés comme obligatoires pour une notice de niveau 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) Les éléments fondamentaux sont clairement identifiés dans le RDA Toolkit au niveau des élé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) Les éléments sont soit toujours fondamentaux, soit jamais fondament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) Vous devez enregistrer les éléments fondamentaux 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9D45-BF9A-4B13-B62E-09E4F6AA57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7" dur="indefinite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8" dur="indefinite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3" dur="indefinite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4" dur="indefinite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2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8:45:44Z</dcterms:created>
  <dc:creator>BANQ</dc:creator>
  <dc:description/>
  <dc:language>en-US</dc:language>
  <cp:lastModifiedBy>Pat Riva</cp:lastModifiedBy>
  <dcterms:modified xsi:type="dcterms:W3CDTF">2013-04-08T23:01:20Z</dcterms:modified>
  <cp:revision>74</cp:revision>
  <dc:subject/>
  <dc:title>Identification des manifestations et des items</dc:title>
</cp:coreProperties>
</file>