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80B-1C7B-4170-90A7-293EAAA1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006-E9C7-4A02-8855-0AEC1071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E1F-5EA6-4D5B-9AE6-7DB2528B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FE3-D35A-4F19-A92A-8E3801E4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82A-2E24-48D9-BF70-7BFC3645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677-48D8-4BAB-BCA5-BFA2258F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8FF-138B-46E7-B070-83EAFFC2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EFE-DD8A-4276-B5BD-3628B725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A54-16CF-45FB-87CD-389357A8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791-32CE-4E8D-959A-5C66E2D1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337-B92D-431B-ABBF-421AABB6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33C-5B4E-4DEA-AED9-ABEF2CC6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57C1-4CBE-43D3-9C57-BB9D30B61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des manifestations et de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devez-vous consulter pour déterminer les décisions LC concernant les alternatives, les options et les exceptions dans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C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Annexes 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C-PCC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es workflows LC dans le Toolkit 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161-EFE0-47D8-86C0-D70714636C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208-EFF8-4D0B-ADC3-8137E21A97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s sont les moyens de reconnaître une notice bibliographiqu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D52-DD0B-420D-A767-7A8D50035A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quels des énoncés suivants au sujet des sources sont vrais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RDA identifie une seule source prescrite pour chaque élément de la notice bibliographiq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Il y a moins de sources valides avec RDA qu’il y en avait avec les RCAA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Vous ne devez mettre de l’information entre crochets que si elle est dérivée de l’extérieur de la res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RDA donne généralement un ordre de priorité pour les sources pour la plupart des catégories de res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67B-83A6-4490-A490-A6319F8F0B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Prenez ce que vous voyez et acceptez ce que vous trouvez » est le résumé de quel principe import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720-2C07-4BCF-8619-952CCC302F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quelle procédure trouve-t-on les très importantes « Lignes directrices générales sur la transcription »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LC-PCC PS 1.7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C-PCC PS 2.2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LC-PCC PS 2.3.2.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LC-PCC PS 6.2.1.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C56-DE67-47EF-A895-C91C45DD9F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7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8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mieux la politique LC sur les majuscule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Prendre ce que vous voyez sur la res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uivre les instructions de l’annex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ous pouvez faire n’importe laquelle des deux options; aucune n’est considérée meille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48C-20C6-4A81-925D-389F574CE3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6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ce qui concerne la ponctuation, les chiffres, les symboles et les abréviations, la politique LC est généralement d’enregistrer ce qui est sur la ressour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r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B10-8F61-4E76-AD4C-4544050A47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3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plus exactement l’aspect fondamental du complément du titr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C’est un élément fondamental RDA et il doit être enregistré par tous les catalogu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C’est un élément fondamental LC et il doit être enregistré si vous êtes un catalogue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Ce n’est pas un élément fondamental mais vous pouvez l’enregistrer si vous le dési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Vous pouvez faire ce que vous voulez en ce qui concerne le complément du ti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D76-440F-405E-8CC2-B2380EE2E4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D20-118A-404E-97DB-5C3064486E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principes internationaux de catalogage suivants, lequel vient en premier et devrait toujours être gardé à l’esprit lorsque l’on donne la description bibliographique et les points d’accè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Exac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Représenta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onfort de l’utilis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Éc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Cohérence et norm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719-40C1-4410-8DEB-58BE2A806D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7440" y="1081080"/>
            <a:ext cx="4029120" cy="469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90680" y="628560"/>
            <a:ext cx="4562640" cy="5600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0" y="604800"/>
            <a:ext cx="4572000" cy="564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2C1-45C5-45CA-B83B-AD0D714D0A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u titre (245)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s la direction de Jean-Pascal Lemelin … [et al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 la direction de Jean-Pascal Lemelin, Marc A. Provost, George M. Tarabulsy, André Plamondon et Caroline Dufres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 la direction de Jean-Pascal Lemelin [et quatre autr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s la direction de Jean-Pascal Lemelin [et quatre autr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96D-58A8-42C8-9782-9D44599C02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7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3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4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rme RDA pour le concept RCAA2 de  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F5F-ECBB-4162-AE70-BA8F1DCFC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quels termes RDA correspondent les termes RCAA2 ci-desso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35280" y="1599840"/>
            <a:ext cx="532944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508640"/>
            <a:ext cx="85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) Auteur, compositeur, etc. -&gt;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) Vedette principale ----------&gt;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) Collation ----------------------&gt; d) Description du suppor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4) Renvoi voir -------------------&gt;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BC1-8EF7-44E9-BB39-781BB6DB6F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rme RCAA2 «source principale» a été remplacé par quel term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6F4-BF23-4394-A0A4-B04B51B7A0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 chapitre RDA allez-vous consulter pour déterminer le titre privilégié d’une œuvre créée par une personn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hapit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hapitr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hapitr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Chapitre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9D4-FD13-4FCE-90C8-D2A9C03F0F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identifier les attributs d’une collectivité qui est un contributeur d’une expression d’une œuvre, quel chapitre RDA allez-vous consult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hapitre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hapitre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hapitre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Chapitre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43E-5372-43FA-AEEB-627D5616C1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instructions qui vous disent comment construire le point d’accès pour une personne, une famille ou une collectivité sont au début des chapitres 9, 10 ou 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076640"/>
            <a:ext cx="3600360" cy="1944720"/>
          </a:xfrm>
          <a:prstGeom prst="cloudCallout">
            <a:avLst>
              <a:gd name="adj1" fmla="val -47925"/>
              <a:gd name="adj2" fmla="val -70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nstructions sont à l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5D8-290A-4B94-807B-677E3FC65D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quels des énoncés suivants au sujet des éléments fondamentaux sont vra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50752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) Les éléments fondamentaux sont basés sur des éléments considérés comme obligatoires pour une notice de niveau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) Les éléments fondamentaux sont clairement identifiés dans le RDA Toolkit au niveau des élé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) Les éléments sont soit toujours fondamentaux, soit jamais fondamen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) Vous devez enregistrer les éléments fondamentaux 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10F-7D3A-4A60-821C-1D9AE8E005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3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4-08T23:01:20Z</dcterms:modified>
  <cp:revision>74</cp:revision>
  <dc:subject/>
  <dc:title>Identification des manifestations et des items</dc:title>
</cp:coreProperties>
</file>