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162-65B5-4D29-8BB5-06FAD63C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2D6-FD2E-4423-8440-0CC21317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E3D-834E-43D8-B2DB-630438F0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770-F4EE-4D45-B8B5-08ABD561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AA3-9F8A-4480-BF20-F8F7A9B8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589-39CE-4919-9D9A-A8E50ED3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97A-3A5F-493E-A402-BEDE5C0C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414-E6F1-4487-B426-BC2E783D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86A-EB8D-4882-BD25-261644FB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EED-9D0C-4C86-928A-86BF0F59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122-9A30-43F3-8CB6-353FD48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898-78E5-4E03-9DA4-72ADA76C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28FE-1D90-415C-8D59-237EF516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lorsque le lieu de publication n’est pas identifi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[Lieu de publication non identifié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un lieu de publication et enregistrer une zone 264 supplémentaire pour l’information sur le diffuseur/distributeur ou le fabr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duire un lieu de publication, mis entre cro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er l’éditeur pour déterminer le lieu d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F89-1D4E-4D57-B195-68FAB0ED02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es correspondre l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cateur de la zone 264 avec l’élément RDA qu’il doit désig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244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00360" y="1915920"/>
            <a:ext cx="6192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36572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 -&gt; 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 -&gt; 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 -&gt; 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 -&gt; 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A74-E9BC-4DBE-B48E-35A2601A94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EA3-EA54-468D-9B3E-28EE86A241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195-A6EF-46C6-B11F-15914E230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472360" cy="51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31A-7CFF-438D-9B8A-53D997D310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by Baraka Books of Montreal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502-260C-42A2-8E9A-BF474912A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Mylène Robichaud</cp:lastModifiedBy>
  <dcterms:modified xsi:type="dcterms:W3CDTF">2013-04-15T14:05:57Z</dcterms:modified>
  <cp:revision>70</cp:revision>
  <dc:subject/>
  <dc:title>Identification des manifestations et des items</dc:title>
</cp:coreProperties>
</file>