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BF9-D3FF-49D6-9EC7-08F9E89E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2F2-D06C-4371-8C77-4D78F4E3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9A6-72E7-4C2E-8DB2-914ABAB3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F32-AAD8-4713-8CA4-7302857F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541-8763-464E-A1F2-09FE3F63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67C-7E58-4121-88A7-25BF27DB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BA5-B671-489D-AE00-63A3F861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020-8813-4902-AE7C-BF688D71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9A7-4147-454B-996C-8BE4AEA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940-D75A-4D62-BA1A-298CD59B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78E-6666-4573-B680-D39A48E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908-6D03-4C56-B7F2-48DCF3A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927F-A108-4354-97BD-A54E8DDD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lorsque le lieu de publication n’est pas identifi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[Lieu de publication non identifié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un lieu de publication et enregistrer une zone 264 supplémentaire pour l’information sur le diffuseur/distributeur ou le fabr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duire un lieu de publication, mis entre cro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er l’éditeur pour déterminer le lieu d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FCF-59CE-425F-9D35-8AAF849690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es correspondre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cateur de la zone 264 avec l’élément RDA qu’il doit désig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244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00360" y="1915920"/>
            <a:ext cx="6192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36572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 -&gt; 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 -&gt; 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 -&gt; 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 -&gt; 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3B5-5463-445A-97B6-BB28E81B1C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66B-37D4-4B44-B05A-A9FF9768AC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161-19BD-4EF4-8C7F-008AD656D7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472360" cy="51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FE8-FE47-4E42-9A63-E15A9CCE86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by Baraka Books of Montreal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CCE-C4B9-4920-9B66-592D63AA62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Mylène Robichaud</cp:lastModifiedBy>
  <dcterms:modified xsi:type="dcterms:W3CDTF">2013-04-15T14:05:57Z</dcterms:modified>
  <cp:revision>70</cp:revision>
  <dc:subject/>
  <dc:title>Identification des manifestations et des items</dc:title>
</cp:coreProperties>
</file>