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6480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100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976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864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976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864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5120"/>
            <a:ext cx="85950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100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492AC10-3F04-4A3C-AFCF-73888B1CD188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359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juin 2008, révisé 27 juillet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680" indent="-2127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14680" indent="-2034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6320" indent="-20484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6320" indent="-2048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6320" indent="-2048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rait être 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lors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individ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organisme ou un groupe d’individus et/ou d’organismes agissant comme un to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el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el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s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Saint, Jr., le Vaill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umérotation (d'un congrès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de 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57700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2800" y="1564920"/>
            <a:ext cx="84726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nt la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nu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 ou artistique d'une œuvre ou d'une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roduc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matérielle et de la distribution d'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ossess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 Relations de bas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49071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riétés de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 &lt;propriété de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 &lt;produit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 &lt;réalisé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&lt;conçu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9320" y="1690560"/>
            <a:ext cx="34657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versité McGil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liè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ncep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notion abstraite ou une id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gue ou préc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théories, procédés, techniques, prat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Obje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réalité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imée ou inanim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ation humaine ou présente dans la na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immeubles, navires, plan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Événeme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action ou une circonstance (un fait accompli ou surven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e limite aux événements pouvant constituer le sujet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événements historiques, époques, périodes chronolog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Lieu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emplacement (des coordonnées topographi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 ou contemporai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s gé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r la Terre ou dans l’e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villes, rivières, montagnes, planè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 détail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seul attribut: “terme désignant le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les 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3301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sont caractérisées pa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concer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érentielle ou Autono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 ou 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Œuvre et une autr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Expression (expressions d'œuvr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ffére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p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nsform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i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Œuvr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722600"/>
            <a:ext cx="4195800" cy="52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hapitre, section, partie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Volume ou numéro d’un périodi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llustration d’un tex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ande sonore d’un fil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6200" y="1763640"/>
            <a:ext cx="41338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onographie dans une coll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rticle de journal ou de rev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des Expression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e la </a:t>
            </a:r>
            <a:r>
              <a:rPr b="1" lang="en-GB" sz="4000" spc="-1" strike="noStrike" u="sng">
                <a:solidFill>
                  <a:srgbClr val="0e594d"/>
                </a:solidFill>
                <a:uFillTx/>
                <a:latin typeface="Arial"/>
              </a:rPr>
              <a:t>même</a:t>
            </a: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ré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vi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rrangement (musiqu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Manifestation ou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Manifestation et un Item (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Ite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Manifest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316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terna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92360" y="1722600"/>
            <a:ext cx="3862440" cy="54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im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e miro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316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prés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ion simultané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olume d’une manifestation en plusieurs volu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ande sonore d’un fil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d’un ensemble multi-suppor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s séparées ou composantes matériellement insépara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modèl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Item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onfigu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é ave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visé 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trait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matérielle d’un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ntégrée, par ex.: une p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istincte, par ex.: un volu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ure d’un li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Authority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, FRANAR, de la Division du contrôle bibliographique de l'IFLA, 1999-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xte final, décembre 2008, approuvé mars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blié juin 2009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onctionnalités requises des données d’autorité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raduit par la BnF en 201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rtée d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pertinentes au contrôle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 types de données d'autorité à un niveau glob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tails pour vedettes de nom, nom-titre, titre uni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ssi les entités qui participent à la création des vedet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tails des attributs des entités du Groupe 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3 (concept, objet, événement, lie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'est à dire: les autorités de sujet (vedettes-matiè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 FRSAR (2005-2010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2 et du Groupe 1 (designations de rela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sur le traitement des collec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administratives dans les notices d'autorit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usagers qui utilisent l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fois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souvent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(confirmer qu'elle correspond à celle recherchée)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valider la forme du nom à utiliser pour établir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uer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larifier la relation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larifier la relation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s raisons du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rement dit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mprend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quoi un nom ou un titre en particulier, ou une forme du nom ou du titre, a été choisi comme le nom ou titre préféré de l'ent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 du catalogu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928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 (des FRBR)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,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famill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, expression, manifestation,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, objet, événement, 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qui sont l'objet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entités dites d'autorité s'y réfèr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742760"/>
            <a:ext cx="848700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individu ou un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attribuée ou adoptée par un individu ou par un group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personne bibliographique, peut ne pas être une personne phys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es conjoints, pseudonymes multiples utilisés par une seule 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8455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ux personnes ou plus liées par la naissance, le mariage, l'adoption, l'union civile ou tout autre statut légal du même ordre, ou qui se présentent comme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'ISAAR(CPF), description des fonds d'archi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it logiquement partie du Groupe 2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1754280"/>
            <a:ext cx="89107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ou un groupe de personnes et/ou d’organismes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fié par un nom particul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agissant comme un tou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groupe doit être nom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grès, les con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gouverne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Gen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ieu (naissance, mort, réside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Pay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ffiliation (emploi, membre, ident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dres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 (2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Profession/occup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Biographie/histo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information associée à la personne (saint, J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famille (clan, dynast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associ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résidence, associa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 de la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e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dres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informations (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Sujet de l'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ieu d'orig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caractéristique distinc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ssource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correspond à celle recherchée par l’utilisa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a ressource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oca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 de la conservatio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FRBR : Provena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Source immédiate d'acquis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Autres attributs définis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e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es entités constituent les données d'autor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genc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caractères ou de mots par lequel une entité est connue dans le monde ré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nom (la catégor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haîne du nom (séquence de caractères numériques et/ou alphabétiques ou de symbol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hamp d’uti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d’uti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criture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ystème de translittération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expression, logo, etc. associé avec une entité, visant à la différencier de toute autre entité appartenant au domaine d'activité dans lequel l'identifiant est attribu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sont pas seulement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'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 code ou autre désignation indiquant la catégorie de l’identifiant (domaine d’attribution de l’identifian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on peut trouver une notice bibliographique ou une notice d'autorité ou un renvo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formes établies / autorisées / préfér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de forme (renvoi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0880" y="1406520"/>
            <a:ext cx="891396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u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tatut du point d’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sage du point d’accès contrôlé (autorisé / vari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’accès indifférenci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, écriture, translittération de la racine du point d'accès et de catalog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ur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acine (base) du point d'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léments additionnels (ajouts, qualificatif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 / 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vec lesquels sont formés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 (formes autorisées, variantes de formes ou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voi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règles de catalogage et leurs intérprét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ventions de cod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itation de la règ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 de la règ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responsable de la création et de la modification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de l'application et de l'interprétation des règles qu'elle crée et/ou util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Personnes, les Familles, les Collectivités, l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des Personnes, des Familles, des Collectivités, des Œuvres et les entités qu'ils représent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ntité donnée et une seconde entité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bibliographiquement distinc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de naviguer entre points d'accès contrôlés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 des entité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stinc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5XX (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oir aussi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erson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Personne et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Personne et une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Fami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Famille et une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Collectiv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Œ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vres, Expressions, Manifestations, Ite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té Séculière/Religieu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ctions offic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ttribu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abo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tr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ent/Enf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ie, Identités bibliographiques multip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ertz, Barbara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utilise aussi les pseudonymes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arbara Michaels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Elizabeth Pet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physique, 3 identités bibliographiques distinc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3 notices d'autor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séculier / Nom en relig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oncalli, Angelo Giusepp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séculier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Jean XXIII, pap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ctions offic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ul Martin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officiel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Canada. Premier ministre pour 2003-2006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d'attribu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rutus, Marcus Junius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versus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Pseudo-Brutu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abo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rckmann-Chatrian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pseudonyme collectif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Erckmann, Emil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Chatrian, Alexand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2 personnes physiques, 3 identités bibliographiqu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trie (frères et soeur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ent/Enf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ète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ète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(o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tem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ou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une Personne e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ne Famille ou une Collectivité 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art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et sa Famil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associé à une Collectiv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 exemple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ersonne membre d'un groupe musical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uddy Rich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st membr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uddy Rich Ban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Famil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énéalogiqu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aison des Conti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famille descendant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Maison des Cond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une Famille et une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d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Hall (Famill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a fondé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Fondation Famille Hal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prié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Herlin (Famill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st propriétair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K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Collectiv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érarc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ubordi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rédécesseur / Successeur (Nom précédent / suivan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cission / Fus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2920" y="157320"/>
            <a:ext cx="89866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ntités du Groupe 1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2400" y="1784520"/>
            <a:ext cx="78660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quival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r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/part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ompag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 parta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les Noms des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lusieurs nom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e entité donnée utilisés dans différents contex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généralement récipro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des renvois d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aria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nom au nom avec lequel est formé le point d'accès contrôlé autorisé pour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u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4XX (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o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les Noms des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Person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Fami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Collectiv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s Oe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précédent / Nom ultérieur (nom suiv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hibeault, Jacques-Anatol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précédent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France, Anato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Nicholls, Charlott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ultérieur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rontë, Charlot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 Collectiv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 développée du 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ronyme/sigle/abrévi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s Oeuv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conventionnel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mphonie héroïqu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st connue sous le nom conventionn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ymphonies, no 3, op. 55, mi bémol majeu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ur toute ent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1979640"/>
            <a:ext cx="494676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ante linguist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intus Horatius Flaccu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ra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ie Trapp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ppin perh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ted 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s Un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545080" y="2050920"/>
            <a:ext cx="379584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latin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ranç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allemand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inno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angl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ranç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form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point d'accès contrôlé et une autre form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tité dans un autre systè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t le lien entre fichier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7XX (zones de liais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 parallèle dans une autre 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ibliothèque et Archives Canad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= Library and Archives Canad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système d'écri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yrillique ou chinois versus romanis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 (2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enoît XVI, pape, 1927-      (RCAA2 - françai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enedict XVI, Pope, 1927-  (AACR2 - anglai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ré (religieux de la Congrégation de Sainte-Croix ; 1845-1937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fnor - BnF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ré, frère, saint, 1845-1937     (RCAA2 - BAC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utres rel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entre un point d'accès contrôlé pour une entité-sujet et un indice de classification correspond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autama Buddha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 l'interval d'indices LC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Q860-BQ93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entre un point d'accès contrôlé pour une entité et un 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dvances in the history of rhetorique (périodiqu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 son ISSN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1536-2426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S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0880" y="1711080"/>
            <a:ext cx="84553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SAD: Functional Requirements for Subject Authority Data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5-201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e: Marcia Lei Zeng (Kent State University, Ohi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+ FRAD + FRSAD = modèle complet de l'univers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