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</p:sldIdLst>
  <p:sldSz cx="10080625" cy="7559675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88995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64800"/>
            <a:ext cx="88995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100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9760" y="175392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58640" y="175392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6480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9760" y="456480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58640" y="456480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1753920"/>
            <a:ext cx="889956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889956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95120"/>
            <a:ext cx="85950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100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64800"/>
            <a:ext cx="88995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453960" cy="7560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924760" y="6962760"/>
            <a:ext cx="365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AFCC624D-8471-47DD-9BAB-C8B46B9782C3}" type="slidenum"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3160" y="6846840"/>
            <a:ext cx="3595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12 juin 2008, révisé 27 juillet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e594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0880" y="1753920"/>
            <a:ext cx="889956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680" indent="-2127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714680" indent="-2034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146320" indent="-20484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146320" indent="-2048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146320" indent="-2048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933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0880" y="323640"/>
            <a:ext cx="8913960" cy="68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modèles conceptuel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FRBR et FRA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senté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53200" y="5580000"/>
            <a:ext cx="315432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7800" y="135000"/>
            <a:ext cx="86806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9840" y="1754280"/>
            <a:ext cx="8577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atéri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l’expression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exemplaires ayant les mêmes caractéristiques, aussi bien la présentation matérielle que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urrait être une édition commerciale, ou un objet unique comme un manuscrit d’au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7880" y="166320"/>
            <a:ext cx="867096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9840" y="1742760"/>
            <a:ext cx="857700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é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forme intellectuelle ou artistique spécifique que revêt une œuvre lorsqu’elle est ré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mots spécifiques qui forment un texte, les notes spécifiques d'une œuvre musicale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55680"/>
            <a:ext cx="8764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9840" y="1701720"/>
            <a:ext cx="857700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ré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étermi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straction du contenu commun de 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ide dans une identité de contenu au sein des diver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correspond à aucun objet matériel iso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3160" y="406080"/>
            <a:ext cx="854568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Qu'est-ce qu'un “livre”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29200" y="1973160"/>
            <a:ext cx="3362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61960" y="2003040"/>
            <a:ext cx="4214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 perdu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l faut commander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merais lire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 françai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film s'inspire de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référé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E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rouve sa réalisation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e concrétise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est représentée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'ava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ièce de théâ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66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6200" y="1699920"/>
            <a:ext cx="451188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u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280" y="1492200"/>
            <a:ext cx="44434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ntion de responsabil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supp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tés matér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men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92360" y="1430280"/>
            <a:ext cx="4133880" cy="5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 : a comed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new translation by 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w York, N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vre impri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26 p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 c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SBN 0936839759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v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notations / Inscri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Q1825 E5 1987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h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364680"/>
            <a:ext cx="87026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14320" y="1701720"/>
            <a:ext cx="846144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individ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organisme ou un groupe d’individus et/ou d’organismes agissant comme un to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2520" cy="53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ntités / Attribu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Rel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ntités / Attribu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Rel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naissance, mort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s (Duc, Sir, prof., d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Saint, Jr., le Vaill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umérotation (d'un congrès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ocalisation (localisé à, tenu à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de tenu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de statut juridique, ajout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(s)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57700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2800" y="1564920"/>
            <a:ext cx="84726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nt la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nu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 ou artistique d'une œuvre ou d'une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roduc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matérielle et de la distribution d'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ossess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 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 Relations de bas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490716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riétés de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 &lt;propriété de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 &lt;produit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 &lt;réalisé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&lt;conçu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19320" y="1690560"/>
            <a:ext cx="3465720" cy="5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versité McGil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liè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250920"/>
            <a:ext cx="867096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3280" y="1774440"/>
            <a:ext cx="8503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s sujets des œuv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ncep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notion abstraite ou une id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gue ou préc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théories, procédés, techniques, prat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Obje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réalité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imée ou inanim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ation humaine ou présente dans la na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immeubles, navires, plan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Événeme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action ou une circonstance (un fait accompli ou surven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e limite aux événements pouvant constituer le sujet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événements historiques, époques, périodes chronolog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Lieu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emplacement (des coordonnées topographi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storique ou contemporai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aractéristiques gé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r la Terre ou dans l’espa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villes, rivières, montagnes, planè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Bibliographic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u Comité permanent de la Section de catalogage de l’IFLA, 1992-199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en 1998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pécifications fonctionnelles des notices bibliographiqu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publié par la Bibliothèque nationale de France en 200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 détail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seul attribut: “terme désignant le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entités des groupes 1 et 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les sujets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tité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bibliographique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les 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33012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sont caractérisées pa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concer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érentielle ou Autono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 ou 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Œuvre et une autr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Expression (expressions d'œuvr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ifférent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p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u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dap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nsform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mi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Œuvre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722600"/>
            <a:ext cx="4195800" cy="52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hapitre, section, partie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Volume ou numéro d’un périodiq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llustration d’un tex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ande sonore d’un fil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6200" y="1763640"/>
            <a:ext cx="41338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onographie dans une colle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rticle de journal ou de rev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des Expression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e la </a:t>
            </a:r>
            <a:r>
              <a:rPr b="1" lang="en-GB" sz="4000" spc="-1" strike="noStrike" u="sng">
                <a:solidFill>
                  <a:srgbClr val="0e594d"/>
                </a:solidFill>
                <a:uFillTx/>
                <a:latin typeface="Arial"/>
              </a:rPr>
              <a:t>même</a:t>
            </a: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rég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vi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rrangement (musiqu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Manifestation ou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Manifestation et un Item (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Item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Manifestation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316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ternat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92360" y="1722600"/>
            <a:ext cx="3862440" cy="54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im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ite miroi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316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présen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ion simultané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olume d’une manifestation en plusieurs volum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ande sonore d’un fil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d’un ensemble multi-suppor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s séparées ou composantes matériellement inséparab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éthodologie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modèl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-rel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E-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leur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ca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elation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liens) entre les 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rrélation avec les quatre types d’opérations effectuées par les utilisateurs (les tâch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Item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configu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é ave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visé e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trait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matérielle d’un 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ntégrée, par ex.: une pag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distincte, par ex.: un volu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ure d’un li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5480" y="114480"/>
            <a:ext cx="8524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Authority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, FRANAR, de la Division du contrôle bibliographique de l'IFLA, 1999-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xte final, décembre 2008, approuvé mars 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blié juin 2009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onctionnalités requises des données d’autorité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raduit par la BnF en 201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rtée d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pertinentes au contrôle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out types de données d'autorité à un niveau glob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tails pour vedettes de nom, nom-titre, titre uni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ssi les entités qui participent à la création des vedet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tails des attributs des entités du Groupe 3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3 (concept, objet, événement, lie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'est à dire: les autorités de sujet (vedettes-matièr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ère aux FRSAR (2005-2010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2 et du Groupe 1 (designations de relat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sur le traitement des collec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administratives dans les notices d'autorit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9720" y="72720"/>
            <a:ext cx="8618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720" y="1617480"/>
            <a:ext cx="855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ersonnel des bibliothèques qui travaille directement avec l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usagers qui utilisent l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fois direct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souvent via les points d'accès contrôlés dans les notice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00200" y="1763640"/>
            <a:ext cx="8578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entités qui correspondent aux critères de recherch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explorer l'univers des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(confirmer qu'elle correspond à celle recherchée)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valider la forme du nom à utiliser pour établir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xtualis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Jus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5960" indent="0" algn="ctr">
              <a:lnSpc>
                <a:spcPct val="93000"/>
              </a:lnSpc>
              <a:buNone/>
              <a:tabLst>
                <a:tab algn="l" pos="0"/>
                <a:tab algn="l" pos="345960"/>
                <a:tab algn="l" pos="793800"/>
                <a:tab algn="l" pos="1243080"/>
                <a:tab algn="l" pos="1692360"/>
                <a:tab algn="l" pos="2141640"/>
                <a:tab algn="l" pos="2590920"/>
                <a:tab algn="l" pos="3040200"/>
                <a:tab algn="l" pos="3489480"/>
                <a:tab algn="l" pos="3938760"/>
                <a:tab algn="l" pos="4387680"/>
                <a:tab algn="l" pos="4836960"/>
                <a:tab algn="l" pos="5286240"/>
                <a:tab algn="l" pos="5735520"/>
                <a:tab algn="l" pos="6184800"/>
                <a:tab algn="l" pos="6634080"/>
                <a:tab algn="l" pos="7083360"/>
                <a:tab algn="l" pos="7532640"/>
                <a:tab algn="l" pos="7981920"/>
                <a:tab algn="l" pos="8431200"/>
                <a:tab algn="l" pos="8880480"/>
                <a:tab algn="l" pos="9329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Contextualis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ituer une personne, une collectivité, une œuvre, etc. dans son con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larifier la relation entre deux ou plusieurs personnes, collectivités, œuvres, etc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larifier la relation entre une personne, une collectivité, etc. et un nom par lequel cette personne, collectivité, etc.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Justifi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06440" indent="-3045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er les raisons du choix du nom ou de la forme du nom sur lequel est basé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rement dit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45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mprend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quoi un nom ou un titre en particulier, ou une forme du nom ou du titre, a été choisi comme le nom ou titre préféré de l'ent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45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âche du catalogu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tilisateurs des systèmes informatis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l des bibliothèqu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sponsables de la gestion des bases de don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selo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928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 (des FRBR)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,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famill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, expression, manifestation, 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, objet, événement, 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qui sont l'objet d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entités dites d'autorité s'y réfèr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1742760"/>
            <a:ext cx="848700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individu ou un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ident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attribuée ou adoptée par un individu ou par un group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personne bibliographique, peut ne pas être une personne phys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es conjoints, pseudonymes multiples utilisés par une seule 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Famill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845532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ux personnes ou plus liées par la naissance, le mariage, l'adoption, l'union civile ou tout autre statut légal du même ordre, ou qui se présentent comme une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'ISAAR(CPF), description des fonds d'archiv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it logiquement partie du Groupe 2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1240" y="1754280"/>
            <a:ext cx="89107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organisme ou un groupe de personnes et/ou d’organismes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identifié par un nom particul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agissant comme un tou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groupe doit être nom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grès, les conféren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gouvernem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(s)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naissance, mort, 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 (Duc, Sir, prof., D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Gen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ieu (naissance, mort, résidenc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Pay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Affiliation (emploi, membre, ident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Adres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 (2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Domaine d'a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Profession/occup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Biographie/histo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information associée à la personne (saint, J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Famill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famille (clan, dynasti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associ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(résidence, associat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maine d'a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storique de la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(localisé à, tenu à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de tenue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Adres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Domaine d'a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Histor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informations (statut juridique, ajout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Sujet de l'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ieu d'origi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Histor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caractéristique distinct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5960" indent="0" algn="ctr">
              <a:lnSpc>
                <a:spcPct val="93000"/>
              </a:lnSpc>
              <a:buNone/>
              <a:tabLst>
                <a:tab algn="l" pos="0"/>
                <a:tab algn="l" pos="345960"/>
                <a:tab algn="l" pos="793800"/>
                <a:tab algn="l" pos="1243080"/>
                <a:tab algn="l" pos="1692360"/>
                <a:tab algn="l" pos="2141640"/>
                <a:tab algn="l" pos="2590920"/>
                <a:tab algn="l" pos="3040200"/>
                <a:tab algn="l" pos="3489480"/>
                <a:tab algn="l" pos="3938760"/>
                <a:tab algn="l" pos="4387680"/>
                <a:tab algn="l" pos="4836960"/>
                <a:tab algn="l" pos="5286240"/>
                <a:tab algn="l" pos="5735520"/>
                <a:tab algn="l" pos="6184800"/>
                <a:tab algn="l" pos="6634080"/>
                <a:tab algn="l" pos="7083360"/>
                <a:tab algn="l" pos="7532640"/>
                <a:tab algn="l" pos="7981920"/>
                <a:tab algn="l" pos="8431200"/>
                <a:tab algn="l" pos="8880480"/>
                <a:tab algn="l" pos="9329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BR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ssources qui correspondent aux critères de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correspond à celle recherchée par l’utilisa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hois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soit en adéquation avec ses besoi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voir accè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à la ressource décr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ocal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Historique de la conservatio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FRBR : Provenanc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Source immédiate d'acquis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Autres attributs définis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6202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e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0080" y="1690200"/>
            <a:ext cx="854568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es entités constituent les données d'autorit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genc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3280" y="166320"/>
            <a:ext cx="85788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7280" y="1658520"/>
            <a:ext cx="86281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caractère ou une séquence de caractères ou de mots par lequel une entité est connue dans le monde ré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nom ou terme de ba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l qu'utilisé dans le monde (à l'extérieur des bibliothè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nom (la catégori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haîne du nom (séquence de caractères numériques et/ou alphabétiques ou de symbol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hamp d’util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d’util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 du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criture du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ystème de translittération du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1240" y="156960"/>
            <a:ext cx="8607600" cy="12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9040" y="1742760"/>
            <a:ext cx="85867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uméro, code, mot, expression, logo, etc. associé avec une entité, visant à la différencier de toute autre entité appartenant au domaine d'activité dans lequel l'identifiant est attribu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sont pas seulement les identifiant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'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 code ou autre désignation indiquant la catégorie de l’identifiant (domaine d’attribution de l’identifian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07760" y="1879560"/>
            <a:ext cx="85676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om, terme, code, etc. sous lequel on peut trouver une notice bibliographique ou une notice d'autorité ou un renvo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formes établies / autorisées / préfér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les variantes de forme (renvoi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0880" y="1406520"/>
            <a:ext cx="891396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u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tatut du point d’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sage du point d’accès contrôlé (autorisé / vari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’accès indifférenci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, écriture, translittération de la racine du point d'accès et de catalog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ur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acine (base) du point d'accè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léments additionnels (ajouts, qualificatif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9560" y="146160"/>
            <a:ext cx="86392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5960" indent="0" algn="ctr">
              <a:lnSpc>
                <a:spcPct val="93000"/>
              </a:lnSpc>
              <a:buNone/>
              <a:tabLst>
                <a:tab algn="l" pos="0"/>
                <a:tab algn="l" pos="345960"/>
                <a:tab algn="l" pos="793800"/>
                <a:tab algn="l" pos="1243080"/>
                <a:tab algn="l" pos="1692360"/>
                <a:tab algn="l" pos="2141640"/>
                <a:tab algn="l" pos="2590920"/>
                <a:tab algn="l" pos="3040200"/>
                <a:tab algn="l" pos="3489480"/>
                <a:tab algn="l" pos="3938760"/>
                <a:tab algn="l" pos="4387680"/>
                <a:tab algn="l" pos="4836960"/>
                <a:tab algn="l" pos="5286240"/>
                <a:tab algn="l" pos="5735520"/>
                <a:tab algn="l" pos="6184800"/>
                <a:tab algn="l" pos="6634080"/>
                <a:tab algn="l" pos="7083360"/>
                <a:tab algn="l" pos="7532640"/>
                <a:tab algn="l" pos="7981920"/>
                <a:tab algn="l" pos="8431200"/>
                <a:tab algn="l" pos="8880480"/>
                <a:tab algn="l" pos="9329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odèle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0960" y="1784160"/>
            <a:ext cx="890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connues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et / ou IDENTIFIA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vec lesquels sont formés 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S d'ACCÈS CONT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Ô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0880" y="1670040"/>
            <a:ext cx="837252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instructions sur la formulation et/ou l'enregistrement des points d'accès contrôlés (formes autorisées, variantes de formes ou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nvoi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règles de catalogage et leurs intérprét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ventions de cod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44200" y="396720"/>
            <a:ext cx="8505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s d'entité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1: Productions artistiques ou intellectu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2: Responsables d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3: Sujets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itation de la règ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 de la règ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4870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organisme responsable de la création et de la modification des points d'accès contrô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de l'application et de l'interprétation des règles qu'elle crée et/ou util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de l’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 de l’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ocalisation de l’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3840" indent="-2905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Personnes, les Familles, les Collectivités, l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3840" indent="-2905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Noms des Personnes, des Familles, des Collectivités, des Œuvres et les entités qu'ils représent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3840" indent="-2905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lusieurs Points d'Accès Contrôlés pour une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Entité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ntité donnée et une seconde entité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bibliographiquement distinc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mettent de naviguer entre points d'accès contrôlés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orisé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 des entité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istinc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dage MARC 21 : 5XX (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Voir aussi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erson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Personne et une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Personne et une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Fami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Famille et une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Collectiv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Œ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vres, Expressions, Manifestations, Item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té Séculière/Religieu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ctions offic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ttribu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abo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tr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ent/Enf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ie, Identités bibliographiques multip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ertz, Barbara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utilise aussi les pseudonymes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arbara Michaels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Elizabeth Pet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e personne physique, 3 identités bibliographiques distinc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3 notices d'autorit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séculier / Nom en relig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Roncalli, Angelo Giusepp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séculier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Jean XXIII, pap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ctions offic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ul Martin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officiel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Canada. Premier ministre pour 2003-2006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 d'attribu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rutus, Marcus Junius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versus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Pseudo-Brutu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abo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rckmann-Chatrian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pseudonyme collectif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Erckmann, Emil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Chatrian, Alexand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2 personnes physiques, 3 identités bibliographiqu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trie (frères et soeur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ent/Enf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 cœur de la notic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abstraites reflètent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concrètes reflètent la présentation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 (o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tem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ou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une Personne e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ne Famille ou une Collectivité 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art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e Personne et sa Famil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e Personne associé à une Collectivit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 exemple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ersonne membre d'un groupe musical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uddy Rich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st membre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uddy Rich Ban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Famil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énéalogiqu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aison des Conti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famille descendante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Maison des Cond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une Famille et une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d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Hall (Famille)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a fondé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Fondation Famille Hal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prié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Herlin (Famille)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st propriétaire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Ko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Collectiv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érarc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Subordi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quent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rédécesseur / Successeur (Nom précédent / suivan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Scission / Fus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2920" y="157320"/>
            <a:ext cx="89866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Entités du Groupe 1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selo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52400" y="1784520"/>
            <a:ext cx="78660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quival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riv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out/part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compag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quenti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aractéristique partag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 entre les Noms des Entité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lusieurs nom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e entité donnée utilisés dans différents contex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généralement récipro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ent des renvois d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variant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nom au nom avec lequel est formé le point d'accès contrôlé autorisé pour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un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dage MARC 21 : 4XX (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Vo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 entre les Noms des Entité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 Person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 Fami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 Collectiv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s Oe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oms d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précédent / Nom ultérieur (nom suiv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hibeault, Jacques-Anatol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précédent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France, Anato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Nicholls, Charlott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ultérieur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rontë, Charlot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variante (variantes d'orthographe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oms de Collectiv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 développée du 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ronyme/sigle/abrévi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variante (variantes d'orthographe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oms des Oeuv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conventionnel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mphonie héroïqu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st connue sous le nom conventionne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ymphonies, no 3, op. 55, mi bémol majeu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variante (variantes d'orthographe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7000" y="186840"/>
            <a:ext cx="869148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5345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solé d’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concret, généralement matériel, stocké dans les collections des bibliothè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ut comprendre plusieurs parties (volumes d'un ouvrag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ur toute ent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1979640"/>
            <a:ext cx="494676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riante linguist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intus Horatius Flaccu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ra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lie Trapp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ppin perh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ted N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tions Un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545080" y="2050920"/>
            <a:ext cx="379584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latin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frança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allemand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finno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angla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frança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 entre plusieurs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ints d'Accès Contrôl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form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orisé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 point d'accès contrôlé et une autre form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orisé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tité dans un autre systè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t le lien entre fichier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dage MARC 21 : 7XX (zones de liais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entre plusieurs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ints d'Accès Contrôl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 parallèle dans une autre 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ibliothèque et Archives Canad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= Library and Archives Canad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système d'écri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yrillique ou chinois versus romanis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entre plusieurs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ints d'Accès Contrôlés (2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enoît XVI, pape, 1927-      (RCAA2 - françai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enedict XVI, Pope, 1927-  (AACR2 - anglai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ré (religieux de la Congrégation de Sainte-Croix ; 1845-1937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fnor - BnF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ré, frère, saint, 1845-1937     (RCAA2 - BAC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utres relation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 entre un point d'accès contrôlé pour une entité-sujet et un indice de classification correspond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Gautama Buddha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 l'interval d'indices LC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Q860-BQ93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 entre un point d'accès contrôlé pour une entité et un 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dvances in the history of rhetorique (périodique)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 son ISSN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1536-2426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S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0880" y="1711080"/>
            <a:ext cx="8455320" cy="55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SAD: Functional Requirements for Subject Authority Data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5-201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idente: Marcia Lei Zeng (Kent State University, Ohi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+ FRAD + FRSAD = modèle complet de l'univers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