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gif" ContentType="image/gif"/>
  <Override PartName="/ppt/media/image8.jpeg" ContentType="image/jpeg"/>
  <Override PartName="/ppt/media/image11.png" ContentType="image/png"/>
  <Override PartName="/ppt/media/image6.wmf" ContentType="image/x-wm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gif" ContentType="image/gif"/>
  <Override PartName="/ppt/media/image7.png" ContentType="image/png"/>
  <Override PartName="/ppt/media/image12.png" ContentType="image/png"/>
  <Override PartName="/ppt/media/image4.wmf" ContentType="image/x-wmf"/>
  <Override PartName="/ppt/media/image10.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2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0BBA-EACD-4C96-A3E4-188F6345B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onjou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me fait plaisir de vous accueillir à cet atelier portant sur les RDA et offert dans le cadre du 11</a:t>
            </a:r>
            <a:r>
              <a:rPr b="0" lang="fr-CA" sz="1400" spc="-1" strike="noStrike" baseline="30000">
                <a:solidFill>
                  <a:srgbClr val="000000"/>
                </a:solidFill>
                <a:latin typeface="Arial"/>
              </a:rPr>
              <a:t>e</a:t>
            </a:r>
            <a:r>
              <a:rPr b="0" lang="fr-CA" sz="1400" spc="-1" strike="noStrike">
                <a:solidFill>
                  <a:srgbClr val="000000"/>
                </a:solidFill>
                <a:latin typeface="Arial"/>
              </a:rPr>
              <a:t> congrès de l’APTD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premier lieu je voudrais me présenter.  Mon nom est Marcel Plourde et je suis le chef du catalogage de la Bibliothèque de l’Université Laval.  J’occupe ce poste depuis maintenant tout près de 8 ans mais auparavant, j’ai travaillé de nombreuses années pour le Gouvernement du Québec au sein de divers ministères et organismes.  Je suis également président du Groupe de travail sur le traitement de la documentation de la CREPUQ pour les années 2009/2010 et 2010/201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incipales raisons justifiant une mise à jour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utres raisons militaient également pour une mise à jour profonde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itement de documents appartenant à plus d’un support: A titre d’exemple un enregistrement vidéo disponible en ligne sur un serveur à distance, ou un enregistrement sonore disponible en format MP3… présenté sur une mémoire flash ou un clé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2002, les travaux débutent donc pour une révision en profondeur des RCAA2, destinées à s’appeler RCAA3.  Cependant en avril 2005 les plans sont modifiés.  Les travaux préliminaires de RCAA3 vont trop loin et il n’est plus possible de conserver la structure initiale si on veut tenir compte à la fois de l’environnement numérique, et des avancées faites au niveau international sur les modèles conceptuels développés par l’IFLA.  Une nouvelle structure et un nouveau plan sont développés et déposés, et le nom est changé également pour RDA : Resource Description and Access.  On vise ainsi à mettre l’emphase sur ces deux aspects importants du catalogage que sont la description et l’ac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plus, on enlève la notion «anglo-américaine» afin de mettre de l’avant une vision plus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un peu plus tôt de modèles conceptuels sur lesquels s’appuient les RDA.  Je voudrais prendre du temps pour vous en parler un peu plus parce qu’ils sont la base sur laquelle a été développé RDA, et une grande partie du vocabulaire et de la façon percevoir et de décrire la réalité des RDA est inspirée de ces modè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nouveau code de catalogage tient compte des modèles théoriques qui ont été développés au cours des deux dernières décennies par des groupes de travail de l’IFLA.  Nous parlons ici de FRBR (Functional Requirements for Bibliographic Records), Spécifications fonctionnelles pour les notices bibliographiques, de FRAD pour Functional Requirements for Authority Data, Spécifications fonctionnelles pour les données d’autorités, et de FRSAR, Functional Requirements for Subject Authority Records, pour Spécifications fonctionnelles pour les notices d’autorités sujets, ainsi que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ais surtout ici me pencher sur les modèles conceptuels qui ont été développés par l’IFLA et qui sont à la base du nouveau code de catalogage après vous avoir parlé un peu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mplacent les Principes de Paris de 1961 et donnent le cadre théorique sur lequel devrait s’appuyer les catalogues de bibliothèques.  Il en définit les principales fonctions, s’appuie sur les concepts FRBR et couvrent tous les types de res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6960"/>
            <a:ext cx="4648320" cy="3486240"/>
          </a:xfrm>
          <a:prstGeom prst="rect">
            <a:avLst/>
          </a:prstGeom>
          <a:ln w="0">
            <a:noFill/>
          </a:ln>
        </p:spPr>
      </p:sp>
      <p:sp>
        <p:nvSpPr>
          <p:cNvPr id="5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posent donc sur les modèles développés par l’IFLA et sont basés sur les tâches principales qu’accomplissent la majorité des utilisateurs dans les catalogues de bibliothè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mmément dans le cas du modèl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premier modèle qui a été développé et qui est le plus connu dans le monde de la documentation est le modèle FRBR pour Functional Requirements for Bibliographic Records ou plus simplement, Spécifications fonctionnelles des notices bibliographiques.  En fait, quand on parle de l’ensemble des trois modèles conceptuels touchant les notices bibliographiques, les données d’autorités et d’autorités sujets, on utilise habituellement le génériqu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offre une structure qui décrit ce que doivent contenir les notices bibliographiques pour répondre aux besoins de base des utilisateurs tels qu’ils ont été identifiés dans la diapositive précédente.  C’est un modèle entités relations qui identifie tous les éléments existants dans l’univers bibliographique, et comment ils sont reliés entre eux.  Il permet de regrouper ensemble des éléments qui partagent le même contenu artistique ou intellectuel. Quand on parle d’un modèle entités relations, on parle plus spécifiquement d’un cadre  composé d’éléments que nous appellerons entités, et des diverse relations qu’il est possible d’établir entre elles pour organiser l’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a donc trois groupes d’éléments d’informations ayant des relations entre eux et qui composent une noti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1</a:t>
            </a:r>
            <a:r>
              <a:rPr b="0" lang="fr-CA" sz="1200" spc="-1" strike="noStrike">
                <a:solidFill>
                  <a:srgbClr val="000000"/>
                </a:solidFill>
                <a:latin typeface="Arial"/>
              </a:rPr>
              <a:t> sont le produit de l’effort artistique ou intellectuel et sont utilisées pour décrire les ressources bibliographiques.  Ces éléments servent donc à décrire le document que nous avons en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2</a:t>
            </a:r>
            <a:r>
              <a:rPr b="0" lang="fr-CA" sz="1200" spc="-1" strike="noStrike">
                <a:solidFill>
                  <a:srgbClr val="000000"/>
                </a:solidFill>
                <a:latin typeface="Arial"/>
              </a:rPr>
              <a:t> sont les entités responsables du contenu intellectuel ou artistique, de la production physique de l’ouvrage ou des produits.  Ce sont des personnes ou des organismes.  Il peut s’agir également de familles, puisque cette notion est très importante dans le monde de l’archivistique.  Ces éléments servent donc à attribuer les responsabilités relatives au document que nous avons en 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3</a:t>
            </a:r>
            <a:r>
              <a:rPr b="0" lang="fr-CA" sz="1200" spc="-1" strike="noStrike">
                <a:solidFill>
                  <a:srgbClr val="000000"/>
                </a:solidFill>
                <a:latin typeface="Arial"/>
              </a:rPr>
              <a:t> sont les entités qui servent de sujets aux manifestations artistiques ou intellectuelles du Groupe 1.  Les entités du groupe 3  sont composés en premier lieu des concepts, objets, événements, ou lieux géographiques servant à décrire les manifestations artistiques ou intellectuelles.  Ils peuvent également inclure toutes les entités du Groupe 1, toutes les entités du Groupe 2,  puisqu’une ressource bibliographique peut avoir comme sujet une personne, une famille, un organisme, ou tout simplement une autre œuvre. Ces derniers éléments servent donc à l’analyse documentaire du document que nous avons en main.  Si je vous parlais en terme de MARC21, je vous parlerais ici des zones 600, 610, 611, 630, 650,651, 65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6960"/>
            <a:ext cx="4648320" cy="3486240"/>
          </a:xfrm>
          <a:prstGeom prst="rect">
            <a:avLst/>
          </a:prstGeom>
          <a:ln w="0">
            <a:noFill/>
          </a:ln>
        </p:spPr>
      </p:sp>
      <p:sp>
        <p:nvSpPr>
          <p:cNvPr id="5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présente de nouvelles définitions qui sont indispensables pour la compréhension des RDA puisque toute la structure logique des RDA est basée sur cette nouvelle terminolog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te nouvelle terminologie présente des termes comme Œuvre, Expression, Manifestation, Item ou exemp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une façon de concevoir l’univers bibliographique qui était présent dans RCAA2 mais plutôt en filigrame, sans être clairement définie, documentée ou expliq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e vous disais donc que le vocabulaire est très important et fondamental dans la compréhension de ce nouvel univers bibliographique… et on y apprend notamment que le terme livre peut recouvrir plusieurs réalités très différentes.  Prenons quelques instants pour discuter des principaux concepts que peut recouvrir le simple mot «li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parle d’un livre, je peux parler d’un objet spécifique qui consiste en un certain nombre de pages, reliées ou brochées.  Il peut servir, comme j’ai entendu dans une autre présentation, à tenir une porte ouverte ou a caler un meuble.  Ce peut être l’objet que j’ai emprunté à la bibliothèque municipale ou acheté chez un libraire,  et emporté avec moi lors de mes dernières vacances.  FRBR l’appelle un item ou exemplai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vais à la librairie et que je demande le un livre, disons le tome 3 de Millenium intitulé </a:t>
            </a:r>
            <a:r>
              <a:rPr b="1" lang="fr-CA" sz="1000" spc="-1" strike="noStrike">
                <a:solidFill>
                  <a:srgbClr val="000000"/>
                </a:solidFill>
                <a:latin typeface="Arial"/>
              </a:rPr>
              <a:t>La reine dans les palais des courants d’air</a:t>
            </a:r>
            <a:r>
              <a:rPr b="0" lang="fr-CA" sz="1000" spc="-1" strike="noStrike">
                <a:solidFill>
                  <a:srgbClr val="000000"/>
                </a:solidFill>
                <a:latin typeface="Arial"/>
              </a:rPr>
              <a:t> publié chez Actes Sud, une copie spécifique importe peu pour moi, dans la mesure bien entendu où elle a toute ses pages, puisque c’est le contenu qui m’intéresse. A la limite qu’il soit relié ou broché a peu d’importance également.  FRBR parle ici d’une manifes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demande qui a traduit tel livre, je peux avoir en tête un texte spécifique dans une langue particulière, ou bien une traduction très bien identifiée.  FRBR parle ici d’une expre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m’élève à un niveau encore plus élevé, au niveau conceptuel, artistique ou intellectuel, à l’étincelle de génie, à l’idée de l’œuvre, peu importe ses versions linguistiques, en d’autres mots à l’idée qui sous-tend le livre, FRBR parle ici de l’œu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ai donc ici quatre niveaux différents de représentation du concept livre, et ces quatre niveaux superposés forment une pyramide, ou la pointe est constitués par l’œuvre, et la base par les multiples exemplaires de toutes les manifestations de toutes les expressions de l’œuvre en ques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 résumer, nous avons donc ici ces quatre niveaux à l’intérieur du Groupe 1.  Deux sont purement intellectuels et sont représentés par l’œuvre et ses diverses expressions, et deux autres sont matériels et touchent la façon dont se manifeste la réalisation intellectuelle ou artis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e savez tous, les RCAA2 qui ont guidé l’action des catalogueurs depuis un peu plus de trente ans laisseront bientôt la place aux RDA.  Ce changement important éveille des sentiments de doute, de crainte ou d’incrédulité pour plusieurs catalogueurs.  Ma présentation visera à vous faire mieux connaître le nouveau code de catalogage qui sera implanté graduellement dans les bibliothèques nord-américaines au cours de l’année 2010 et à répondre aux questions suivant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 sont les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quoi ce nouveau code de catalogage a-t-il été développé et quelles sont ses orig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les sont les principales différences entre RCAA2 et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 est le scénario d’implantation prév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drais préciser dans un premier temps que je ne suis pas un spécialiste de RDA et que d’autres personnes au Québec sont beaucoup plus au fait que moi sur le sujet, pour avoir œuvré sur différents comités relatifs au travaux en cours.  J’ai néanmoins pu bénéficier de leur expérience et de certains de leurs documents pour la préparation de mon allocution.  Je voudrais donc remercier spécifiquement mesdames Pat Riva de BAnQ  et Christine Oliver de l’Université McGill, ainsi que monsieur Daniel Paradis de l’Université Concord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6960"/>
            <a:ext cx="4648320" cy="3486240"/>
          </a:xfrm>
          <a:prstGeom prst="rect">
            <a:avLst/>
          </a:prstGeom>
          <a:ln w="0">
            <a:noFill/>
          </a:ln>
        </p:spPr>
      </p:sp>
      <p:sp>
        <p:nvSpPr>
          <p:cNvPr id="5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résum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œuv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Trouve sa réalisation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pr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Se concrétise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a manifest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Est représentée p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emplai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762120" y="4343400"/>
            <a:ext cx="54864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exemple concert des quatre niveaux du modèle FRBR pour les créations intellectuelles et artistiques.  Vous pouvez vous amuser à essayer de trouver d’autres exemples dans les documents que vous traitez couramment, ou dans ce que vous lisez pour le plaisir ou même dans ce que vous visionnez au cinéma ou a la télé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s garantis que vous ne regarderez plus jamais un «livre» de la même maniè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ttributs des entités du Groupe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attachés aux éléments d’un groupe sont les éléments essentiels et distinctifs qui servent à décrire chacune des entités que nous avons vus dans les diapositives précéde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insi, les attributs essentiels d’une œuvre sont le titre, peut être une date de création, et éventuellement un numéro d’enregistrement, tel qu’un numéro de copyright.  La mention de l’auteur n’a pas été retenue comme attribut d’une œuvre ou d’une expression de l’œuvre parce que cette information a été comprise dans le Groupe 2 des créateurs, comme une relation entre une œuvre ou son expression et une personne ou une collectivité.  Les diapositives reprises plus loin permettront de mieux comprendre cette réalité.</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relatifs à une expression reprennent le titre, mais peuvent également contenir la forme, ou dans le cas d’une traduction, la langue dans laquelle l’œuvre a été traduite. Vous remarquez ici qu’il n’y a pas encore d’élément physique dans les attributs de l’expression, puisque nous sommes encore dans l’immatéri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a manifestation est concrète, tangible et incarnée.  En anglais on utilise le terme Embodied.  Les attributs d’une manifestation reprennent toute l’information présente dans le document que nous avons en main et que nous traitons.  Ces éléments sont représentatifs de la manifestation que nous possédons, que nous ajouterons à la collection de notre bibliothèque, et pour laquelle nous fournirons des accès.  On peut donc dire de façon générale que la description bibliographique, le catalogage tel que nous le pratiquons se situe au niveau de la manifes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d’un exemplaire peuvent comprendre le numéro de code zébré attribué à mon exemplaire à ma bibliothèque, une localisation spécifique, ou éventuellement le donnateur du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Il nous faut comprendre aussi que pour 80% des documents que nous traitons, il y a une correspondance directe entre l’œuvre, l’expression, la manifestation, et l’exemplaire.  Ainsi, la plupart des documents que acquerrons sont publiés une fois par un éditeur dans une seule langue.  Toutes les entités du Groupe 1 sont alors confondues dans un seul objet, qui est l’exemplaire que nous avons en m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6960"/>
            <a:ext cx="4648320" cy="3486240"/>
          </a:xfrm>
          <a:prstGeom prst="rect">
            <a:avLst/>
          </a:prstGeom>
          <a:ln w="0">
            <a:noFill/>
          </a:ln>
        </p:spPr>
      </p:sp>
      <p:sp>
        <p:nvSpPr>
          <p:cNvPr id="5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ttributs des entités des Groupes 2 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des entités du Groupe 1 qui sont les entités responsables du catalogage descriptif.  Il y a deux autres groupes responsables de la création du contenu intellectuel ou artistique, et de l’analyse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2 (FRAD) sont les entités responsables du contenu intellectuel et artistique, de l’édition ou de la production de ce contenu.  Il peut s’agit de personnes ou de collectivités, et toutes les activités reliées à la création, traduction, illustration, production, dissémination d’une œuvre sont touchées.  Notez que le modèle prévoit ici que les familles font partie des éléments du Groupe 2, afin de répondre aux besoin du monde des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3 (FRSAR) sont les entités qui servent de sujets aux manifestations artistiques ou intellectuelles.  Elles peuvent comprendre toutes les entités du Groupe 1 ou du Groupe 2, en plus des concepts, des objets, des événements ou des lieux.  Pourquoi inclure ici les entités du Groupe 1 et du Groupe 2, parce qu’une œuvre peut être le sujet d’un document, comme peut l’être une personne ou une collectivit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 modèle entités-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 qui est intéressant du modèle tel qu’il a été déterminé, c’est qu’il est constitué d’éléments qui peuvent avoir des relations avec les éléments du même groupe, ou avec des éléments des autr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un peu comme si on découpait la réalité en parties composantes, et qu’on pouvait les aménager, ou les relier de façon souple, en fonction des besoins.  Vous verrez un peu plus loin que cette façon de saisir la réalité peut être très utile lorsque l’on fait du traitement documenta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C33C-9FF4-4324-BBE7-60416C35348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3"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64D2-D86A-4D9D-B288-26E394F85E9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8DCA-D128-4375-80A7-48C5AC94024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8400"/>
            <a:ext cx="4647960" cy="3486240"/>
          </a:xfrm>
          <a:prstGeom prst="rect">
            <a:avLst/>
          </a:prstGeom>
          <a:ln w="0">
            <a:noFill/>
          </a:ln>
        </p:spPr>
      </p:sp>
      <p:sp>
        <p:nvSpPr>
          <p:cNvPr id="536" name="PlaceHolder 2"/>
          <p:cNvSpPr>
            <a:spLocks noGrp="1"/>
          </p:cNvSpPr>
          <p:nvPr>
            <p:ph type="body"/>
          </p:nvPr>
        </p:nvSpPr>
        <p:spPr>
          <a:xfrm>
            <a:off x="382680" y="4389480"/>
            <a:ext cx="6246720" cy="4495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pouvant exister entre les éléments du Groupe 1 sont illustrées ic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se réalise à travers une ou plusieurs expre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se concrétise dans une ou plusieurs manifest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représentés par des exemplai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 ensemble de relations est présent quand j’ai l’exemplaire d’un document en m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2611-69D0-493E-9992-6AD8E4AB88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9"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22D7-5C6B-44B3-B697-F3447A863EA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0365-1BE9-486B-9373-75442CBBC2F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6640" y="698400"/>
            <a:ext cx="4647960" cy="3486240"/>
          </a:xfrm>
          <a:prstGeom prst="rect">
            <a:avLst/>
          </a:prstGeom>
          <a:ln w="0">
            <a:noFill/>
          </a:ln>
        </p:spPr>
      </p:sp>
      <p:sp>
        <p:nvSpPr>
          <p:cNvPr id="542" name="PlaceHolder 2"/>
          <p:cNvSpPr>
            <a:spLocks noGrp="1"/>
          </p:cNvSpPr>
          <p:nvPr>
            <p:ph type="body"/>
          </p:nvPr>
        </p:nvSpPr>
        <p:spPr>
          <a:xfrm>
            <a:off x="533160" y="4416120"/>
            <a:ext cx="59418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sque j’ajoute les éléments du Groupe2, j’ai déjà une autre vision de ma ressour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que peuvent avoir les éléments du Groupe 2 avec les éléments du Groupe 1 relètent l’ensemble de rôles que les membres du Groupe 2 peuvent avoir en regard des ressources bibliograp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est créée par une personne, une famille, ou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est réalisée par une personne, une famille, ou un organisme.  Ceci inclut les traducteurs, illustrateurs, préfaciers,  ou toute personne responsible du contenu artistique ou intellectuel de l’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produite par une personne, une famille,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finalement, un exemplaire peut être possédé par une personne, une famille, ou un organisme, comme une bibliothè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2"/>
          <p:cNvSpPr/>
          <p:nvPr/>
        </p:nvSpPr>
        <p:spPr>
          <a:xfrm>
            <a:off x="149400" y="15228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7D36-65F8-4BA8-AD9E-C6E98AD9DB9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035B-4554-4889-BE50-03763A6CD77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412E-84FB-4FF7-881F-FAE265973D6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8400"/>
            <a:ext cx="4647960" cy="3486240"/>
          </a:xfrm>
          <a:prstGeom prst="rect">
            <a:avLst/>
          </a:prstGeom>
          <a:ln w="0">
            <a:noFill/>
          </a:ln>
        </p:spPr>
      </p:sp>
      <p:sp>
        <p:nvSpPr>
          <p:cNvPr id="548" name="PlaceHolder 2"/>
          <p:cNvSpPr>
            <a:spLocks noGrp="1"/>
          </p:cNvSpPr>
          <p:nvPr>
            <p:ph type="body"/>
          </p:nvPr>
        </p:nvSpPr>
        <p:spPr>
          <a:xfrm>
            <a:off x="298440" y="4416480"/>
            <a:ext cx="6176880" cy="472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troisième diapositive indique les relations qui impliquent le groupe 3 et permet de concevoir la complexité, mais également la flexibilité du modèle FR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on peut voir ici qu’une oeuvre peut être le sujet d’une autre oeuvre.  Ainsi à titre d’exemple la quirielle d’oeuvres plus ou moins scientifiques qui ont été publiés en relation avec le Code DaVinci de Dan B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pourrais aussi voir l’histoire d’une famille, dans la quelle un élément du groupe 2 deviendrait le sujet d’un élément du group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quoi avons-nous besoin de FRB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nous l’avons vu, FRBR nous a permis de clarifier certains concepts qui n’avaient peut-être pas été bien définis ou compris auparavant.  J’ai peu parlé de FRAD (Functional Requirements for Authority Data),  et de FRSAR (Functional Requirements for Subject Authority Records), mais ces deux modèles conceptuels fournissent la base théorique qui nous manquait pour l’élaboration des notices et des fichiers d’autorités  et des fichiers d’autorités sujets, en indiquant quels sont les tâches auxquelles doivent répondre les notices d’autorités et de quelles façons elles doivent être constituées. Il s’agit ici d’une amélioration fondamentale puisque nous avons toujours élaboré des fichiers d’autorités sans nous préoccuper profondément du pourquoi et com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découpant l’information de cette façon, les modèles de type FRBR permettent de faciliter les regroup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Autre élément intéressant, FRBR permet de réutiliser l’information.  Ainsi, si j’ai traité une œuvre en particulier, et que j’ai procédé à son analyse documentaire, c’est-à-dire des vedettes matière et un indice de classification,  je pourrais réutiliser la majeure partie des éléments de la description attribuée à l’œuvre, incluant les autorités, l’indexation, et éventuellement les indices de classification, pour les attribuer à une manifestation spécifique de l’œuvre en question.  Dans le contexte d’un environnement numérique, cette association pourrait être réalisée par des liens informatiques reliant les éléments d’informations entre eux.  En fait, il s’agit de la poursuite normale du cheminement que nous accompli au cours des dernières années avec la dérivation des notices bibliographiques, il s’agit d’un pas en avant vers le partage des ressources bibliograph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6960"/>
            <a:ext cx="4648320" cy="3486240"/>
          </a:xfrm>
          <a:prstGeom prst="rect">
            <a:avLst/>
          </a:prstGeom>
          <a:ln w="0">
            <a:noFill/>
          </a:ln>
        </p:spPr>
      </p:sp>
      <p:sp>
        <p:nvSpPr>
          <p:cNvPr id="5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ttee of Principals comprend les directeurs de the American Library Association, the Canadian Library Association,  the Chartered Institute of Library and Information Professionals, et les directeurs de Library of Congress, Bibliothèques et Archives Canada,  the National Library of Australia, et the British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Joint Steering Committee est formé des associations suiv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merican Libra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stralian Committee on Catalo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British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ité canadien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L’Asted, BAC, CLA et 8 autre organi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tered Institute of Library and Information Professio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brary of Congr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animaux malades de la P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urais pu trouver une analogie peut-être moins dramatique pour illustrer mon propos que cette fable de Jean de La Fontaine que vous avez sans doute tous lue…. Cependant, elle permet d’illustrer le fait que tous les milieux documentaires seront touchés, d’une façon ou d’une autre, par l’implantation des nouvelles règles de catalogage.  A titre de techniciens en documentation préoccupés de traitement documentaire, vous serez donc en première ligne pour vivre le changement annonc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n peut néanmoins espérer que la transition se fera en douceur et sans trop d’anicro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fait un grand détour pour vous amener à RDA mais je pense qu’il était indispensable pour comprendre sur quelles bases théoriques s’articule le code que vous devrez mettre en application au cours des prochaines a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reviens donc ici sur RDA en vous présentant en premier lieu les objectifs qui ont conduit à son é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ndé sur des principes de catalog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ésentant une structure logique, extensible et flexible pour la description de tous les types de ressources et tous les types de contenus.  On comprend donc ici que RDA sera capable d’accueillir et de traiter des documents, sur des supports documentaires ou des médias qui n’existent pas encore aujourd’h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épondant aux besoin des usagers, selon les 5 grandes tâches sur lesquelles se base les FRBR qui sont Trouver, Identifier, Choisir, Obtenir, Navig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urnissant des notices bibliographiques compatibles avec les principes, normes et modèles établis au plan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ant à supprimer les biais religieux et cultur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appuyant sur le jugement des catalogueurs, au lieu de règles strictes.  C’est peut être un des éléments les plus importants de la réf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04840" y="696960"/>
            <a:ext cx="4648320" cy="3486240"/>
          </a:xfrm>
          <a:prstGeom prst="rect">
            <a:avLst/>
          </a:prstGeom>
          <a:ln w="0">
            <a:noFill/>
          </a:ln>
        </p:spPr>
      </p:sp>
      <p:sp>
        <p:nvSpPr>
          <p:cNvPr id="5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tres communautés:  Monde de l’édition, monde des archives, monde utilisant d’autres systèmes de méta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urtout compatible avec les données RCAA2.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6960"/>
            <a:ext cx="4648320" cy="3486240"/>
          </a:xfrm>
          <a:prstGeom prst="rect">
            <a:avLst/>
          </a:prstGeom>
          <a:ln w="0">
            <a:noFill/>
          </a:ln>
        </p:spPr>
      </p:sp>
      <p:sp>
        <p:nvSpPr>
          <p:cNvPr id="5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est un instrument Web conçu pour être utilisé en ligne.  Malheureusement, aucune version en ligne n’est encore disponible ce qui rend plus difficile son évaluation.  Si vous recherchez sur le Web à RDA Toolkit, vous trouverez une présentation Web qui vous permettra de vous familiariser un peu avec l’ou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cune version papier ne sera disponible, mais j’ai vu sur certains Blogs que certaines personnes envisages de produire l’équivalent de Tirés à part pour des support ou des classes de documents déterminé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distingue la description de la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us avons vu précédemment que RDA avait été conçu pour être utilisable par d’autres communautés que la communauté des bibliothèques, nommément les archives et le monde de l’édition.  C’est donc dire que la présentation et la ponctuation utilisées dans le monde des bibliothèques ont été complètement retirés de la description des éléments d’information.  Ainsi, la ponctuation ISBD que nous connaissons et utilisons ne fera plus partie du corps du document, mais se retrouvera plutôt en annexe.  Les informations traitées selon RDA pourraient donc être utilisées avec d’autre systèmes de bases de données que ceux utilisant MARC 21 et la ponctuation IB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a une plus grande conscience des us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faut se rappeler que la limitation des points d’accès, connue sous le nom de règle de trois, ainsi que l’utilisation des abréviations avait été instaurée pour des raisons historiques de limitation de l’espace disponible.  Non seulement ces considérations conduisent à limiter l’accès à l’information, mais également à compliquer l’expérience des utilisateurs par l’utilisation d’un vocabulaire un peu hermé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galement, Différences de structures, de vocabulaires, et dans la descrip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04840" y="696960"/>
            <a:ext cx="4648320" cy="3486240"/>
          </a:xfrm>
          <a:prstGeom prst="rect">
            <a:avLst/>
          </a:prstGeom>
          <a:ln w="0">
            <a:noFill/>
          </a:ln>
        </p:spPr>
      </p:sp>
      <p:sp>
        <p:nvSpPr>
          <p:cNvPr id="5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e structure 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emière partie Description et deuxième partie choix des accè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6960"/>
            <a:ext cx="4648320" cy="3486240"/>
          </a:xfrm>
          <a:prstGeom prst="rect">
            <a:avLst/>
          </a:prstGeom>
          <a:ln w="0">
            <a:noFill/>
          </a:ln>
        </p:spPr>
      </p:sp>
      <p:sp>
        <p:nvSpPr>
          <p:cNvPr id="5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us comprenez maintenant pourquoi j’ai mis autant d’insistance sur la compréhension du vocabulaire FRBR.  Chacune des grandes sections est divisée en chapitres spécifiques.  Il y a une trentaine de chapitres dan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première partie du guide est donc consacrée à la description proprement dite alors que la deuxième est consacrée aux relations exitant entre les divers éléments de la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avez constaté, RDA fait largement usage du vocabulaire développé par les FRBR, vous naviguerez constamment avec ces nouvelles définitio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04840" y="696960"/>
            <a:ext cx="4648320" cy="3486240"/>
          </a:xfrm>
          <a:prstGeom prst="rect">
            <a:avLst/>
          </a:prstGeom>
          <a:ln w="0">
            <a:noFill/>
          </a:ln>
        </p:spPr>
      </p:sp>
      <p:sp>
        <p:nvSpPr>
          <p:cNvPr id="5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également une modification importante du vocabulaire utilisé.  </a:t>
            </a:r>
            <a:r>
              <a:rPr b="0" lang="fr-FR" sz="1200" spc="-1" strike="noStrike">
                <a:solidFill>
                  <a:srgbClr val="000000"/>
                </a:solidFill>
                <a:latin typeface="Arial"/>
              </a:rPr>
              <a:t>Je vous donne ici des définitions  pour les principaux termes, mais dans certains cas la traduction n’est peut-être pas encore arrêtée, et j’ai trouvée certaines variantes dans d’autres présentations sur le même sujet.  On pense que ca devrait être à peu près la traduction qui sera utilis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 veut dir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ques instants donc pour se préoccuper de la définition de l’acronym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lus vieux d’entre nous se souviendront peut-être que RDA était le sigle utilisé pour désigner la République démocratique alleman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 n’avait de démocratique que le nom et qui est disparue en 1989 avec la réunification de l’Allemag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ontexte de la présentation d’aujourd’hui, ce sigle est utilisé pou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Description and Ac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 sera traduit en français pa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sources : description et accè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 très original comme traduction, mais celle-ci a au moins le mérite de conserver le même sigle en français et en anglais et de mettre l’emphase sur les objectifs de RDA qui sont non seulement de décrire les ressources bibliographiques du monde qui nous entoure, mais également d’en faciliter l’accès au bénéfice de nos utilisateu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6960"/>
            <a:ext cx="4648320" cy="3486240"/>
          </a:xfrm>
          <a:prstGeom prst="rect">
            <a:avLst/>
          </a:prstGeom>
          <a:ln w="0">
            <a:noFill/>
          </a:ln>
        </p:spPr>
      </p:sp>
      <p:sp>
        <p:nvSpPr>
          <p:cNvPr id="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ndication générale du genre de document tel qu’on le connaît, le fameux |h du 245,  sera abandonnée et remplacée par trois éléments d’informations distincts qui ser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mé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nouveaux champs MARC ont été développés pour permettre la saisie de ces in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listes de termes fermés et normalisés seront fournis, et plus d’un terme pourront être utilisés pour un même document qui couvrirait plusieurs aspects ou plusieurs supports.  Cette façon de faire permet de mieux répondre au besoins de traitement de documents mix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largissement des règles demandant une nouvelle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ègles régissant les changements de titre dans la description étaient dans certains cas difficiles à comprendre et à interpréter.  RDA accorde ici plus de flexibilité dans la création d’une nouvelle notice bibliographique, et cette modification va être sans doute particulièrement appréciée par les catalogueurs des publications en séri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04840" y="696960"/>
            <a:ext cx="4648320" cy="3486240"/>
          </a:xfrm>
          <a:prstGeom prst="rect">
            <a:avLst/>
          </a:prstGeom>
          <a:ln w="0">
            <a:noFill/>
          </a:ln>
        </p:spPr>
      </p:sp>
      <p:sp>
        <p:nvSpPr>
          <p:cNvPr id="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urce principale d’information par catégorie de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changement important par rapport à RCAA2 où pour chacune des ressources, nous avions à nous questionner sur la source d’information prescrite.  La nouvelle directive est beaucoup plus simple à interpréter, plus logique également et beaucoup moins contraignante.  Au lieu d’avoir une source d’information prescrite rattachée à chaque genre de document, trois catégories de ressources sont déterminé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6960"/>
            <a:ext cx="4648320" cy="3486240"/>
          </a:xfrm>
          <a:prstGeom prst="rect">
            <a:avLst/>
          </a:prstGeom>
          <a:ln w="0">
            <a:noFill/>
          </a:ln>
        </p:spPr>
      </p:sp>
      <p:sp>
        <p:nvSpPr>
          <p:cNvPr id="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donc dire que toutes les abréviations prescrites dans la description selon RCAA2 sont à toutes fins pratiques abandonné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ns un premier temps donc, abandon des abréviations la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e l’un des grands changements qu’apporte RDA, et qui a été très critiqué par les puristes du catalogage descriptif.  Il ne s’agit pas d’une modification fondamentale de la structure bien entendu, mais c’est une modification qui est directement orientée vers la satisfaction des besoins des utilis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édacteurs de RDA sont partis du principes que la grande majorité de nos utilisateurs ignoraient totalement la signification des abréviations latines que nous utilisons dans la description de nos notices bibliographiques.  Il a donc été convenu de les éliminer totalement pour adopter un vocabulaire plus convivi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04840" y="696960"/>
            <a:ext cx="4648320" cy="3486240"/>
          </a:xfrm>
          <a:prstGeom prst="rect">
            <a:avLst/>
          </a:prstGeom>
          <a:ln w="0">
            <a:noFill/>
          </a:ln>
        </p:spPr>
      </p:sp>
      <p:sp>
        <p:nvSpPr>
          <p:cNvPr id="5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ne donne évidemment qu’un minime aperçu des abréviations qui seront abandonnées dans les RDA.  Je suis persuadé que vous avez en tête des exemples beaucoup plus farfelus que Réimp en fac-sim du ms…  En gros, il faut donc se rappeler que la très très grande majorité des abréviations contenues dans l’Annexe B de RCAA2 seront abo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e annexe sera cependant présente dans RDA portant spécifiquement sur les Abréviations, mais elle sera réduite à sa plus simple expres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séquemment, les abréviations utilisées dans l’ensemble de la description seront également abandonn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a aura au moins le mérite de donner pour l’utilisateur une information plus claire et plus facile à comprend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s principes sur lesquels RDA est basé est le principe de la représentation, qui peut être paraphrasé par la mention suivante : Prenez ce que vous voyez et acceptez ce que vous recevez.  La raison de ce changement est d’encourager et de faciliter la réception de données provenant des éditeurs ou des objects numériques sans avoir à modifier ces données.  Il y aura donc beaucoup moins d’ajustements et de correction d’informations provenant des données fournies par d’autres 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des exemple de ce principe de représentation est de ne pas abréger ou de ne pas remplacer les mots trouvés sur les res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ivant ce principe, vous ne corrigerez pas les erreurs dans les champs transcrits.  Si l’erreur est importante, vous créérez une note et générez un point d’accès pour la forme corrigée. </a:t>
            </a: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04840" y="696960"/>
            <a:ext cx="4648320" cy="3486240"/>
          </a:xfrm>
          <a:prstGeom prst="rect">
            <a:avLst/>
          </a:prstGeom>
          <a:ln w="0">
            <a:noFill/>
          </a:ln>
        </p:spPr>
      </p:sp>
      <p:sp>
        <p:nvSpPr>
          <p:cNvPr id="5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olition de la règle de tr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évidemment d’un changement très important dans nos règles de catalogage puisque plusieurs règles que nous avons connues étaient reliées au principe de la règle de trois, tant au niveau de la description bibliographique qu’au niveau du nombre d’accè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Que sont les RD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 Ressource Description and Accès est donc le nouveau code de catalogage qui remplacera les RCAA2 à compter de l’année 2010, du moins dans sa version anglaise, puisque la traduction française n’est pas encore entrepr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les codes de catalogage qui l’ont précédé, RDA reflète la technologie de son époque et de son temps, ainsi que les types de matériels que nous devons organiser, décrire et rendre accessibles à nos utilisateurs et qui font partie de l’univers documentaire de plus en plus diversifié que nous connais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est conçu pour être utilisé dans un environnement numérique, dans la mesure où c’est avant tout et uniquement un outil Web,  et les objectifs qu’il vise sont directement orientés vers l’amélioration de la façon dont nous cataloguons les docu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De plus, il est intéressant de mentionner que RDA n’est pas destiné à être utilisé dans le seul monde des bibliothèques, ou uniquement dans un contexte anglo-américain.  On s’attend à ce que ses directives puissent être utilisées dans tous les milieux qui ont besoin de décrire des données relatives à la documentation que ce soit le milieu de l’édition, des archives, ou celui utilisant d’autres types de métadonnées que ceux utilisés dans le monde des bibliothèques.  Les directives qu’il procure pourront donc être adaptées à tous les milieux.  De plus, il s’adresse à un public beaucoup plus diversifié que les RCAA2, et sa couverture géographique devrait être très étendue.  Il y a ainsi de fortes probabilités qu’il soit adopté par la France, qui n’ont jamais adopté les RCAA2 et qui utilisent un code de catalogage national basé sur les ISBD ainsi que par d’autres pays européens au cours des prochain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6960"/>
            <a:ext cx="4648320" cy="3486240"/>
          </a:xfrm>
          <a:prstGeom prst="rect">
            <a:avLst/>
          </a:prstGeom>
          <a:ln w="0">
            <a:noFill/>
          </a:ln>
        </p:spPr>
      </p:sp>
      <p:sp>
        <p:nvSpPr>
          <p:cNvPr id="5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tenu plus développé du contrôle d’autor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i les règles de la description ont été simplifiées, on ne peut pas en dire autant pour ce qui est du contrôle d’autorités.  Non que celui-ci soit rendu plus difficile, mais je dirais qu’il est rendu beaucoup plus important.  De nouveaux éléments seront ajoutés pour justifier le choix du nom d’une entrée dans les fichiers d’autorités, de nouveaux éléments seront également ajoutés afin de trouver ou d’identifier les noms de personnes, de familles, ou de collectiv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dirais ici que les bibliothèques qui ont une grande tradition de gestion des fichiers d’autorités et de gestion de titres uniformes se sentiront probablement relativement à l’aise avec cet emphase qui est mis sur le contrôle des autorité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deux notices ci-joint illustrent quelques différences entre RCAA2 et RDA et ont été préparées par Daniel Paradis de l’Université Concordia afin d’illustrer les principales différences entre les deux codes.  Il s’agit bien évidemment d’un exemple qui ne peut toucher tous les cas, mais il a au moins le mérite de démystifier un peu ce que pourrait avoir l’air une notice RDA.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04840" y="696960"/>
            <a:ext cx="4648320" cy="3486240"/>
          </a:xfrm>
          <a:prstGeom prst="rect">
            <a:avLst/>
          </a:prstGeom>
          <a:ln w="0">
            <a:noFill/>
          </a:ln>
        </p:spPr>
      </p:sp>
      <p:sp>
        <p:nvSpPr>
          <p:cNvPr id="5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commentaires qui ont été adressés jusqu’à maintenant sur les RDA sont de façon générale peu élogieux, même dans certains milieux très bien informés.  Les réactions sont partagées.  Pour certains on va trop loin, et pour d’autre pas assez.  Les traditionnalistes déplorent l’abandon des abréviations latines </a:t>
            </a:r>
            <a:r>
              <a:rPr b="0" lang="fr-FR" sz="1000" spc="-1" strike="noStrike">
                <a:solidFill>
                  <a:srgbClr val="000000"/>
                </a:solidFill>
                <a:latin typeface="Arial"/>
              </a:rPr>
              <a:t>et les cracks de l’informatique considèrent que le contenu est trop pointilleux et trop près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Un comité de l’ALA le Committee on Cataloging : Description and Acces créé pour étudier RDA considère que le style même d’écriture du nouveau code de catalogage est une barrière à son implantation et une menace </a:t>
            </a:r>
            <a:r>
              <a:rPr b="0" lang="fr-FR" sz="1000" spc="-1" strike="noStrike">
                <a:solidFill>
                  <a:srgbClr val="000000"/>
                </a:solidFill>
                <a:latin typeface="Arial"/>
              </a:rPr>
              <a:t>à son acceptation comme successeur de RCAA2 et prévoyait un échec commercial.  Il souligne la nécessité de fournir une version papier pour supporter les milieux documentaires plus pauvres et moins bien pourvus au niveau technologique, et pour servir de base à l’enseignement et à la formation.  Il déplore l’absence encore à ce jour d’une interface Web qui aurait permis une meilleure évaluation du produit.  On mentionne que RDA a failli à rencontrer plusieurs des objectifs établis au départ et on souligne finalement le climat de désappointement perceptible dans la communauté, touchant même les éléments les plus avant-gardistes de la prof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il est certain que le vocabulaire utilisé peut apparaître plutôt hermétique, et qu’il utilise des concepts nouveaux dans le monde du catalogage, du moins dans le monde des praticiens.  Il est clair également que la terminologie utilisée dans la structure même de l’ouvrage n’aide pas à la compréhension.  De plus, le fait qu’il s’agisse d’un outil Web, qui n’a pas encore été mis en ligne ne facilite pas l’appropriation par les principaux interve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6960"/>
            <a:ext cx="4648320" cy="3486240"/>
          </a:xfrm>
          <a:prstGeom prst="rect">
            <a:avLst/>
          </a:prstGeom>
          <a:ln w="0">
            <a:noFill/>
          </a:ln>
        </p:spPr>
      </p:sp>
      <p:sp>
        <p:nvSpPr>
          <p:cNvPr id="5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cénario d’implantation prév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Mise ligne de RDA Web en juin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près tout près de deux ans de retard, le lancement de la version Web de RDA est prévue pour juin 2010.  Les premiers mois d’utilisation seront gratuits et permettront aux utilisateurs de se familiariser avec l’outil.  Par la suite, une structure tarifaire sera proposée aux 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Structure de tar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x de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cense annuelle pour un utilisateur à la fois $325 peu importe le nombre d’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tilisateurs concurrents addition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9 utilisateurs concurrents: $55 pa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19 utilisateurs concurrents $50 pe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 utilisateurs concurrents: $45 per additional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Période de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uite au lancement de RDA Web, trois bibliothèques «nationales américaines», </a:t>
            </a:r>
            <a:r>
              <a:rPr b="0" lang="fr-FR" sz="800" spc="-1" strike="noStrike">
                <a:solidFill>
                  <a:srgbClr val="000000"/>
                </a:solidFill>
                <a:latin typeface="Arial"/>
              </a:rPr>
              <a:t>(Library of Congress, National Library of Medicine et National Agricultural Library) alliés avec une vingtaine d’autres partenaires du milieu dont OCLC veulent tester RDA au point de vue technique et économique avant de prendre la décision de les implanter ou non.  Une période de six mois est donc prévue à cet eff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premiers trois mois seront  consacrés à la formation du personnel et à leur familiarisation au texte et à l’outil de travail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euxième période de trois mois sera consacrée au test proprement dit et mettra l’accent sur les coûts-bénéfices de l’implantation des RDA et portera su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nvivialité, notamment la facilité d’utilisation par les catalogueurs et l’aptitude des usagers à trouver l’information recherchée en utilisant des notices R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sidérations techniques, notamment la fonctionnalité du produit en ligne, le développement des systèmes requis avant l’implantation et la coexistence de notices RDA et RCAA2 dans le catalogu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sidérations financières, soit le coût de la formation du personnel, de la documentation, de la modification des procédures de travail et la comparaison entre le temps requis pour la création de notices RDA avec le temps requis pour la création de notices RCAA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Comité identifiera un échantillon de 20 à 25 ressources à tester, autant imprimées que numériques, incluant les monographies, les publications en série et le matériel audiovisuel. En plus de cet échantillon, les équipes-tests pourront créer des notices, en utilisant seulement les RDA, pour 25 ressources supplémentaires choisies parmi leurs documents habituels ou selon leur spécialité : documents en langues étrangères, cartographiques et musicaux (partitions). Tout cela pour un minimum de 800 notices au total afin que le test soit jugé statistiquement valable. Chaque personne impliquée dans le traitement test des documents remplira un questionnaire en ligne pour y indiquer le temps requis pour faire la notice et pour y décrire les problèmes rencontr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les tests complétés, un comité conjoint de ces bibliothèques analysera les résultats durant trois mois, ce qui nous amènerait donc leurs conclusions pour l’automne 2010.  C’est en se basant sur l’analyse de ces tests et sur les résultats obtenus, et considérant les coûts d’implantation que les trois bibliothèques nationales américaines détermineront si elles passent en phase d’implantation de la version initiale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t pourquoi pas un nouveau format pour remplacer MARC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Beaucoup de modifications ont été adoptées au format MARC afin de supporter RDA et FRBR, du moins dans sa première phase.  Cependant, pour tirer pleinement de toutes les fonctionnalités et de tout le potentiel du modèle entités-relations, un nouveau format de support et d’encodage des données devra être développé.  Ceci est d’autant plus vrai que le format MARC a maintenant tout près de 40 ans, et qu’il n’est utilisé que dans le domaine des bibliothè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es années de plaisir en perspectives</a:t>
            </a:r>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duction franç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traduction RDA dans la version sera l’œuvre d’un comité ad hoc composé de BAnQ, BAC, BNF, et de représentants de l’École de bibliothéconomie et des sciences de l’information de l’Université de Montréal et sera coordonnée par l’ASTED.  La tâche a accomplir est monumentale… 350 000 mots à traduire, des concepts nouveaux à intégrer, et peu de directives pouvant être reprises directement de RCAA2.  Le travail est donc colossal et aucun échéancier n’a été déterminé pour l’i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éveloppement des RCA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vant même la parution des premiers ouvrages visant à uniformiser les règles de catalogage, les bibliothécaires qui désiraient établir une liste des documents que leurs institutions possédaient durent choisir un système d’entrée et les catalogues des bibliothèques se présentaient habituellement sous la forme d’un livre, manuscrit ou imprimé.  Comme il était impossible, par manque de temps ou d’argent, de produire différentes listes à des points d’accès différents, l’auteur des documents recensés fut choisi comme l’accès unique au docu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C’est au cours du 19e siècle que les objectifs des catalogues de bibliothèques devinrent mieux défin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n 1876, Charles Cutter assigne deux fonctions aux catalogues : une fonction de repérage permettant de trouver un ouvrage selon son auteur, son titre ou son sujet, et une fonction de regroupement permettant de rassembler toutes les éditions ou manifestations d’une œuvre donnée.  On retrouve donc dans les objectifs que Cutter donne aux catalogues les principes qui ont guidé l’élaboration des catalogues modernes. Les règles de Cutter furent largement adoptées et la plupart des bibliothèques se dotèrent ainsi d’un système à trois points d’accès : par auteur, par titre, par sujet.  Elles devinrent la source principale des codes de catalogage de langue angla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événements les plus importants de l’histoire contemporaine du catalogage descriptif est la </a:t>
            </a:r>
            <a:r>
              <a:rPr b="1" lang="fr-CA" sz="800" spc="-1" strike="noStrike">
                <a:solidFill>
                  <a:srgbClr val="000000"/>
                </a:solidFill>
                <a:latin typeface="Arial"/>
              </a:rPr>
              <a:t>Conférence internationale sur les principes de catalogage</a:t>
            </a:r>
            <a:r>
              <a:rPr b="0" lang="fr-CA" sz="800" spc="-1" strike="noStrike">
                <a:solidFill>
                  <a:srgbClr val="000000"/>
                </a:solidFill>
                <a:latin typeface="Arial"/>
              </a:rPr>
              <a:t> qui eut lieu à Paris en 1961 et qui regroupait 50 pays.  Elle était une réponse aux besoins d’un accord international sur les principes de catalogage et fut considérée comme un des moyens les plus effectifs dans la direction du contrôle bibliographique universel et de la standardisation internationale du catalogage.  Les Principes de Paris qui en émergent permettent d’établir une base solide en vue d’une coopération internationale axée sur le développement de règles de catalogage.  Ils définissaient les fonctions du catalogue en s’appuyant sur les principes élaborés par Cutter au siècle dernier.  Et ils ont atteint leur but puisqu’ils ont servi de base à une normalisation internationale du catalogage.  En effet, la plupart des règles de catalogage publiées dans le monde depuis cette date suivent rigoureusement ces principes ou du moins les suivent de très prè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e basant sur les résultats de ICCP (1961) et sur leurs propres traditions catalographiques, les associations de bibliothèques américaines, canadiennes et britanniques, en collaboration avec la Library of Congress commencent à travailler à la compilation d’un nouveau code commun qui pourrait être applicable au niveau international.  On assiste alors à la publication des Règles de catalogage anglo américaines, 1ere édition, dans deux éditions différentes, une pour le Royaume-Uni et l’autre pour l’Amérique du Nord.  La première édition française des RCAA1 fut publiée en 1973 par l’Association canadienne des bibliothécaires de langue frança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nombreux suivis de la conférence de ICCP de 1961 fut la définition de standards de descriptions documentaires dans un but de communication internationale.  C’est ainsi que furent développés toute la série des ISBD ou Description internationale normalisée des livres.  Ces standards assignaient un ordre aux éléments de la description, et spécifiaient un système de ponctuation permettant d’identifier, en fonction des diverses zones de la description, quel en état l’élément constitutif.  Les ISBD avaient été déterminés dans le but de faciliter la conversion des notices bibliographiques en données lisibles par machines.  Ceci était rendu possible par la systématisation de l’ordre des éléments et par l’utilisation d’une ponctuation qui permettait de séparer les éléments dans une no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Toutes ces modifications amenèrent une nouvelle édition des RCAA, les RCAA2,  et c’est le code avec lequel nous travaillons depuis 197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réation des RCAA2 en 1978 et révisions de 1988, 1998, e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deuxième édition des RCAA, connus sous le nom de RCAA2, a été publiée en 1978 en s’appuyant sur les principes de Paris développés en 1961 et sur les ISBD développés par l’IFLA (International Federation of Library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révisions des RCAA2 ont été publiés en 1988, 1998 et la dernière en 2002,  sans que la structure principale de l’ouvrage ne soit modifiée, et simplement en révisant certaines règles pour refléter les changements survenus dans l’environnement catalographique, tel que les nouvelles perspectives offertes par les ressources numériques, ou pour tenir compte des ressources intégr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arallèlement à ces révisions, des travaux en cours au sein de l’IFLA ont favorisé le développement de nouveaux modèles théoriques pouvant être utilisés dans la  compréhension de l’univers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borderai un peu plus loin les résultats de ces travaux, qui sont connus aujourd’hui sous le nom des modèles FRBR, FRAD, FRS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Vers la fin des années 1990, le Joint Steering Committee for the Revision of the Anglo-American Cataloguing Rules  qui coordonne les mises à  jour des RCAA2 s’orienta résolument vers une révision en profondeur des règ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membres du Comité réalisaient que les changements dans l’univers documentaire et le développement des nouveaux modèles conceptuels et théoriques offraient une nouvelle façon de concevoir l’environnement et donnaient de nouvelles possibilités d’améliorer les manières dont nous cataloguons les documents, et comment nous fournissons l’information bibliographique à nos utilisat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st dans cette vision que se tint en 1997 à Toronto l’International Conference on  the Principles and Future Development of A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experts réunis identifient cinq problèmes princip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principes sous-tendant les RCC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difficultés de relations entre le contenu et l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structure logique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question de la sérialité pour les ressources contin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internationalisation des règles et leur utilisation tant pour les ressources </a:t>
            </a:r>
            <a:r>
              <a:rPr b="0" lang="fr-CA" sz="1000" spc="-1" strike="noStrike">
                <a:solidFill>
                  <a:srgbClr val="000000"/>
                </a:solidFill>
                <a:latin typeface="Arial"/>
              </a:rPr>
              <a:t>	</a:t>
            </a:r>
            <a:r>
              <a:rPr b="0" lang="fr-CA" sz="1000" spc="-1" strike="noStrike">
                <a:solidFill>
                  <a:srgbClr val="000000"/>
                </a:solidFill>
                <a:latin typeface="Arial"/>
              </a:rPr>
              <a:t>bibliographiques que pour les autorité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on réalise très rapidement qu’une mise à jour profonde des RCAA2 doit être envisagée et ce pour plusieurs raisons qui reposent tant sur l’évolution informatique et technologique, que sur le développement des modèles conceptuels au niveau interna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premier lieu, les experts prennent acte que l’environnement de départ a beaucoup changé depuis la rédaction des RCAA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ux-ci avaient été rédigés pour guider le traitement de documents traditionnels, souvent disponibles sur un seu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RCAA2 avait été rédigés à l’époque des catalogues sur fiches 3 X 5 qui limitait l’espace nécessaire pour consigner l’information, obligeant les catalogueurs à utiliser des abréviations nombreuses, à limiter le nombre des accès, etc.  Mentionnons que cette tendance ne s’est pas inversée lorsque nous avons abandonné les fiches cartonnées pour les supports informatiques. Au début on pouvait justifier ce fait par le coût de la mémoire informatique, mais cette considération a volé en éclat depuis de nombreus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besoin de partage avec d’autres secteurs liés au monde de la documentation, que ce soit les archives, ou le monde de l’édition, nécessitait une modification fondamentale d’un code établi au départ pour le monde des bibliothèq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t finalement, elles ne tenaient pas compte des nouveaux modèles conceptuels développés au niveau international, qui permettaient d’entrevoir l’univers documents avec de nouvelles lunettes et qui ouvraient de nouvelles avenues de développ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AAA1C9-940C-4F9B-85AF-193A242B73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16F924-E669-4EB7-9042-8A08CFB931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D90203-32E2-4A8C-BA62-069BA61877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72E368-E54E-43C9-AFC1-B935CCCFA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205F3E-FDE1-43AD-BB7A-31AC17175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E84953-7856-4083-91D1-7AAD86220D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D4AB01-B461-4146-BE26-5D94822997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255DA8-AFE8-4559-AB76-FC68D80A0B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209BF5-A3F9-43E7-A0EA-19B79E14E9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2A6834-F65C-40AD-86D7-9C349283D0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0E4879-2C3E-44CC-9B78-27918DD02F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D18209-6D15-4F8B-9187-FE2F9D94AB7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E13C5C-779A-4C97-A59D-942993082B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220A2E-AFA1-4D8C-BE1C-44DFA1F15F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59998B-EDA5-4B1F-9BB8-F8C17CF961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29B604-0229-4375-B43D-C41C62F7E5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286A55-3957-428E-9F3E-CCE65F4431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B8EFA3C-3A8D-4F27-97BD-745473664C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562AF-E837-495F-9F45-9F6D42B89C4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67F3B-B4ED-4144-A995-8CE7BB8F92A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668C3-C4D5-4490-9C16-E81D5AEB2C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6D0DC2-7BED-4B5B-8635-F4D4EDFAF6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B5840-AE89-471C-9EE9-D7DD4968018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E9D99-8303-4EC9-9C71-0ABE9CCD79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1DA33-CF22-4DC5-8835-BDDC3CFE2F3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87C92-32B8-4403-852C-58A152DEE7B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D9E6F-8616-4BA5-971F-43B020221A8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08FD9-3C46-4332-816E-6BA103982C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60511-C2AE-4020-A719-4F1C6F05851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DF118-7510-4952-AC64-0876DC27C9D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C7CF3-FF2A-445F-BD55-07E74DEB50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08877A-4681-46F0-B4BC-54B339F585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9896C7-8E71-41F7-9F20-982FE69653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20B57E-FD49-42C9-A109-146B6621F0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40F0E0-20D4-4889-A1B1-ACBE9C037D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D5F39D-DFBC-4DA1-AB11-62F55BCDCB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4BCD5F-A9A0-4FAD-A874-C50D272AF7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E6D476-DD0A-44C6-BA19-AB6DC84804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7199BC-620D-4066-917A-5E6F33752D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700EAD-6066-4D20-AB90-FABDB56B79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A80EE8-0190-49D1-8C32-7EC8A4ECAC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E78952-5CE7-486E-AD6F-9F4ECCDBCC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3A4BE1-850B-47E0-B7E0-FEFEC67117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1EE6ED-E436-429D-A2C7-8EF71007F4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DC79E9-67AE-4323-B8BD-A95EB1B4DBC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11D40D-9812-4E43-A692-873C01268C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D47D20-0253-42C9-BB45-D638675E3B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BB1DE3-0DD4-44CC-AAA6-224D22C32A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2" name="PlaceHolder 3"/>
          <p:cNvSpPr>
            <a:spLocks noGrp="1"/>
          </p:cNvSpPr>
          <p:nvPr>
            <p:ph type="ftr" idx="1"/>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FCCA-8815-49E2-92A2-937E58F131EA}"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4"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7" descr="ondes_5"/>
          <p:cNvPicPr/>
          <p:nvPr/>
        </p:nvPicPr>
        <p:blipFill>
          <a:blip r:embed="rId2"/>
          <a:stretch/>
        </p:blipFill>
        <p:spPr>
          <a:xfrm>
            <a:off x="8305920" y="76320"/>
            <a:ext cx="422280" cy="685800"/>
          </a:xfrm>
          <a:prstGeom prst="rect">
            <a:avLst/>
          </a:prstGeom>
          <a:ln w="0">
            <a:noFill/>
          </a:ln>
        </p:spPr>
      </p:pic>
      <p:sp>
        <p:nvSpPr>
          <p:cNvPr id="6"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222280"/>
            <a:ext cx="7315200" cy="109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lick to edit the outline text format</a:t>
            </a:r>
            <a:endParaRPr b="1" lang="en-US" sz="2600" spc="-1" strike="noStrike">
              <a:solidFill>
                <a:srgbClr val="ffffff"/>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914400" algn="ctr">
              <a:spcBef>
                <a:spcPts val="425"/>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Narrow"/>
              </a:rPr>
              <a:t>Third Outline Level</a:t>
            </a:r>
            <a:endParaRPr b="0" lang="en-US" sz="1700" spc="-1" strike="noStrike">
              <a:solidFill>
                <a:srgbClr val="4d4d4d"/>
              </a:solidFill>
              <a:latin typeface="Arial Narrow"/>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83" name="PlaceHolder 2"/>
          <p:cNvSpPr>
            <a:spLocks noGrp="1"/>
          </p:cNvSpPr>
          <p:nvPr>
            <p:ph type="body"/>
          </p:nvPr>
        </p:nvSpPr>
        <p:spPr>
          <a:xfrm>
            <a:off x="914400" y="2819520"/>
            <a:ext cx="7315200" cy="27655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Click to edit the outline text forma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1092240" indent="-177840">
              <a:spcBef>
                <a:spcPts val="55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Third Outline Level</a:t>
            </a:r>
            <a:endParaRPr b="0" lang="en-US" sz="2200" spc="-1" strike="noStrike">
              <a:solidFill>
                <a:srgbClr val="4d4d4d"/>
              </a:solidFill>
              <a:latin typeface="Arial Narrow"/>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ourth Outline Level</a:t>
            </a:r>
            <a:endParaRPr b="0" lang="en-US" sz="2200" spc="-1" strike="noStrike">
              <a:solidFill>
                <a:srgbClr val="4d4d4d"/>
              </a:solidFill>
              <a:latin typeface="Arial Narrow"/>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ifth Outline Level</a:t>
            </a:r>
            <a:endParaRPr b="0" lang="en-US" sz="2200" spc="-1" strike="noStrike">
              <a:solidFill>
                <a:srgbClr val="4d4d4d"/>
              </a:solidFill>
              <a:latin typeface="Arial Narrow"/>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ixth Outline Level</a:t>
            </a:r>
            <a:endParaRPr b="0" lang="en-US" sz="2200" spc="-1" strike="noStrike">
              <a:solidFill>
                <a:srgbClr val="4d4d4d"/>
              </a:solidFill>
              <a:latin typeface="Arial Narrow"/>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venth Outline Level</a:t>
            </a:r>
            <a:endParaRPr b="0" lang="en-US" sz="2200" spc="-1" strike="noStrike">
              <a:solidFill>
                <a:srgbClr val="4d4d4d"/>
              </a:solidFill>
              <a:latin typeface="Arial Narrow"/>
            </a:endParaRPr>
          </a:p>
        </p:txBody>
      </p:sp>
      <p:sp>
        <p:nvSpPr>
          <p:cNvPr id="84" name="PlaceHolder 3"/>
          <p:cNvSpPr>
            <a:spLocks noGrp="1"/>
          </p:cNvSpPr>
          <p:nvPr>
            <p:ph type="ftr" idx="3"/>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C483-DF6C-400B-99D7-95672B72456C}"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86"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7" descr="ondes_5"/>
          <p:cNvPicPr/>
          <p:nvPr/>
        </p:nvPicPr>
        <p:blipFill>
          <a:blip r:embed="rId2"/>
          <a:stretch/>
        </p:blipFill>
        <p:spPr>
          <a:xfrm>
            <a:off x="8305920" y="76320"/>
            <a:ext cx="422280" cy="685800"/>
          </a:xfrm>
          <a:prstGeom prst="rect">
            <a:avLst/>
          </a:prstGeom>
          <a:ln w="0">
            <a:noFill/>
          </a:ln>
        </p:spPr>
      </p:pic>
      <p:sp>
        <p:nvSpPr>
          <p:cNvPr id="88"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c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27"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128" name="PlaceHolder 3"/>
          <p:cNvSpPr>
            <a:spLocks noGrp="1"/>
          </p:cNvSpPr>
          <p:nvPr>
            <p:ph type="ftr" idx="5"/>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129" name="PlaceHolder 4"/>
          <p:cNvSpPr>
            <a:spLocks noGrp="1"/>
          </p:cNvSpPr>
          <p:nvPr>
            <p:ph type="sldNum" idx="6"/>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ECE9-2372-4796-B320-F4E836DEB4CB}"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130"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7" descr="ondes_5"/>
          <p:cNvPicPr/>
          <p:nvPr/>
        </p:nvPicPr>
        <p:blipFill>
          <a:blip r:embed="rId2"/>
          <a:stretch/>
        </p:blipFill>
        <p:spPr>
          <a:xfrm>
            <a:off x="8305920" y="76320"/>
            <a:ext cx="422280" cy="685800"/>
          </a:xfrm>
          <a:prstGeom prst="rect">
            <a:avLst/>
          </a:prstGeom>
          <a:ln w="0">
            <a:noFill/>
          </a:ln>
        </p:spPr>
      </p:pic>
      <p:sp>
        <p:nvSpPr>
          <p:cNvPr id="132" name="Line 35"/>
          <p:cNvSpPr/>
          <p:nvPr/>
        </p:nvSpPr>
        <p:spPr>
          <a:xfrm>
            <a:off x="0" y="419040"/>
            <a:ext cx="8229600" cy="1800"/>
          </a:xfrm>
          <a:prstGeom prst="line">
            <a:avLst/>
          </a:prstGeom>
          <a:ln w="9360">
            <a:solidFill>
              <a:srgbClr val="f0f5c1"/>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Black"/>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1D49-9FF5-493D-B6A4-F9B52B29AF49}" type="slidenum">
              <a:rPr b="0" lang="en-US" sz="1600" spc="-1" strike="noStrike">
                <a:solidFill>
                  <a:srgbClr val="000000"/>
                </a:solidFill>
                <a:latin typeface="Arial Black"/>
                <a:ea typeface="ＭＳ Ｐゴシック"/>
              </a:rPr>
              <a:t>&lt;number&gt;</a:t>
            </a:fld>
            <a:endParaRPr b="0" lang="en-US" sz="1600" spc="-1" strike="noStrike">
              <a:solidFill>
                <a:srgbClr val="000000"/>
              </a:solidFill>
              <a:latin typeface="Times New Roman"/>
            </a:endParaRPr>
          </a:p>
        </p:txBody>
      </p:sp>
      <p:sp>
        <p:nvSpPr>
          <p:cNvPr id="21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www.celebrites-selection.com/blogs/uploads/beline2_gif_2.gif&amp;imgrefurl=http://www.celebrites-selection.com/blogs/%3Fu%3Dbeline2&amp;h=379&amp;w=570&amp;sz=241&amp;tbnid=7SDKTjKTPjkJ::&amp;tbnh=89&amp;tbnw=134&amp;prev=/images%3Fq%3Dharry%2Bpotter%2Bgif&amp;usg=__S_AIvJvUG7PSYiVIBRyMaNGcxDo=&amp;sa=X&amp;oi=image_result&amp;resnum=1&amp;ct=image&amp;cd=1" TargetMode="External"/><Relationship Id="rId2" Type="http://schemas.openxmlformats.org/officeDocument/2006/relationships/image" Target="../media/image8.jpeg"/><Relationship Id="rId3" Type="http://schemas.openxmlformats.org/officeDocument/2006/relationships/hyperlink" Target="http://blogmarie.centerblog.net/" TargetMode="External"/><Relationship Id="rId4" Type="http://schemas.openxmlformats.org/officeDocument/2006/relationships/image" Target="../media/image9.gi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asted.org/_uploadedcontent/medias/content_1460_1385.pdf" TargetMode="External"/><Relationship Id="rId2" Type="http://schemas.openxmlformats.org/officeDocument/2006/relationships/hyperlink" Target="http://www.rda-jsc.org/docs/codp-banq-20080422.pdf" TargetMode="External"/><Relationship Id="rId3" Type="http://schemas.openxmlformats.org/officeDocument/2006/relationships/hyperlink" Target="http://archive.ifla.org/VII/s13/icp/ICP-2009_fr.pdf" TargetMode="External"/><Relationship Id="rId4" Type="http://schemas.openxmlformats.org/officeDocument/2006/relationships/hyperlink" Target="http://tsig.wikispaces.com/file/view/RivaFRBRFRADforCLA-fre.pdf" TargetMode="External"/><Relationship Id="rId5" Type="http://schemas.openxmlformats.org/officeDocument/2006/relationships/hyperlink" Target="http://www.loc.gov/cds/downloads/FRBR.PDF" TargetMode="External"/><Relationship Id="rId6" Type="http://schemas.openxmlformats.org/officeDocument/2006/relationships/hyperlink" Target="http://www.loc.gov/library/webcasts/jan12_RDA_changes/RDA_changes.ppt"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22280"/>
            <a:ext cx="731520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ffff"/>
                </a:solidFill>
                <a:latin typeface="Arial Narrow"/>
              </a:rPr>
              <a:t>De RCAA2 à RDA</a:t>
            </a:r>
            <a:endParaRPr b="1" lang="en-US" sz="4000" spc="-1" strike="noStrike">
              <a:solidFill>
                <a:srgbClr val="ffffff"/>
              </a:solidFill>
              <a:latin typeface="Arial Narrow"/>
            </a:endParaRPr>
          </a:p>
        </p:txBody>
      </p:sp>
      <p:sp>
        <p:nvSpPr>
          <p:cNvPr id="255" name="PlaceHolder 2"/>
          <p:cNvSpPr>
            <a:spLocks noGrp="1"/>
          </p:cNvSpPr>
          <p:nvPr>
            <p:ph type="subTitle"/>
          </p:nvPr>
        </p:nvSpPr>
        <p:spPr>
          <a:xfrm>
            <a:off x="914400" y="3428640"/>
            <a:ext cx="7315200" cy="1428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ffff"/>
                </a:solidFill>
                <a:latin typeface="Arial Narrow"/>
              </a:rPr>
              <a:t>Présentation au 11</a:t>
            </a:r>
            <a:r>
              <a:rPr b="1" lang="fr-CA" sz="2600" spc="-1" strike="noStrike" baseline="30000">
                <a:solidFill>
                  <a:srgbClr val="ffffff"/>
                </a:solidFill>
                <a:latin typeface="Arial Narrow"/>
              </a:rPr>
              <a:t>e</a:t>
            </a:r>
            <a:r>
              <a:rPr b="1" lang="fr-CA" sz="2600" spc="-1" strike="noStrike">
                <a:solidFill>
                  <a:srgbClr val="ffffff"/>
                </a:solidFill>
                <a:latin typeface="Arial Narrow"/>
              </a:rPr>
              <a:t> Congrès de l’Association professionnelle des techniciennes et techniciens en documentation du Québec</a:t>
            </a:r>
            <a:endParaRPr b="1" lang="en-US" sz="2600" spc="-1" strike="noStrike">
              <a:solidFill>
                <a:srgbClr val="ffffff"/>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256" name="Text Box 6"/>
          <p:cNvSpPr/>
          <p:nvPr/>
        </p:nvSpPr>
        <p:spPr>
          <a:xfrm>
            <a:off x="914400" y="4724280"/>
            <a:ext cx="449568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Marcel Plourd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Chef, Section du catalogag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ea typeface="ヒラギノ角ゴ Pro W3"/>
              </a:rPr>
              <a:t>Le 23 avril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par>
                                <p:cTn id="8" nodeType="withEffect" fill="hold" presetClass="entr" presetID="10">
                                  <p:stCondLst>
                                    <p:cond delay="0"/>
                                  </p:stCondLst>
                                  <p:childTnLst>
                                    <p:set>
                                      <p:cBhvr>
                                        <p:cTn id="9" dur="1" fill="hold">
                                          <p:stCondLst>
                                            <p:cond delay="0"/>
                                          </p:stCondLst>
                                        </p:cTn>
                                        <p:tgtEl>
                                          <p:spTgt spid="256"/>
                                        </p:tgtEl>
                                        <p:attrNameLst>
                                          <p:attrName>style.visibility</p:attrName>
                                        </p:attrNameLst>
                                      </p:cBhvr>
                                      <p:to>
                                        <p:strVal val="visible"/>
                                      </p:to>
                                    </p:set>
                                    <p:animEffect filter="fade" transition="in">
                                      <p:cBhvr additive="repl">
                                        <p:cTn id="1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80" name="PlaceHolder 2"/>
          <p:cNvSpPr>
            <a:spLocks noGrp="1"/>
          </p:cNvSpPr>
          <p:nvPr>
            <p:ph/>
          </p:nvPr>
        </p:nvSpPr>
        <p:spPr>
          <a:xfrm>
            <a:off x="914400" y="1752120"/>
            <a:ext cx="7315200" cy="31615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utres raisons militent pour une mise à jour</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Traitement de documents appartenant à plus d’un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ncohérence entre les règles de différents chapitres de la Partie I</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Règles inadéquates pour certains type de documen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Limitations imposées pour des raisons historiques et pratiqu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Absence de cadre théorique pour guider le processus de révision et de mise à jour</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80A30FB-7C8B-4C27-92FC-428905951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RCAA3 à RDA</a:t>
            </a:r>
            <a:endParaRPr b="1" lang="en-US" sz="2800" spc="-1" strike="noStrike">
              <a:solidFill>
                <a:srgbClr val="4d4d4d"/>
              </a:solidFill>
              <a:latin typeface="Arial Narrow"/>
            </a:endParaRPr>
          </a:p>
        </p:txBody>
      </p:sp>
      <p:sp>
        <p:nvSpPr>
          <p:cNvPr id="282" name="PlaceHolder 2"/>
          <p:cNvSpPr>
            <a:spLocks noGrp="1"/>
          </p:cNvSpPr>
          <p:nvPr>
            <p:ph/>
          </p:nvPr>
        </p:nvSpPr>
        <p:spPr>
          <a:xfrm>
            <a:off x="914400" y="1599840"/>
            <a:ext cx="7315200" cy="352512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rement de cap en 2005</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uvelle structure est adoptée</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plan est proposé</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nom change pour décrire la nouvelle orien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a:t>
            </a:r>
            <a:r>
              <a:rPr b="0" lang="fr-CA" sz="2600" spc="-1" strike="noStrike">
                <a:solidFill>
                  <a:srgbClr val="777777"/>
                </a:solidFill>
                <a:latin typeface="Arial Narrow"/>
              </a:rPr>
              <a:t>	</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sources</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Description</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ccè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D6718EE-DE67-45AE-B0DA-02DB178EFA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nouveaux modèles théoriques en émergence</a:t>
            </a:r>
            <a:endParaRPr b="1" lang="en-US" sz="2800" spc="-1" strike="noStrike">
              <a:solidFill>
                <a:srgbClr val="4d4d4d"/>
              </a:solidFill>
              <a:latin typeface="Arial Narrow"/>
            </a:endParaRPr>
          </a:p>
        </p:txBody>
      </p:sp>
      <p:sp>
        <p:nvSpPr>
          <p:cNvPr id="284" name="PlaceHolder 2"/>
          <p:cNvSpPr>
            <a:spLocks noGrp="1"/>
          </p:cNvSpPr>
          <p:nvPr>
            <p:ph/>
          </p:nvPr>
        </p:nvSpPr>
        <p:spPr>
          <a:xfrm>
            <a:off x="914400" y="1676160"/>
            <a:ext cx="7315200" cy="4356360"/>
          </a:xfrm>
          <a:prstGeom prst="rect">
            <a:avLst/>
          </a:prstGeom>
          <a:noFill/>
          <a:ln w="0">
            <a:noFill/>
          </a:ln>
        </p:spPr>
        <p:txBody>
          <a:bodyPr lIns="0" rIns="0" tIns="0" bIns="0" anchor="t">
            <a:normAutofit fontScale="99000"/>
          </a:bodyPr>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modèles conceptuels</a:t>
            </a:r>
            <a:endParaRPr b="1" lang="en-US" sz="2000" spc="-1" strike="noStrike">
              <a:solidFill>
                <a:srgbClr val="777777"/>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BR</a:t>
            </a:r>
            <a:r>
              <a:rPr b="0" lang="fr-CA" sz="2000" spc="-1" strike="noStrike">
                <a:solidFill>
                  <a:srgbClr val="4d4d4d"/>
                </a:solidFill>
                <a:latin typeface="Arial Narrow"/>
              </a:rPr>
              <a:t>	</a:t>
            </a:r>
            <a:r>
              <a:rPr b="0" lang="fr-CA" sz="2000" spc="-1" strike="noStrike">
                <a:solidFill>
                  <a:srgbClr val="4d4d4d"/>
                </a:solidFill>
                <a:latin typeface="Arial Narrow"/>
              </a:rPr>
              <a:t>1998</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Bibliographic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bibliographique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AD</a:t>
            </a:r>
            <a:r>
              <a:rPr b="0" lang="fr-CA" sz="2000" spc="-1" strike="noStrike">
                <a:solidFill>
                  <a:srgbClr val="4d4d4d"/>
                </a:solidFill>
                <a:latin typeface="Arial Narrow"/>
              </a:rPr>
              <a:t>	</a:t>
            </a:r>
            <a:r>
              <a:rPr b="0" lang="fr-CA" sz="2000" spc="-1" strike="noStrike">
                <a:solidFill>
                  <a:srgbClr val="4d4d4d"/>
                </a:solidFill>
                <a:latin typeface="Arial Narrow"/>
              </a:rPr>
              <a:t>1999-</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Authority Data</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données d’autorité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SAR</a:t>
            </a:r>
            <a:r>
              <a:rPr b="0" lang="fr-CA" sz="2000" spc="-1" strike="noStrike">
                <a:solidFill>
                  <a:srgbClr val="4d4d4d"/>
                </a:solidFill>
                <a:latin typeface="Arial Narrow"/>
              </a:rPr>
              <a:t>	</a:t>
            </a:r>
            <a:r>
              <a:rPr b="0" lang="fr-CA" sz="2000" spc="-1" strike="noStrike">
                <a:solidFill>
                  <a:srgbClr val="4d4d4d"/>
                </a:solidFill>
                <a:latin typeface="Arial Narrow"/>
              </a:rPr>
              <a:t>2005-</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Subject Authority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d’autorités sujets)</a:t>
            </a:r>
            <a:endParaRPr b="0" lang="en-US" sz="2000" spc="-1" strike="noStrike">
              <a:solidFill>
                <a:srgbClr val="4d4d4d"/>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principes internationaux de catalogage </a:t>
            </a:r>
            <a:r>
              <a:rPr b="0" lang="fr-CA" sz="2000" spc="-1" strike="noStrike">
                <a:solidFill>
                  <a:srgbClr val="777777"/>
                </a:solidFill>
                <a:latin typeface="Arial Narrow"/>
              </a:rPr>
              <a:t>2003-2009</a:t>
            </a:r>
            <a:endParaRPr b="1" lang="en-US" sz="2000" spc="-1" strike="noStrike">
              <a:solidFill>
                <a:srgbClr val="777777"/>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IME ICC (IFLA Meeting of Experts on an International Cataloguing Code)</a:t>
            </a: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ED756E8-5273-4FB4-9D05-2C764CACC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es internationaux de catalogage 2003-2009</a:t>
            </a:r>
            <a:endParaRPr b="1" lang="en-US" sz="2800" spc="-1" strike="noStrike">
              <a:solidFill>
                <a:srgbClr val="4d4d4d"/>
              </a:solidFill>
              <a:latin typeface="Arial Narrow"/>
            </a:endParaRPr>
          </a:p>
        </p:txBody>
      </p:sp>
      <p:sp>
        <p:nvSpPr>
          <p:cNvPr id="286" name="PlaceHolder 2"/>
          <p:cNvSpPr>
            <a:spLocks noGrp="1"/>
          </p:cNvSpPr>
          <p:nvPr>
            <p:ph/>
          </p:nvPr>
        </p:nvSpPr>
        <p:spPr>
          <a:xfrm>
            <a:off x="914400" y="1600200"/>
            <a:ext cx="7315200" cy="4481640"/>
          </a:xfrm>
          <a:prstGeom prst="rect">
            <a:avLst/>
          </a:prstGeom>
          <a:noFill/>
          <a:ln w="0">
            <a:noFill/>
          </a:ln>
        </p:spPr>
        <p:txBody>
          <a:bodyPr lIns="0" rIns="0" tIns="0" bIns="0" anchor="t">
            <a:normAutofit/>
          </a:bodyPr>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Remplacent les Principes de Paris de 1961</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Principal objectif vise à assurer le confort des utilisateurs des catalogu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Établissent les fonctions d'un catalogue à partir des tâches des utilisateurs : trouver, identifier, sélectionner, se procurer, naviguer.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S'appuient sur les concepts FRBR (modèle entités-relation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Couvrent tous les types de ressource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Reconnaissent l'ISBD comme norme internationale de référence pour la description bibliographique. </a:t>
            </a:r>
            <a:endParaRPr b="1" lang="en-US" sz="2400" spc="-1" strike="noStrike">
              <a:solidFill>
                <a:srgbClr val="777777"/>
              </a:solidFill>
              <a:latin typeface="Arial Narrow"/>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10A516C-6B68-4A82-81AA-0960F5D64A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3772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s travaux de l’IFLA et les modèles conceptuels</a:t>
            </a:r>
            <a:endParaRPr b="1" lang="en-US" sz="2800" spc="-1" strike="noStrike">
              <a:solidFill>
                <a:srgbClr val="4d4d4d"/>
              </a:solidFill>
              <a:latin typeface="Arial Narrow"/>
            </a:endParaRPr>
          </a:p>
        </p:txBody>
      </p:sp>
      <p:sp>
        <p:nvSpPr>
          <p:cNvPr id="288" name="PlaceHolder 2"/>
          <p:cNvSpPr>
            <a:spLocks noGrp="1"/>
          </p:cNvSpPr>
          <p:nvPr>
            <p:ph/>
          </p:nvPr>
        </p:nvSpPr>
        <p:spPr>
          <a:xfrm>
            <a:off x="914400" y="1600200"/>
            <a:ext cx="7315200" cy="4556160"/>
          </a:xfrm>
          <a:prstGeom prst="rect">
            <a:avLst/>
          </a:prstGeom>
          <a:noFill/>
          <a:ln w="0">
            <a:noFill/>
          </a:ln>
        </p:spPr>
        <p:txBody>
          <a:bodyPr lIns="0" rIns="0" tIns="0" bIns="0" anchor="t">
            <a:normAutofit/>
          </a:bodyPr>
          <a:p>
            <a:pPr marL="495360" indent="-49536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es modèles basés sur les tâches principales qu’accomplissent la majorité des utilisateurs dans les catalogues de bibliothèques</a:t>
            </a:r>
            <a:endParaRPr b="1" lang="en-US" sz="2000" spc="-1" strike="noStrike">
              <a:solidFill>
                <a:srgbClr val="777777"/>
              </a:solidFill>
              <a:latin typeface="Arial Narrow"/>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Trouver</a:t>
            </a:r>
            <a:r>
              <a:rPr b="0" lang="fr-CA" sz="2000" spc="-1" strike="noStrike">
                <a:solidFill>
                  <a:srgbClr val="777777"/>
                </a:solidFill>
                <a:latin typeface="Arial Narrow"/>
              </a:rPr>
              <a:t> les documents qui correspondent aux critères de recherches</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Identifier</a:t>
            </a:r>
            <a:r>
              <a:rPr b="0" lang="fr-CA" sz="2000" spc="-1" strike="noStrike">
                <a:solidFill>
                  <a:srgbClr val="777777"/>
                </a:solidFill>
                <a:latin typeface="Arial Narrow"/>
              </a:rPr>
              <a:t> des critères permettant de confirmer que le document correspond à celui recherché</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Choisir</a:t>
            </a:r>
            <a:r>
              <a:rPr b="0" lang="fr-CA" sz="2000" spc="-1" strike="noStrike">
                <a:solidFill>
                  <a:srgbClr val="777777"/>
                </a:solidFill>
                <a:latin typeface="Arial Narrow"/>
              </a:rPr>
              <a:t> une ressource documentaire en adéquation avec les besoins de l’usager</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Obtenir</a:t>
            </a:r>
            <a:r>
              <a:rPr b="0" lang="fr-CA" sz="2000" spc="-1" strike="noStrike">
                <a:solidFill>
                  <a:srgbClr val="777777"/>
                </a:solidFill>
                <a:latin typeface="Arial Narrow"/>
              </a:rPr>
              <a:t> l’information, ou le document décrit</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Naviguer</a:t>
            </a:r>
            <a:r>
              <a:rPr b="0" lang="fr-CA" sz="2000" spc="-1" strike="noStrike">
                <a:solidFill>
                  <a:srgbClr val="777777"/>
                </a:solidFill>
                <a:latin typeface="Arial Narrow"/>
              </a:rPr>
              <a:t> dans le système pour identifier d’autres ressources similaires, ou d’autres manifestations de la même ressource</a:t>
            </a:r>
            <a:endParaRPr b="0" lang="en-US" sz="2000" spc="-1" strike="noStrike">
              <a:solidFill>
                <a:srgbClr val="4d4d4d"/>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D904CFA-FC32-47E6-B8F6-853E106C5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0" name="PlaceHolder 2"/>
          <p:cNvSpPr>
            <a:spLocks noGrp="1"/>
          </p:cNvSpPr>
          <p:nvPr>
            <p:ph/>
          </p:nvPr>
        </p:nvSpPr>
        <p:spPr>
          <a:xfrm>
            <a:off x="914400" y="1752120"/>
            <a:ext cx="7315200" cy="3976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unctional Requirements for Bibliographic Records   ou Spécifications fonctionnelles des notices bibliograph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odèle entités-relation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les éléments requis par les notices bibliographiques permettant de répondre aux tâches effectuées par les utilisat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pose sur des groupes d’éléments d’informations</a:t>
            </a:r>
            <a:r>
              <a:rPr b="1" lang="fr-CA" sz="2600" spc="-1" strike="noStrike">
                <a:solidFill>
                  <a:srgbClr val="777777"/>
                </a:solidFill>
                <a:latin typeface="Arial Narrow"/>
              </a:rPr>
              <a:t> </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81C9B33-2100-499B-9392-E58A880DC7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2" name="PlaceHolder 2"/>
          <p:cNvSpPr>
            <a:spLocks noGrp="1"/>
          </p:cNvSpPr>
          <p:nvPr>
            <p:ph/>
          </p:nvPr>
        </p:nvSpPr>
        <p:spPr>
          <a:xfrm>
            <a:off x="914400" y="1523880"/>
            <a:ext cx="7315200" cy="54097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Trois groupes d’éléments d’informations ayant des relations entre eux</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1:</a:t>
            </a:r>
            <a:r>
              <a:rPr b="0" lang="fr-CA" sz="2200" spc="-1" strike="noStrike">
                <a:solidFill>
                  <a:srgbClr val="4d4d4d"/>
                </a:solidFill>
                <a:latin typeface="Arial Narrow"/>
              </a:rPr>
              <a:t>	</a:t>
            </a:r>
            <a:r>
              <a:rPr b="0" lang="fr-CA" sz="2200" spc="-1" strike="noStrike">
                <a:solidFill>
                  <a:srgbClr val="4d4d4d"/>
                </a:solidFill>
                <a:latin typeface="Arial Narrow"/>
              </a:rPr>
              <a:t>Manifestation artistique ou intellectuelle = Ressource bibliographiqu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2:</a:t>
            </a:r>
            <a:r>
              <a:rPr b="0" lang="fr-CA" sz="2200" spc="-1" strike="noStrike">
                <a:solidFill>
                  <a:srgbClr val="4d4d4d"/>
                </a:solidFill>
                <a:latin typeface="Arial Narrow"/>
              </a:rPr>
              <a:t>	</a:t>
            </a:r>
            <a:r>
              <a:rPr b="0" lang="fr-CA" sz="2200" spc="-1" strike="noStrike">
                <a:solidFill>
                  <a:srgbClr val="4d4d4d"/>
                </a:solidFill>
                <a:latin typeface="Arial Narrow"/>
              </a:rPr>
              <a:t>Personnes, familles ou organismes  impliqués dans le processus de création, d’adaptation, ou d’édition du Groupe 1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3:</a:t>
            </a:r>
            <a:r>
              <a:rPr b="0" lang="fr-CA" sz="2200" spc="-1" strike="noStrike">
                <a:solidFill>
                  <a:srgbClr val="4d4d4d"/>
                </a:solidFill>
                <a:latin typeface="Arial Narrow"/>
              </a:rPr>
              <a:t>	</a:t>
            </a:r>
            <a:r>
              <a:rPr b="0" lang="fr-CA" sz="2200" spc="-1" strike="noStrike">
                <a:solidFill>
                  <a:srgbClr val="4d4d4d"/>
                </a:solidFill>
                <a:latin typeface="Arial Narrow"/>
              </a:rPr>
              <a:t>Sujets servant à décrire les éléments du groupe 1</a:t>
            </a:r>
            <a:endParaRPr b="0" lang="en-US" sz="2200" spc="-1" strike="noStrike">
              <a:solidFill>
                <a:srgbClr val="4d4d4d"/>
              </a:solidFill>
              <a:latin typeface="Arial Narrow"/>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1</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2</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Concepts, objets, événements, lieux géographiques</a:t>
            </a:r>
            <a:endParaRPr b="0" lang="en-US" sz="2000" spc="-1" strike="noStrike">
              <a:solidFill>
                <a:srgbClr val="000000"/>
              </a:solidFill>
              <a:latin typeface="Arial"/>
            </a:endParaRPr>
          </a:p>
          <a:p>
            <a:pPr marL="1778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8AFEF69-9F49-4C9B-82B6-6BD477402B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4" name="PlaceHolder 2"/>
          <p:cNvSpPr>
            <a:spLocks noGrp="1"/>
          </p:cNvSpPr>
          <p:nvPr>
            <p:ph/>
          </p:nvPr>
        </p:nvSpPr>
        <p:spPr>
          <a:xfrm>
            <a:off x="914400" y="1828800"/>
            <a:ext cx="7315200" cy="384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RBR présente de nouvelles définition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tem ou exemplaire</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ndispensables pour la compréhension de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ées sur une meilleure description de l’Univers bibliographique</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5BC3A57-DF7B-4036-88C9-ADCF79970C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6" name="PlaceHolder 2"/>
          <p:cNvSpPr>
            <a:spLocks noGrp="1"/>
          </p:cNvSpPr>
          <p:nvPr>
            <p:ph/>
          </p:nvPr>
        </p:nvSpPr>
        <p:spPr>
          <a:xfrm>
            <a:off x="914400" y="2209320"/>
            <a:ext cx="7315200" cy="456012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Un livre peut être un objet  physique spécifique, FRBR l’appelle un exemplaire ou un item</a:t>
            </a:r>
            <a:endParaRPr b="1" lang="en-US" sz="2000" spc="-1" strike="noStrike">
              <a:solidFill>
                <a:srgbClr val="777777"/>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Lorsque je demande un livre chez le libraire,  FRBR l’appelle une manifestat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Si je demande qui a traduit ce livre, FRBR parle plutôt d’une express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Et si je demande qui a écrit ce livre? Il s’agit alors ici de l’œuvre</a:t>
            </a:r>
            <a:endParaRPr b="1" lang="en-US" sz="20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D492F1C-F567-420C-B5F2-BBCD8DA5C8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806040"/>
            <a:ext cx="7315200" cy="438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r>
              <a:rPr b="1" lang="fr-CA" sz="3200" spc="-1" strike="noStrike">
                <a:solidFill>
                  <a:srgbClr val="4d4d4d"/>
                </a:solidFill>
                <a:latin typeface="Arial Narrow"/>
              </a:rPr>
              <a:t> </a:t>
            </a:r>
            <a:endParaRPr b="1" lang="en-US" sz="3200" spc="-1" strike="noStrike">
              <a:solidFill>
                <a:srgbClr val="4d4d4d"/>
              </a:solidFill>
              <a:latin typeface="Arial Narrow"/>
            </a:endParaRPr>
          </a:p>
        </p:txBody>
      </p:sp>
      <p:sp>
        <p:nvSpPr>
          <p:cNvPr id="298" name="PlaceHolder 2"/>
          <p:cNvSpPr>
            <a:spLocks noGrp="1"/>
          </p:cNvSpPr>
          <p:nvPr>
            <p:ph/>
          </p:nvPr>
        </p:nvSpPr>
        <p:spPr>
          <a:xfrm>
            <a:off x="838080" y="1447560"/>
            <a:ext cx="7315200" cy="56383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Œuv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ion intellectuelle ou artistique déterminé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Ne correspond à aucun objet matériel</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press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éalisation intellectuelle ou artistique d’une 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Les mots formant un texte, les notes d’une œuvre music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Il s’agit encore d’une abstraction</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Manifestat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xpression physique de l’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nsemble des exemplaires ayant les mêmes caractéristiques</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emplai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Objet concret, matériel, tangible et unique</a:t>
            </a:r>
            <a:endParaRPr b="0" lang="en-US" sz="2000" spc="-1" strike="noStrike">
              <a:solidFill>
                <a:srgbClr val="4d4d4d"/>
              </a:solidFill>
              <a:latin typeface="Arial Narrow"/>
            </a:endParaRPr>
          </a:p>
          <a:p>
            <a:pPr marL="17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	</a:t>
            </a:r>
            <a:endParaRPr b="1" lang="en-US" sz="2200" spc="-1" strike="noStrike">
              <a:solidFill>
                <a:srgbClr val="777777"/>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567459A-B4C2-4563-B5DF-D8926FF615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 la présentation</a:t>
            </a:r>
            <a:endParaRPr b="1" lang="en-US" sz="2800" spc="-1" strike="noStrike">
              <a:solidFill>
                <a:srgbClr val="4d4d4d"/>
              </a:solidFill>
              <a:latin typeface="Arial Narrow"/>
            </a:endParaRPr>
          </a:p>
        </p:txBody>
      </p:sp>
      <p:sp>
        <p:nvSpPr>
          <p:cNvPr id="2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ntexte de développement des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es conceptuelles et théor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différences entre RCAA2 et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cénario d’implantation prévu</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question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8C1D8C9-C6BF-48E1-8B08-DBF782C9F8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300" name="PlaceHolder 2"/>
          <p:cNvSpPr>
            <a:spLocks noGrp="1"/>
          </p:cNvSpPr>
          <p:nvPr>
            <p:ph/>
          </p:nvPr>
        </p:nvSpPr>
        <p:spPr>
          <a:xfrm>
            <a:off x="914400" y="2209680"/>
            <a:ext cx="7315200" cy="3828600"/>
          </a:xfrm>
          <a:prstGeom prst="rect">
            <a:avLst/>
          </a:prstGeom>
          <a:noFill/>
          <a:ln w="0">
            <a:noFill/>
          </a:ln>
        </p:spPr>
        <p:txBody>
          <a:bodyPr lIns="0" rIns="0" tIns="0" bIns="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œuvre</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Trouve sa réalisation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press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Se concrétise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a manifestat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Est représentée par</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emplaire</a:t>
            </a:r>
            <a:endParaRPr b="1" lang="en-US" sz="2400" spc="-1" strike="noStrike">
              <a:solidFill>
                <a:srgbClr val="777777"/>
              </a:solidFill>
              <a:latin typeface="Arial Narrow"/>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Narrow"/>
              </a:rPr>
              <a:t>	</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3D74A83-C9D6-4042-B481-B9ED2A6261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Harry Potter et FRBR</a:t>
            </a:r>
            <a:endParaRPr b="1" lang="en-US" sz="2800" spc="-1" strike="noStrike">
              <a:solidFill>
                <a:srgbClr val="4d4d4d"/>
              </a:solidFill>
              <a:latin typeface="Arial Narrow"/>
            </a:endParaRPr>
          </a:p>
        </p:txBody>
      </p:sp>
      <p:sp>
        <p:nvSpPr>
          <p:cNvPr id="302" name="PlaceHolder 2"/>
          <p:cNvSpPr>
            <a:spLocks noGrp="1"/>
          </p:cNvSpPr>
          <p:nvPr>
            <p:ph/>
          </p:nvPr>
        </p:nvSpPr>
        <p:spPr>
          <a:xfrm>
            <a:off x="914400" y="1752120"/>
            <a:ext cx="3581280" cy="4091040"/>
          </a:xfrm>
          <a:prstGeom prst="rect">
            <a:avLst/>
          </a:prstGeom>
          <a:noFill/>
          <a:ln w="0">
            <a:noFill/>
          </a:ln>
        </p:spPr>
        <p:txBody>
          <a:bodyPr lIns="0" rIns="0" tIns="0" bIns="0" anchor="t">
            <a:normAutofit/>
          </a:bodyPr>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e J.K. Rowling à titre de création intellectuelle, c’est </a:t>
            </a:r>
            <a:r>
              <a:rPr b="1" lang="fr-CA" sz="1600" spc="-1" strike="noStrike">
                <a:solidFill>
                  <a:srgbClr val="ff3399"/>
                </a:solidFill>
                <a:latin typeface="Arial Narrow"/>
              </a:rPr>
              <a:t>l’œuv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ans sa langue originale, ou traduit en espagnol, en français, en grec ancien ou en latin, c’est </a:t>
            </a:r>
            <a:r>
              <a:rPr b="1" lang="fr-CA" sz="1600" spc="-1" strike="noStrike">
                <a:solidFill>
                  <a:srgbClr val="ff3399"/>
                </a:solidFill>
                <a:latin typeface="Arial Narrow"/>
              </a:rPr>
              <a:t>l’express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Lorsque le texte traduit en français a été publié dans la collection Livre de poche, c’est </a:t>
            </a:r>
            <a:r>
              <a:rPr b="1" lang="fr-CA" sz="1600" spc="-1" strike="noStrike">
                <a:solidFill>
                  <a:srgbClr val="ff3399"/>
                </a:solidFill>
                <a:latin typeface="Arial Narrow"/>
              </a:rPr>
              <a:t>la manifestat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Et le volume que j’ai emprunté à la bibliothèque et emporté pendant mes vacances, c’est </a:t>
            </a:r>
            <a:r>
              <a:rPr b="1" lang="fr-CA" sz="1600" spc="-1" strike="noStrike">
                <a:solidFill>
                  <a:srgbClr val="ff3399"/>
                </a:solidFill>
                <a:latin typeface="Arial Narrow"/>
              </a:rPr>
              <a:t>l’exemplai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p:txBody>
      </p:sp>
      <p:pic>
        <p:nvPicPr>
          <p:cNvPr id="303" name="" descr="http://www.celebrites-selection.com/blogs/?u=beline2">
            <a:hlinkClick r:id="rId1"/>
          </p:cNvPr>
          <p:cNvPicPr/>
          <p:nvPr/>
        </p:nvPicPr>
        <p:blipFill>
          <a:blip r:embed="rId2"/>
          <a:stretch/>
        </p:blipFill>
        <p:spPr>
          <a:xfrm>
            <a:off x="4800600" y="1523880"/>
            <a:ext cx="3200400" cy="1905120"/>
          </a:xfrm>
          <a:prstGeom prst="rect">
            <a:avLst/>
          </a:prstGeom>
          <a:ln w="0">
            <a:noFill/>
          </a:ln>
        </p:spPr>
      </p:pic>
      <p:pic>
        <p:nvPicPr>
          <p:cNvPr id="304" name="" descr="">
            <a:hlinkClick r:id="rId3"/>
          </p:cNvPr>
          <p:cNvPicPr/>
          <p:nvPr/>
        </p:nvPicPr>
        <p:blipFill>
          <a:blip r:embed="rId4"/>
          <a:stretch/>
        </p:blipFill>
        <p:spPr>
          <a:xfrm>
            <a:off x="4800600" y="3505320"/>
            <a:ext cx="3200400" cy="2209680"/>
          </a:xfrm>
          <a:prstGeom prst="rect">
            <a:avLst/>
          </a:prstGeom>
          <a:ln w="0">
            <a:noFill/>
          </a:ln>
        </p:spPr>
      </p:pic>
      <p:sp>
        <p:nvSpPr>
          <p:cNvPr id="305" name=""/>
          <p:cNvSpPr/>
          <p:nvPr/>
        </p:nvSpPr>
        <p:spPr>
          <a:xfrm>
            <a:off x="762120" y="1676520"/>
            <a:ext cx="39621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C0C147A-16F2-4733-8E21-196C8895A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u Groupe 1</a:t>
            </a:r>
            <a:endParaRPr b="1" lang="en-US" sz="2800" spc="-1" strike="noStrike">
              <a:solidFill>
                <a:srgbClr val="4d4d4d"/>
              </a:solidFill>
              <a:latin typeface="Arial Narrow"/>
            </a:endParaRPr>
          </a:p>
        </p:txBody>
      </p:sp>
      <p:sp>
        <p:nvSpPr>
          <p:cNvPr id="307" name=""/>
          <p:cNvSpPr txBox="1"/>
          <p:nvPr/>
        </p:nvSpPr>
        <p:spPr>
          <a:xfrm>
            <a:off x="914400" y="1066320"/>
            <a:ext cx="7315200" cy="5302440"/>
          </a:xfrm>
          <a:prstGeom prst="rect">
            <a:avLst/>
          </a:prstGeom>
          <a:noFill/>
          <a:ln w="0">
            <a:noFill/>
          </a:ln>
        </p:spPr>
        <p:txBody>
          <a:bodyPr lIns="0" rIns="0" tIns="0" bIns="0" anchor="t">
            <a:normAutofit/>
          </a:bodyPr>
          <a:p>
            <a:pPr marL="177840" indent="-177840">
              <a:lnSpc>
                <a:spcPct val="80000"/>
              </a:lnSpc>
              <a:spcBef>
                <a:spcPts val="3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emplaire:</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uméro de code zébr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ocalisation particulièr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Manifestation</a:t>
            </a:r>
            <a:r>
              <a:rPr b="0" lang="fr-CA" sz="1400" spc="-1" strike="noStrike">
                <a:solidFill>
                  <a:srgbClr val="000000"/>
                </a:solidFill>
                <a:latin typeface="Arial Narrow"/>
              </a:rPr>
              <a:t>:</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SB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prop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responsabilit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traduc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édi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relative à la publica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pression</a:t>
            </a:r>
            <a:r>
              <a:rPr b="0" lang="fr-CA" sz="1400" spc="-1" strike="noStrike">
                <a:solidFill>
                  <a:srgbClr val="000000"/>
                </a:solidFill>
                <a:latin typeface="Arial Narrow"/>
              </a:rPr>
              <a:t>:</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angu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Œuvre</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dentifiant ou numéro d’enregistrement ou de copyrigh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un concep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spcBef>
                <a:spcPts val="3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291760BA-7D9C-451E-8CDA-9CA15A4440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es Groupes 2 et 3</a:t>
            </a:r>
            <a:endParaRPr b="1" lang="en-US" sz="2800" spc="-1" strike="noStrike">
              <a:solidFill>
                <a:srgbClr val="4d4d4d"/>
              </a:solidFill>
              <a:latin typeface="Arial Narrow"/>
            </a:endParaRPr>
          </a:p>
        </p:txBody>
      </p:sp>
      <p:sp>
        <p:nvSpPr>
          <p:cNvPr id="309" name="PlaceHolder 2"/>
          <p:cNvSpPr>
            <a:spLocks noGrp="1"/>
          </p:cNvSpPr>
          <p:nvPr>
            <p:ph/>
          </p:nvPr>
        </p:nvSpPr>
        <p:spPr>
          <a:xfrm>
            <a:off x="914400" y="1371600"/>
            <a:ext cx="7315200" cy="4589280"/>
          </a:xfrm>
          <a:prstGeom prst="rect">
            <a:avLst/>
          </a:prstGeom>
          <a:noFill/>
          <a:ln w="0">
            <a:noFill/>
          </a:ln>
        </p:spPr>
        <p:txBody>
          <a:bodyPr lIns="0" rIns="0" tIns="0" bIns="0" anchor="t">
            <a:normAutofit/>
          </a:bodyPr>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2 – Auteurs</a:t>
            </a:r>
            <a:r>
              <a:rPr b="0" lang="fr-CA" sz="1400" spc="-1" strike="noStrike">
                <a:solidFill>
                  <a:srgbClr val="000000"/>
                </a:solidFill>
                <a:latin typeface="Arial Narrow"/>
              </a:rPr>
              <a:t>  (personnes, familles, organismes)</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om et pré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 complète du 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s associées avec une personne (de naissance ou de mort)</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d’une personn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ieu de naissanc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Profession</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Affiliation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lvl="2" marL="1092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3 – Sujets </a:t>
            </a:r>
            <a:r>
              <a:rPr b="0" lang="fr-CA" sz="1400" spc="-1" strike="noStrike">
                <a:solidFill>
                  <a:srgbClr val="000000"/>
                </a:solidFill>
                <a:latin typeface="Arial Narrow"/>
              </a:rPr>
              <a:t>(concepts, objets, événements, lieux) + Groupes 1 et 2</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ccep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reje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ssoci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3CB4CBB-7999-4260-A65A-E87BFCB3F1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Un modèle entités-relations</a:t>
            </a:r>
            <a:endParaRPr b="1" lang="en-US" sz="2800" spc="-1" strike="noStrike">
              <a:solidFill>
                <a:srgbClr val="4d4d4d"/>
              </a:solidFill>
              <a:latin typeface="Arial Narrow"/>
            </a:endParaRPr>
          </a:p>
        </p:txBody>
      </p:sp>
      <p:sp>
        <p:nvSpPr>
          <p:cNvPr id="311" name="PlaceHolder 2"/>
          <p:cNvSpPr>
            <a:spLocks noGrp="1"/>
          </p:cNvSpPr>
          <p:nvPr>
            <p:ph/>
          </p:nvPr>
        </p:nvSpPr>
        <p:spPr>
          <a:xfrm>
            <a:off x="914400" y="1752120"/>
            <a:ext cx="7315200" cy="17492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entités d’un même groupe peuvent avoir des relations entre ell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u avec des entités d’autres groupe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D2ADD14-F487-4AFF-9452-E9008D183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14400" y="533520"/>
            <a:ext cx="2743200" cy="64260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Oeuvre</a:t>
            </a:r>
            <a:endParaRPr b="0" lang="en-US" sz="3600" spc="-1" strike="noStrike">
              <a:solidFill>
                <a:srgbClr val="000000"/>
              </a:solidFill>
              <a:latin typeface="Arial"/>
            </a:endParaRPr>
          </a:p>
        </p:txBody>
      </p:sp>
      <p:sp>
        <p:nvSpPr>
          <p:cNvPr id="313" name="Text Box 3"/>
          <p:cNvSpPr/>
          <p:nvPr/>
        </p:nvSpPr>
        <p:spPr>
          <a:xfrm>
            <a:off x="2362320" y="2209680"/>
            <a:ext cx="2895480" cy="703440"/>
          </a:xfrm>
          <a:prstGeom prst="rect">
            <a:avLst/>
          </a:prstGeom>
          <a:noFill/>
          <a:ln w="3492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expression</a:t>
            </a:r>
            <a:endParaRPr b="0" lang="en-US" sz="4000" spc="-1" strike="noStrike">
              <a:solidFill>
                <a:srgbClr val="000000"/>
              </a:solidFill>
              <a:latin typeface="Arial"/>
            </a:endParaRPr>
          </a:p>
        </p:txBody>
      </p:sp>
      <p:sp>
        <p:nvSpPr>
          <p:cNvPr id="314" name="Text Box 4"/>
          <p:cNvSpPr/>
          <p:nvPr/>
        </p:nvSpPr>
        <p:spPr>
          <a:xfrm>
            <a:off x="3352680" y="3886200"/>
            <a:ext cx="3886200" cy="703440"/>
          </a:xfrm>
          <a:prstGeom prst="rect">
            <a:avLst/>
          </a:prstGeom>
          <a:noFill/>
          <a:ln w="34920">
            <a:solidFill>
              <a:srgbClr val="ffaa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a Manifestation</a:t>
            </a:r>
            <a:endParaRPr b="0" lang="en-US" sz="4000" spc="-1" strike="noStrike">
              <a:solidFill>
                <a:srgbClr val="000000"/>
              </a:solidFill>
              <a:latin typeface="Arial"/>
            </a:endParaRPr>
          </a:p>
        </p:txBody>
      </p:sp>
      <p:sp>
        <p:nvSpPr>
          <p:cNvPr id="315" name="Text Box 5"/>
          <p:cNvSpPr/>
          <p:nvPr/>
        </p:nvSpPr>
        <p:spPr>
          <a:xfrm>
            <a:off x="6117120" y="5486400"/>
            <a:ext cx="2640600" cy="6426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exemplaire</a:t>
            </a:r>
            <a:endParaRPr b="0" lang="en-US" sz="3600" spc="-1" strike="noStrike">
              <a:solidFill>
                <a:srgbClr val="000000"/>
              </a:solidFill>
              <a:latin typeface="Arial"/>
            </a:endParaRPr>
          </a:p>
        </p:txBody>
      </p:sp>
      <p:sp>
        <p:nvSpPr>
          <p:cNvPr id="316" name="Text Box 6"/>
          <p:cNvSpPr/>
          <p:nvPr/>
        </p:nvSpPr>
        <p:spPr>
          <a:xfrm>
            <a:off x="834480" y="1600200"/>
            <a:ext cx="32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rouve sa réalisation dans</a:t>
            </a:r>
            <a:endParaRPr b="0" lang="en-US" sz="2400" spc="-1" strike="noStrike">
              <a:solidFill>
                <a:srgbClr val="000000"/>
              </a:solidFill>
              <a:latin typeface="Arial"/>
            </a:endParaRPr>
          </a:p>
        </p:txBody>
      </p:sp>
      <p:sp>
        <p:nvSpPr>
          <p:cNvPr id="317" name="Text Box 8"/>
          <p:cNvSpPr/>
          <p:nvPr/>
        </p:nvSpPr>
        <p:spPr>
          <a:xfrm>
            <a:off x="4646880" y="3124080"/>
            <a:ext cx="23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 concrétise dans</a:t>
            </a:r>
            <a:endParaRPr b="0" lang="en-US" sz="2400" spc="-1" strike="noStrike">
              <a:solidFill>
                <a:srgbClr val="000000"/>
              </a:solidFill>
              <a:latin typeface="Arial"/>
            </a:endParaRPr>
          </a:p>
        </p:txBody>
      </p:sp>
      <p:sp>
        <p:nvSpPr>
          <p:cNvPr id="318" name="Text Box 9"/>
          <p:cNvSpPr/>
          <p:nvPr/>
        </p:nvSpPr>
        <p:spPr>
          <a:xfrm>
            <a:off x="3882600" y="48769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t est représentée par</a:t>
            </a:r>
            <a:endParaRPr b="0" lang="en-US" sz="2400" spc="-1" strike="noStrike">
              <a:solidFill>
                <a:srgbClr val="000000"/>
              </a:solidFill>
              <a:latin typeface="Arial"/>
            </a:endParaRPr>
          </a:p>
        </p:txBody>
      </p:sp>
      <p:cxnSp>
        <p:nvCxnSpPr>
          <p:cNvPr id="319" name="AutoShape 10"/>
          <p:cNvCxnSpPr>
            <a:stCxn id="312" idx="1"/>
            <a:endCxn id="313" idx="1"/>
          </p:cNvCxnSpPr>
          <p:nvPr/>
        </p:nvCxnSpPr>
        <p:spPr>
          <a:xfrm flipH="1" flipV="1" rot="10800000">
            <a:off x="896400" y="871200"/>
            <a:ext cx="1448640" cy="1707120"/>
          </a:xfrm>
          <a:prstGeom prst="bentConnector3">
            <a:avLst>
              <a:gd name="adj1" fmla="val -14566"/>
            </a:avLst>
          </a:prstGeom>
          <a:ln w="38160">
            <a:solidFill>
              <a:srgbClr val="000000"/>
            </a:solidFill>
            <a:miter/>
            <a:headEnd len="med" type="arrow" w="lg"/>
            <a:tailEnd len="med" type="arrow" w="lg"/>
          </a:ln>
        </p:spPr>
      </p:cxnSp>
      <p:cxnSp>
        <p:nvCxnSpPr>
          <p:cNvPr id="320" name="AutoShape 11"/>
          <p:cNvCxnSpPr/>
          <p:nvPr/>
        </p:nvCxnSpPr>
        <p:spPr>
          <a:xfrm>
            <a:off x="5410080" y="2590920"/>
            <a:ext cx="1982160" cy="1676880"/>
          </a:xfrm>
          <a:prstGeom prst="bentConnector3">
            <a:avLst>
              <a:gd name="adj1" fmla="val 110644"/>
            </a:avLst>
          </a:prstGeom>
          <a:ln w="38160">
            <a:solidFill>
              <a:srgbClr val="000000"/>
            </a:solidFill>
            <a:miter/>
            <a:headEnd len="med" type="arrow" w="lg"/>
            <a:tailEnd len="med" type="arrow" w="lg"/>
          </a:ln>
        </p:spPr>
      </p:cxnSp>
      <p:cxnSp>
        <p:nvCxnSpPr>
          <p:cNvPr id="321" name="AutoShape 12"/>
          <p:cNvCxnSpPr/>
          <p:nvPr/>
        </p:nvCxnSpPr>
        <p:spPr>
          <a:xfrm flipH="1" flipV="1" rot="10800000">
            <a:off x="3047760" y="4266720"/>
            <a:ext cx="3193200" cy="1571040"/>
          </a:xfrm>
          <a:prstGeom prst="bentConnector3">
            <a:avLst>
              <a:gd name="adj1" fmla="val -6607"/>
            </a:avLst>
          </a:prstGeom>
          <a:ln w="38160">
            <a:solidFill>
              <a:srgbClr val="000000"/>
            </a:solidFill>
            <a:miter/>
            <a:headEnd len="med" type="arrow" w="lg"/>
            <a:tailEnd len="med" type="arrow" w="lg"/>
          </a:ln>
        </p:spPr>
      </p:cxnSp>
      <p:sp>
        <p:nvSpPr>
          <p:cNvPr id="322" name="Line 13"/>
          <p:cNvSpPr/>
          <p:nvPr/>
        </p:nvSpPr>
        <p:spPr>
          <a:xfrm>
            <a:off x="6095880" y="58672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4"/>
          <p:cNvSpPr/>
          <p:nvPr/>
        </p:nvSpPr>
        <p:spPr>
          <a:xfrm flipH="1">
            <a:off x="5333760" y="2590920"/>
            <a:ext cx="7596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5"/>
          <p:cNvSpPr/>
          <p:nvPr/>
        </p:nvSpPr>
        <p:spPr>
          <a:xfrm>
            <a:off x="2133720" y="2590920"/>
            <a:ext cx="1522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9"/>
          <p:cNvSpPr/>
          <p:nvPr/>
        </p:nvSpPr>
        <p:spPr>
          <a:xfrm>
            <a:off x="534240" y="5029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e</a:t>
            </a:r>
            <a:endParaRPr b="0" lang="en-US" sz="2000" spc="-1" strike="noStrike">
              <a:solidFill>
                <a:srgbClr val="000000"/>
              </a:solidFill>
              <a:latin typeface="Arial"/>
            </a:endParaRPr>
          </a:p>
        </p:txBody>
      </p:sp>
      <p:sp>
        <p:nvSpPr>
          <p:cNvPr id="326" name="Text Box 20"/>
          <p:cNvSpPr/>
          <p:nvPr/>
        </p:nvSpPr>
        <p:spPr>
          <a:xfrm>
            <a:off x="532080" y="5638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a:t>
            </a:r>
            <a:endParaRPr b="0" lang="en-US" sz="2000" spc="-1" strike="noStrike">
              <a:solidFill>
                <a:srgbClr val="000000"/>
              </a:solidFill>
              <a:latin typeface="Arial"/>
            </a:endParaRPr>
          </a:p>
        </p:txBody>
      </p:sp>
      <p:sp>
        <p:nvSpPr>
          <p:cNvPr id="327" name="Line 21"/>
          <p:cNvSpPr/>
          <p:nvPr/>
        </p:nvSpPr>
        <p:spPr>
          <a:xfrm>
            <a:off x="1066680" y="5257800"/>
            <a:ext cx="381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2"/>
          <p:cNvSpPr/>
          <p:nvPr/>
        </p:nvSpPr>
        <p:spPr>
          <a:xfrm>
            <a:off x="1828800" y="586728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3"/>
          <p:cNvSpPr/>
          <p:nvPr/>
        </p:nvSpPr>
        <p:spPr>
          <a:xfrm>
            <a:off x="1828800" y="59436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4"/>
          <p:cNvSpPr/>
          <p:nvPr/>
        </p:nvSpPr>
        <p:spPr>
          <a:xfrm flipH="1">
            <a:off x="7238880" y="42670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7"/>
          <p:cNvSpPr/>
          <p:nvPr/>
        </p:nvSpPr>
        <p:spPr>
          <a:xfrm>
            <a:off x="4653720" y="409680"/>
            <a:ext cx="262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ＭＳ Ｐゴシック"/>
              </a:rPr>
              <a:t>Groupe 1</a:t>
            </a:r>
            <a:endParaRPr b="0" lang="en-US" sz="4400" spc="-1" strike="noStrike">
              <a:solidFill>
                <a:srgbClr val="000000"/>
              </a:solidFill>
              <a:latin typeface="Arial"/>
            </a:endParaRPr>
          </a:p>
        </p:txBody>
      </p:sp>
      <p:sp>
        <p:nvSpPr>
          <p:cNvPr id="332" name=""/>
          <p:cNvSpPr/>
          <p:nvPr/>
        </p:nvSpPr>
        <p:spPr>
          <a:xfrm>
            <a:off x="83674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333" name=""/>
          <p:cNvSpPr/>
          <p:nvPr/>
        </p:nvSpPr>
        <p:spPr>
          <a:xfrm>
            <a:off x="457200" y="61722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p:txBody>
      </p:sp>
      <p:sp>
        <p:nvSpPr>
          <p:cNvPr id="2" name="PlaceHolder 1"/>
          <p:cNvSpPr>
            <a:spLocks noGrp="1"/>
          </p:cNvSpPr>
          <p:nvPr>
            <p:ph type="sldNum" idx="8"/>
          </p:nvPr>
        </p:nvSpPr>
        <p:spPr/>
        <p:txBody>
          <a:bodyPr/>
          <a:p>
            <a:fld id="{FA01DDAD-AE04-41CD-8B75-C2BCFECA27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595160" y="609480"/>
            <a:ext cx="1078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35" name="Text Box 3"/>
          <p:cNvSpPr/>
          <p:nvPr/>
        </p:nvSpPr>
        <p:spPr>
          <a:xfrm>
            <a:off x="2153160" y="1371600"/>
            <a:ext cx="1537200" cy="459720"/>
          </a:xfrm>
          <a:prstGeom prst="rect">
            <a:avLst/>
          </a:prstGeom>
          <a:noFill/>
          <a:ln w="3816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36" name="Text Box 4"/>
          <p:cNvSpPr/>
          <p:nvPr/>
        </p:nvSpPr>
        <p:spPr>
          <a:xfrm>
            <a:off x="2836440" y="2133720"/>
            <a:ext cx="1878480" cy="459720"/>
          </a:xfrm>
          <a:prstGeom prst="rect">
            <a:avLst/>
          </a:prstGeom>
          <a:noFill/>
          <a:ln w="3816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37" name="Text Box 5"/>
          <p:cNvSpPr/>
          <p:nvPr/>
        </p:nvSpPr>
        <p:spPr>
          <a:xfrm>
            <a:off x="3751200" y="2895480"/>
            <a:ext cx="158904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cxnSp>
        <p:nvCxnSpPr>
          <p:cNvPr id="338" name="AutoShape 6"/>
          <p:cNvCxnSpPr>
            <a:stCxn id="334" idx="1"/>
          </p:cNvCxnSpPr>
          <p:nvPr/>
        </p:nvCxnSpPr>
        <p:spPr>
          <a:xfrm flipH="1" flipV="1" rot="10800000">
            <a:off x="1555560" y="856800"/>
            <a:ext cx="3751920" cy="4479120"/>
          </a:xfrm>
          <a:prstGeom prst="bentConnector4">
            <a:avLst>
              <a:gd name="adj1" fmla="val -33893"/>
              <a:gd name="adj2" fmla="val 100313"/>
            </a:avLst>
          </a:prstGeom>
          <a:ln w="38160">
            <a:solidFill>
              <a:srgbClr val="000000"/>
            </a:solidFill>
            <a:miter/>
            <a:headEnd len="lg" type="arrow" w="lg"/>
          </a:ln>
        </p:spPr>
      </p:cxnSp>
      <p:cxnSp>
        <p:nvCxnSpPr>
          <p:cNvPr id="339" name="AutoShape 7"/>
          <p:cNvCxnSpPr/>
          <p:nvPr/>
        </p:nvCxnSpPr>
        <p:spPr>
          <a:xfrm flipH="1" flipV="1" rot="10800000">
            <a:off x="3733560" y="3123720"/>
            <a:ext cx="1676880" cy="915120"/>
          </a:xfrm>
          <a:prstGeom prst="bentConnector3">
            <a:avLst>
              <a:gd name="adj1" fmla="val -77260"/>
            </a:avLst>
          </a:prstGeom>
          <a:ln w="38160">
            <a:solidFill>
              <a:srgbClr val="000000"/>
            </a:solidFill>
            <a:miter/>
            <a:headEnd len="med" type="arrow" w="lg"/>
          </a:ln>
        </p:spPr>
      </p:cxnSp>
      <p:cxnSp>
        <p:nvCxnSpPr>
          <p:cNvPr id="340" name="AutoShape 8"/>
          <p:cNvCxnSpPr>
            <a:stCxn id="336" idx="1"/>
          </p:cNvCxnSpPr>
          <p:nvPr/>
        </p:nvCxnSpPr>
        <p:spPr>
          <a:xfrm flipH="1" flipV="1" rot="10800000">
            <a:off x="2800080" y="2380320"/>
            <a:ext cx="2704320" cy="2129400"/>
          </a:xfrm>
          <a:prstGeom prst="bentConnector3">
            <a:avLst>
              <a:gd name="adj1" fmla="val -40447"/>
            </a:avLst>
          </a:prstGeom>
          <a:ln w="38160">
            <a:solidFill>
              <a:srgbClr val="000000"/>
            </a:solidFill>
            <a:miter/>
            <a:headEnd len="med" type="arrow" w="lg"/>
          </a:ln>
        </p:spPr>
      </p:cxnSp>
      <p:sp>
        <p:nvSpPr>
          <p:cNvPr id="341" name="Line 9"/>
          <p:cNvSpPr/>
          <p:nvPr/>
        </p:nvSpPr>
        <p:spPr>
          <a:xfrm>
            <a:off x="17524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1295280" y="838080"/>
            <a:ext cx="1526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5601960" y="1066680"/>
            <a:ext cx="2779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2</a:t>
            </a:r>
            <a:endParaRPr b="0" lang="en-US" sz="4000" spc="-1" strike="noStrike">
              <a:solidFill>
                <a:srgbClr val="000000"/>
              </a:solidFill>
              <a:latin typeface="Arial"/>
            </a:endParaRPr>
          </a:p>
        </p:txBody>
      </p:sp>
      <p:sp>
        <p:nvSpPr>
          <p:cNvPr id="344" name="Text Box 12"/>
          <p:cNvSpPr/>
          <p:nvPr/>
        </p:nvSpPr>
        <p:spPr>
          <a:xfrm>
            <a:off x="5943600" y="6019920"/>
            <a:ext cx="22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 relations</a:t>
            </a:r>
            <a:endParaRPr b="0" lang="en-US" sz="2000" spc="-1" strike="noStrike">
              <a:solidFill>
                <a:srgbClr val="000000"/>
              </a:solidFill>
              <a:latin typeface="Arial"/>
            </a:endParaRPr>
          </a:p>
        </p:txBody>
      </p:sp>
      <p:sp>
        <p:nvSpPr>
          <p:cNvPr id="345" name="Line 13"/>
          <p:cNvSpPr/>
          <p:nvPr/>
        </p:nvSpPr>
        <p:spPr>
          <a:xfrm>
            <a:off x="8229600" y="62485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4"/>
          <p:cNvSpPr/>
          <p:nvPr/>
        </p:nvSpPr>
        <p:spPr>
          <a:xfrm>
            <a:off x="8229600" y="62485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Rectangle 17"/>
          <p:cNvSpPr/>
          <p:nvPr/>
        </p:nvSpPr>
        <p:spPr>
          <a:xfrm>
            <a:off x="5486400" y="3429000"/>
            <a:ext cx="2819520" cy="213372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8"/>
          <p:cNvSpPr/>
          <p:nvPr/>
        </p:nvSpPr>
        <p:spPr>
          <a:xfrm>
            <a:off x="2514600" y="358128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ossédé par</a:t>
            </a:r>
            <a:endParaRPr b="0" lang="en-US" sz="2400" spc="-1" strike="noStrike">
              <a:solidFill>
                <a:srgbClr val="000000"/>
              </a:solidFill>
              <a:latin typeface="Arial"/>
            </a:endParaRPr>
          </a:p>
        </p:txBody>
      </p:sp>
      <p:sp>
        <p:nvSpPr>
          <p:cNvPr id="349" name="Text Box 19"/>
          <p:cNvSpPr/>
          <p:nvPr/>
        </p:nvSpPr>
        <p:spPr>
          <a:xfrm>
            <a:off x="1751040" y="40384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roduite par</a:t>
            </a:r>
            <a:endParaRPr b="0" lang="en-US" sz="2400" spc="-1" strike="noStrike">
              <a:solidFill>
                <a:srgbClr val="000000"/>
              </a:solidFill>
              <a:latin typeface="Arial"/>
            </a:endParaRPr>
          </a:p>
        </p:txBody>
      </p:sp>
      <p:sp>
        <p:nvSpPr>
          <p:cNvPr id="350" name="Line 20"/>
          <p:cNvSpPr/>
          <p:nvPr/>
        </p:nvSpPr>
        <p:spPr>
          <a:xfrm>
            <a:off x="37339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2514600" y="3124080"/>
            <a:ext cx="9907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2" name="AutoShape 22"/>
          <p:cNvCxnSpPr>
            <a:endCxn id="335" idx="1"/>
          </p:cNvCxnSpPr>
          <p:nvPr/>
        </p:nvCxnSpPr>
        <p:spPr>
          <a:xfrm rot="10800000">
            <a:off x="2113920" y="1618560"/>
            <a:ext cx="3388320" cy="3318480"/>
          </a:xfrm>
          <a:prstGeom prst="bentConnector3">
            <a:avLst>
              <a:gd name="adj1" fmla="val 132281"/>
            </a:avLst>
          </a:prstGeom>
          <a:ln w="38160">
            <a:solidFill>
              <a:srgbClr val="000000"/>
            </a:solidFill>
            <a:miter/>
            <a:headEnd len="lg" type="arrow" w="lg"/>
            <a:tailEnd len="lg" type="arrow" w="lg"/>
          </a:ln>
        </p:spPr>
      </p:cxnSp>
      <p:sp>
        <p:nvSpPr>
          <p:cNvPr id="353" name="Line 23"/>
          <p:cNvSpPr/>
          <p:nvPr/>
        </p:nvSpPr>
        <p:spPr>
          <a:xfrm>
            <a:off x="990720" y="4952880"/>
            <a:ext cx="42670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a:off x="457200" y="5334120"/>
            <a:ext cx="47242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1676520" y="236232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990720" y="160020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27"/>
          <p:cNvSpPr/>
          <p:nvPr/>
        </p:nvSpPr>
        <p:spPr>
          <a:xfrm>
            <a:off x="1064520" y="4495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réalisée par</a:t>
            </a:r>
            <a:endParaRPr b="0" lang="en-US" sz="2400" spc="-1" strike="noStrike">
              <a:solidFill>
                <a:srgbClr val="000000"/>
              </a:solidFill>
              <a:latin typeface="Arial"/>
            </a:endParaRPr>
          </a:p>
        </p:txBody>
      </p:sp>
      <p:sp>
        <p:nvSpPr>
          <p:cNvPr id="358" name="Text Box 28"/>
          <p:cNvSpPr/>
          <p:nvPr/>
        </p:nvSpPr>
        <p:spPr>
          <a:xfrm>
            <a:off x="455760" y="4876920"/>
            <a:ext cx="170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créée p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9" name="Group 28"/>
          <p:cNvGrpSpPr/>
          <p:nvPr/>
        </p:nvGrpSpPr>
        <p:grpSpPr>
          <a:xfrm>
            <a:off x="5808600" y="3581280"/>
            <a:ext cx="1994040" cy="1755360"/>
            <a:chOff x="5808600" y="3581280"/>
            <a:chExt cx="1994040" cy="1755360"/>
          </a:xfrm>
        </p:grpSpPr>
        <p:sp>
          <p:nvSpPr>
            <p:cNvPr id="360" name="Text Box 15"/>
            <p:cNvSpPr/>
            <p:nvPr/>
          </p:nvSpPr>
          <p:spPr>
            <a:xfrm>
              <a:off x="6419520" y="3581280"/>
              <a:ext cx="13831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Times New Roman"/>
                  <a:ea typeface="ＭＳ Ｐゴシック"/>
                </a:rPr>
                <a:t>Personne</a:t>
              </a:r>
              <a:endParaRPr b="0" lang="en-US" sz="2400" spc="-1" strike="noStrike">
                <a:solidFill>
                  <a:srgbClr val="000000"/>
                </a:solidFill>
                <a:latin typeface="Arial"/>
              </a:endParaRPr>
            </a:p>
          </p:txBody>
        </p:sp>
        <p:sp>
          <p:nvSpPr>
            <p:cNvPr id="361" name="Text Box 16"/>
            <p:cNvSpPr/>
            <p:nvPr/>
          </p:nvSpPr>
          <p:spPr>
            <a:xfrm>
              <a:off x="5808600" y="4876920"/>
              <a:ext cx="16225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Times New Roman"/>
                  <a:ea typeface="ＭＳ Ｐゴシック"/>
                </a:rPr>
                <a:t>Organisme</a:t>
              </a:r>
              <a:endParaRPr b="0" lang="en-US" sz="2400" spc="-1" strike="noStrike">
                <a:solidFill>
                  <a:srgbClr val="000000"/>
                </a:solidFill>
                <a:latin typeface="Arial"/>
              </a:endParaRPr>
            </a:p>
          </p:txBody>
        </p:sp>
        <p:sp>
          <p:nvSpPr>
            <p:cNvPr id="362" name="Text Box 15"/>
            <p:cNvSpPr/>
            <p:nvPr/>
          </p:nvSpPr>
          <p:spPr>
            <a:xfrm>
              <a:off x="6418080" y="4267080"/>
              <a:ext cx="108000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Times New Roman"/>
                  <a:ea typeface="ＭＳ Ｐゴシック"/>
                </a:rPr>
                <a:t>Famile</a:t>
              </a:r>
              <a:endParaRPr b="0" lang="en-US" sz="2400" spc="-1" strike="noStrike">
                <a:solidFill>
                  <a:srgbClr val="000000"/>
                </a:solidFill>
                <a:latin typeface="Arial"/>
              </a:endParaRPr>
            </a:p>
          </p:txBody>
        </p:sp>
      </p:grpSp>
      <p:sp>
        <p:nvSpPr>
          <p:cNvPr id="363" name="Line 24"/>
          <p:cNvSpPr/>
          <p:nvPr/>
        </p:nvSpPr>
        <p:spPr>
          <a:xfrm>
            <a:off x="380880" y="5334120"/>
            <a:ext cx="51055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0"/>
          <p:cNvSpPr/>
          <p:nvPr/>
        </p:nvSpPr>
        <p:spPr>
          <a:xfrm>
            <a:off x="39625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9"/>
          <p:cNvSpPr/>
          <p:nvPr/>
        </p:nvSpPr>
        <p:spPr>
          <a:xfrm>
            <a:off x="19810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38080" y="607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8585C3D1-001A-475D-BACD-C0C6FC51A252}" type="slidenum">
              <a:t>2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34"/>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358"/>
                                        </p:tgtEl>
                                        <p:attrNameLst>
                                          <p:attrName>style.visibility</p:attrName>
                                        </p:attrNameLst>
                                      </p:cBhvr>
                                      <p:to>
                                        <p:strVal val="visible"/>
                                      </p:to>
                                    </p:set>
                                    <p:anim calcmode="lin" valueType="num">
                                      <p:cBhvr additive="base">
                                        <p:cTn id="20" dur="1000" fill="hold"/>
                                        <p:tgtEl>
                                          <p:spTgt spid="358"/>
                                        </p:tgtEl>
                                        <p:attrNameLst>
                                          <p:attrName>ppt_x</p:attrName>
                                        </p:attrNameLst>
                                      </p:cBhvr>
                                      <p:tavLst>
                                        <p:tav tm="0">
                                          <p:val>
                                            <p:strVal val="#ppt_x"/>
                                          </p:val>
                                        </p:tav>
                                        <p:tav tm="100000">
                                          <p:val>
                                            <p:strVal val="#ppt_x"/>
                                          </p:val>
                                        </p:tav>
                                      </p:tavLst>
                                    </p:anim>
                                    <p:anim calcmode="lin" valueType="num">
                                      <p:cBhvr additive="base">
                                        <p:cTn id="21"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35"/>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357"/>
                                        </p:tgtEl>
                                        <p:attrNameLst>
                                          <p:attrName>style.visibility</p:attrName>
                                        </p:attrNameLst>
                                      </p:cBhvr>
                                      <p:to>
                                        <p:strVal val="visible"/>
                                      </p:to>
                                    </p:set>
                                    <p:anim calcmode="lin" valueType="num">
                                      <p:cBhvr additive="base">
                                        <p:cTn id="29" dur="1000" fill="hold"/>
                                        <p:tgtEl>
                                          <p:spTgt spid="357"/>
                                        </p:tgtEl>
                                        <p:attrNameLst>
                                          <p:attrName>ppt_x</p:attrName>
                                        </p:attrNameLst>
                                      </p:cBhvr>
                                      <p:tavLst>
                                        <p:tav tm="0">
                                          <p:val>
                                            <p:strVal val="#ppt_x"/>
                                          </p:val>
                                        </p:tav>
                                        <p:tav tm="100000">
                                          <p:val>
                                            <p:strVal val="#ppt_x"/>
                                          </p:val>
                                        </p:tav>
                                      </p:tavLst>
                                    </p:anim>
                                    <p:anim calcmode="lin" valueType="num">
                                      <p:cBhvr additive="base">
                                        <p:cTn id="3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6"/>
                                        </p:tgtEl>
                                        <p:attrNameLst>
                                          <p:attrName>style.visibility</p:attrName>
                                        </p:attrNameLst>
                                      </p:cBhvr>
                                      <p:to>
                                        <p:strVal val="visible"/>
                                      </p:to>
                                    </p:set>
                                  </p:childTnLst>
                                </p:cTn>
                              </p:par>
                            </p:childTnLst>
                          </p:cTn>
                        </p:par>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349"/>
                                        </p:tgtEl>
                                        <p:attrNameLst>
                                          <p:attrName>style.visibility</p:attrName>
                                        </p:attrNameLst>
                                      </p:cBhvr>
                                      <p:to>
                                        <p:strVal val="visible"/>
                                      </p:to>
                                    </p:set>
                                    <p:anim calcmode="lin" valueType="num">
                                      <p:cBhvr additive="base">
                                        <p:cTn id="38" dur="1000" fill="hold"/>
                                        <p:tgtEl>
                                          <p:spTgt spid="349"/>
                                        </p:tgtEl>
                                        <p:attrNameLst>
                                          <p:attrName>ppt_x</p:attrName>
                                        </p:attrNameLst>
                                      </p:cBhvr>
                                      <p:tavLst>
                                        <p:tav tm="0">
                                          <p:val>
                                            <p:strVal val="#ppt_x"/>
                                          </p:val>
                                        </p:tav>
                                        <p:tav tm="100000">
                                          <p:val>
                                            <p:strVal val="#ppt_x"/>
                                          </p:val>
                                        </p:tav>
                                      </p:tavLst>
                                    </p:anim>
                                    <p:anim calcmode="lin" valueType="num">
                                      <p:cBhvr additive="base">
                                        <p:cTn id="39" dur="10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7"/>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1000" fill="hold"/>
                                        <p:tgtEl>
                                          <p:spTgt spid="348"/>
                                        </p:tgtEl>
                                        <p:attrNameLst>
                                          <p:attrName>ppt_x</p:attrName>
                                        </p:attrNameLst>
                                      </p:cBhvr>
                                      <p:tavLst>
                                        <p:tav tm="0">
                                          <p:val>
                                            <p:strVal val="#ppt_x"/>
                                          </p:val>
                                        </p:tav>
                                        <p:tav tm="100000">
                                          <p:val>
                                            <p:strVal val="#ppt_x"/>
                                          </p:val>
                                        </p:tav>
                                      </p:tavLst>
                                    </p:anim>
                                    <p:anim calcmode="lin" valueType="num">
                                      <p:cBhvr additive="base">
                                        <p:cTn id="48" dur="1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676520" y="609480"/>
            <a:ext cx="1371600" cy="45972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cxnSp>
        <p:nvCxnSpPr>
          <p:cNvPr id="368" name="AutoShape 3"/>
          <p:cNvCxnSpPr>
            <a:stCxn id="369" idx="0"/>
          </p:cNvCxnSpPr>
          <p:nvPr/>
        </p:nvCxnSpPr>
        <p:spPr>
          <a:xfrm flipH="1" rot="16200000">
            <a:off x="589680" y="1257120"/>
            <a:ext cx="2705760" cy="1905480"/>
          </a:xfrm>
          <a:prstGeom prst="bentConnector3">
            <a:avLst>
              <a:gd name="adj1" fmla="val 100931"/>
            </a:avLst>
          </a:prstGeom>
          <a:ln w="38160">
            <a:solidFill>
              <a:srgbClr val="000000"/>
            </a:solidFill>
            <a:miter/>
          </a:ln>
        </p:spPr>
      </p:cxnSp>
      <p:sp>
        <p:nvSpPr>
          <p:cNvPr id="370" name="PlaceHolder 1"/>
          <p:cNvSpPr>
            <a:spLocks noGrp="1"/>
          </p:cNvSpPr>
          <p:nvPr>
            <p:ph type="title"/>
          </p:nvPr>
        </p:nvSpPr>
        <p:spPr>
          <a:xfrm>
            <a:off x="6172200" y="4648320"/>
            <a:ext cx="262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3</a:t>
            </a:r>
            <a:endParaRPr b="0" lang="en-US" sz="4000" spc="-1" strike="noStrike">
              <a:solidFill>
                <a:srgbClr val="000000"/>
              </a:solidFill>
              <a:latin typeface="Arial"/>
            </a:endParaRPr>
          </a:p>
        </p:txBody>
      </p:sp>
      <p:sp>
        <p:nvSpPr>
          <p:cNvPr id="371" name="Text Box 9"/>
          <p:cNvSpPr/>
          <p:nvPr/>
        </p:nvSpPr>
        <p:spPr>
          <a:xfrm>
            <a:off x="501480" y="51055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72" name="Text Box 11"/>
          <p:cNvSpPr/>
          <p:nvPr/>
        </p:nvSpPr>
        <p:spPr>
          <a:xfrm>
            <a:off x="3751920" y="1066680"/>
            <a:ext cx="1537200" cy="459720"/>
          </a:xfrm>
          <a:prstGeom prst="rect">
            <a:avLst/>
          </a:prstGeom>
          <a:noFill/>
          <a:ln w="3492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73" name="Text Box 12"/>
          <p:cNvSpPr/>
          <p:nvPr/>
        </p:nvSpPr>
        <p:spPr>
          <a:xfrm>
            <a:off x="3596760" y="1676520"/>
            <a:ext cx="1878480" cy="459720"/>
          </a:xfrm>
          <a:prstGeom prst="rect">
            <a:avLst/>
          </a:prstGeom>
          <a:noFill/>
          <a:ln w="3492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74" name="Text Box 13"/>
          <p:cNvSpPr/>
          <p:nvPr/>
        </p:nvSpPr>
        <p:spPr>
          <a:xfrm>
            <a:off x="3749760" y="2286000"/>
            <a:ext cx="1589040" cy="45972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sp>
        <p:nvSpPr>
          <p:cNvPr id="375" name="Text Box 14"/>
          <p:cNvSpPr/>
          <p:nvPr/>
        </p:nvSpPr>
        <p:spPr>
          <a:xfrm>
            <a:off x="3524040" y="3048120"/>
            <a:ext cx="1299240" cy="459720"/>
          </a:xfrm>
          <a:prstGeom prst="rect">
            <a:avLst/>
          </a:prstGeom>
          <a:noFill/>
          <a:ln w="3492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rsonne</a:t>
            </a:r>
            <a:endParaRPr b="0" lang="en-US" sz="2400" spc="-1" strike="noStrike">
              <a:solidFill>
                <a:srgbClr val="000000"/>
              </a:solidFill>
              <a:latin typeface="Arial"/>
            </a:endParaRPr>
          </a:p>
        </p:txBody>
      </p:sp>
      <p:sp>
        <p:nvSpPr>
          <p:cNvPr id="376" name="Text Box 15"/>
          <p:cNvSpPr/>
          <p:nvPr/>
        </p:nvSpPr>
        <p:spPr>
          <a:xfrm>
            <a:off x="3980160" y="3581280"/>
            <a:ext cx="1520280" cy="459720"/>
          </a:xfrm>
          <a:prstGeom prst="rect">
            <a:avLst/>
          </a:prstGeom>
          <a:noFill/>
          <a:ln w="3492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rganisme</a:t>
            </a:r>
            <a:endParaRPr b="0" lang="en-US" sz="2400" spc="-1" strike="noStrike">
              <a:solidFill>
                <a:srgbClr val="000000"/>
              </a:solidFill>
              <a:latin typeface="Arial"/>
            </a:endParaRPr>
          </a:p>
        </p:txBody>
      </p:sp>
      <p:sp>
        <p:nvSpPr>
          <p:cNvPr id="377" name="Rectangle 16"/>
          <p:cNvSpPr/>
          <p:nvPr/>
        </p:nvSpPr>
        <p:spPr>
          <a:xfrm>
            <a:off x="3352680" y="2971800"/>
            <a:ext cx="2819520" cy="1143000"/>
          </a:xfrm>
          <a:prstGeom prst="rect">
            <a:avLst/>
          </a:prstGeom>
          <a:noFill/>
          <a:ln w="349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7"/>
          <p:cNvSpPr/>
          <p:nvPr/>
        </p:nvSpPr>
        <p:spPr>
          <a:xfrm>
            <a:off x="4009680" y="457200"/>
            <a:ext cx="1078200" cy="45972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79" name="Rectangle 18"/>
          <p:cNvSpPr/>
          <p:nvPr/>
        </p:nvSpPr>
        <p:spPr>
          <a:xfrm>
            <a:off x="3352680" y="380880"/>
            <a:ext cx="2819520" cy="251460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9"/>
          <p:cNvSpPr/>
          <p:nvPr/>
        </p:nvSpPr>
        <p:spPr>
          <a:xfrm>
            <a:off x="3827880" y="4308480"/>
            <a:ext cx="119736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cept</a:t>
            </a:r>
            <a:endParaRPr b="0" lang="en-US" sz="2400" spc="-1" strike="noStrike">
              <a:solidFill>
                <a:srgbClr val="000000"/>
              </a:solidFill>
              <a:latin typeface="Arial"/>
            </a:endParaRPr>
          </a:p>
        </p:txBody>
      </p:sp>
      <p:sp>
        <p:nvSpPr>
          <p:cNvPr id="381" name="Text Box 20"/>
          <p:cNvSpPr/>
          <p:nvPr/>
        </p:nvSpPr>
        <p:spPr>
          <a:xfrm>
            <a:off x="3903840" y="4842000"/>
            <a:ext cx="99468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bject</a:t>
            </a:r>
            <a:endParaRPr b="0" lang="en-US" sz="2400" spc="-1" strike="noStrike">
              <a:solidFill>
                <a:srgbClr val="000000"/>
              </a:solidFill>
              <a:latin typeface="Arial"/>
            </a:endParaRPr>
          </a:p>
        </p:txBody>
      </p:sp>
      <p:sp>
        <p:nvSpPr>
          <p:cNvPr id="382" name="Text Box 21"/>
          <p:cNvSpPr/>
          <p:nvPr/>
        </p:nvSpPr>
        <p:spPr>
          <a:xfrm>
            <a:off x="3657600" y="5334120"/>
            <a:ext cx="158760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Événement</a:t>
            </a:r>
            <a:endParaRPr b="0" lang="en-US" sz="2400" spc="-1" strike="noStrike">
              <a:solidFill>
                <a:srgbClr val="000000"/>
              </a:solidFill>
              <a:latin typeface="Arial"/>
            </a:endParaRPr>
          </a:p>
        </p:txBody>
      </p:sp>
      <p:sp>
        <p:nvSpPr>
          <p:cNvPr id="383" name="Text Box 22"/>
          <p:cNvSpPr/>
          <p:nvPr/>
        </p:nvSpPr>
        <p:spPr>
          <a:xfrm>
            <a:off x="4114800" y="5943600"/>
            <a:ext cx="67464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eu</a:t>
            </a:r>
            <a:endParaRPr b="0" lang="en-US" sz="2400" spc="-1" strike="noStrike">
              <a:solidFill>
                <a:srgbClr val="000000"/>
              </a:solidFill>
              <a:latin typeface="Arial"/>
            </a:endParaRPr>
          </a:p>
        </p:txBody>
      </p:sp>
      <p:sp>
        <p:nvSpPr>
          <p:cNvPr id="384" name="Rectangle 23"/>
          <p:cNvSpPr/>
          <p:nvPr/>
        </p:nvSpPr>
        <p:spPr>
          <a:xfrm>
            <a:off x="3352680" y="4191120"/>
            <a:ext cx="2286000" cy="2361960"/>
          </a:xfrm>
          <a:prstGeom prst="rect">
            <a:avLst/>
          </a:prstGeom>
          <a:noFill/>
          <a:ln w="3492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4"/>
          <p:cNvSpPr/>
          <p:nvPr/>
        </p:nvSpPr>
        <p:spPr>
          <a:xfrm>
            <a:off x="988920" y="312408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86" name="Text Box 25"/>
          <p:cNvSpPr/>
          <p:nvPr/>
        </p:nvSpPr>
        <p:spPr>
          <a:xfrm>
            <a:off x="1263600" y="12193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cxnSp>
        <p:nvCxnSpPr>
          <p:cNvPr id="387" name="AutoShape 26"/>
          <p:cNvCxnSpPr/>
          <p:nvPr/>
        </p:nvCxnSpPr>
        <p:spPr>
          <a:xfrm flipH="1" flipV="1" rot="10800000">
            <a:off x="1675440" y="685440"/>
            <a:ext cx="1600920" cy="4821840"/>
          </a:xfrm>
          <a:prstGeom prst="bentConnector3">
            <a:avLst>
              <a:gd name="adj1" fmla="val -71614"/>
            </a:avLst>
          </a:prstGeom>
          <a:ln w="38160">
            <a:solidFill>
              <a:srgbClr val="000000"/>
            </a:solidFill>
            <a:miter/>
            <a:headEnd len="med" type="arrow" w="med"/>
          </a:ln>
        </p:spPr>
      </p:cxnSp>
      <p:sp>
        <p:nvSpPr>
          <p:cNvPr id="388" name="Line 27"/>
          <p:cNvSpPr/>
          <p:nvPr/>
        </p:nvSpPr>
        <p:spPr>
          <a:xfrm>
            <a:off x="1371600" y="685800"/>
            <a:ext cx="1522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9" name="Group 32"/>
          <p:cNvGrpSpPr/>
          <p:nvPr/>
        </p:nvGrpSpPr>
        <p:grpSpPr>
          <a:xfrm>
            <a:off x="990720" y="912960"/>
            <a:ext cx="685440" cy="0"/>
            <a:chOff x="990720" y="912960"/>
            <a:chExt cx="685440" cy="0"/>
          </a:xfrm>
        </p:grpSpPr>
        <p:sp>
          <p:nvSpPr>
            <p:cNvPr id="390" name="Line 33"/>
            <p:cNvSpPr/>
            <p:nvPr/>
          </p:nvSpPr>
          <p:spPr>
            <a:xfrm>
              <a:off x="990720" y="912960"/>
              <a:ext cx="685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4"/>
            <p:cNvSpPr/>
            <p:nvPr/>
          </p:nvSpPr>
          <p:spPr>
            <a:xfrm>
              <a:off x="990720" y="912960"/>
              <a:ext cx="4111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 name="Group 36"/>
          <p:cNvGrpSpPr/>
          <p:nvPr/>
        </p:nvGrpSpPr>
        <p:grpSpPr>
          <a:xfrm>
            <a:off x="2819520" y="1752480"/>
            <a:ext cx="456840" cy="0"/>
            <a:chOff x="2819520" y="1752480"/>
            <a:chExt cx="456840" cy="0"/>
          </a:xfrm>
        </p:grpSpPr>
        <p:sp>
          <p:nvSpPr>
            <p:cNvPr id="393" name="Line 37"/>
            <p:cNvSpPr/>
            <p:nvPr/>
          </p:nvSpPr>
          <p:spPr>
            <a:xfrm>
              <a:off x="2819520" y="1752480"/>
              <a:ext cx="4568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8"/>
            <p:cNvSpPr/>
            <p:nvPr/>
          </p:nvSpPr>
          <p:spPr>
            <a:xfrm>
              <a:off x="2819520" y="1752480"/>
              <a:ext cx="274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5" name="Group 39"/>
          <p:cNvGrpSpPr/>
          <p:nvPr/>
        </p:nvGrpSpPr>
        <p:grpSpPr>
          <a:xfrm>
            <a:off x="1295280" y="990720"/>
            <a:ext cx="380880" cy="0"/>
            <a:chOff x="1295280" y="990720"/>
            <a:chExt cx="380880" cy="0"/>
          </a:xfrm>
        </p:grpSpPr>
        <p:sp>
          <p:nvSpPr>
            <p:cNvPr id="396" name="Line 40"/>
            <p:cNvSpPr/>
            <p:nvPr/>
          </p:nvSpPr>
          <p:spPr>
            <a:xfrm>
              <a:off x="1295280" y="9907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1"/>
            <p:cNvSpPr/>
            <p:nvPr/>
          </p:nvSpPr>
          <p:spPr>
            <a:xfrm>
              <a:off x="1295280" y="9907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398" name="AutoShape 42"/>
          <p:cNvCxnSpPr>
            <a:stCxn id="397" idx="0"/>
            <a:endCxn id="394" idx="0"/>
          </p:cNvCxnSpPr>
          <p:nvPr/>
        </p:nvCxnSpPr>
        <p:spPr>
          <a:xfrm flipH="1" rot="16200000">
            <a:off x="1676520" y="590040"/>
            <a:ext cx="762480" cy="1524960"/>
          </a:xfrm>
          <a:prstGeom prst="bentConnector3">
            <a:avLst>
              <a:gd name="adj1" fmla="val 139962"/>
            </a:avLst>
          </a:prstGeom>
          <a:ln w="38160">
            <a:solidFill>
              <a:srgbClr val="000000"/>
            </a:solidFill>
            <a:miter/>
          </a:ln>
        </p:spPr>
      </p:cxnSp>
      <p:sp>
        <p:nvSpPr>
          <p:cNvPr id="399" name="Text Box 14"/>
          <p:cNvSpPr/>
          <p:nvPr/>
        </p:nvSpPr>
        <p:spPr>
          <a:xfrm>
            <a:off x="4969440" y="3048120"/>
            <a:ext cx="1114920" cy="459720"/>
          </a:xfrm>
          <a:prstGeom prst="rect">
            <a:avLst/>
          </a:prstGeom>
          <a:noFill/>
          <a:ln w="34920">
            <a:solidFill>
              <a:srgbClr val="99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mille</a:t>
            </a:r>
            <a:endParaRPr b="0" lang="en-US" sz="2400" spc="-1" strike="noStrike">
              <a:solidFill>
                <a:srgbClr val="000000"/>
              </a:solidFill>
              <a:latin typeface="Arial"/>
            </a:endParaRPr>
          </a:p>
        </p:txBody>
      </p:sp>
      <p:grpSp>
        <p:nvGrpSpPr>
          <p:cNvPr id="400" name="Group 39"/>
          <p:cNvGrpSpPr/>
          <p:nvPr/>
        </p:nvGrpSpPr>
        <p:grpSpPr>
          <a:xfrm>
            <a:off x="1447920" y="1143000"/>
            <a:ext cx="380880" cy="0"/>
            <a:chOff x="1447920" y="1143000"/>
            <a:chExt cx="380880" cy="0"/>
          </a:xfrm>
        </p:grpSpPr>
        <p:sp>
          <p:nvSpPr>
            <p:cNvPr id="401" name="Line 40"/>
            <p:cNvSpPr/>
            <p:nvPr/>
          </p:nvSpPr>
          <p:spPr>
            <a:xfrm>
              <a:off x="1447920" y="114300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1"/>
            <p:cNvSpPr/>
            <p:nvPr/>
          </p:nvSpPr>
          <p:spPr>
            <a:xfrm>
              <a:off x="1447920" y="11430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403" name="Straight Arrow Connector 57"/>
          <p:cNvCxnSpPr>
            <a:endCxn id="367" idx="1"/>
          </p:cNvCxnSpPr>
          <p:nvPr/>
        </p:nvCxnSpPr>
        <p:spPr>
          <a:xfrm flipV="1">
            <a:off x="972720" y="855360"/>
            <a:ext cx="686520" cy="18000"/>
          </a:xfrm>
          <a:prstGeom prst="straightConnector1">
            <a:avLst/>
          </a:prstGeom>
          <a:ln w="25560">
            <a:solidFill>
              <a:srgbClr val="000000"/>
            </a:solidFill>
            <a:miter/>
            <a:tailEnd len="med" type="triangle" w="med"/>
          </a:ln>
        </p:spPr>
      </p:cxnSp>
      <p:cxnSp>
        <p:nvCxnSpPr>
          <p:cNvPr id="404" name="Straight Arrow Connector 59"/>
          <p:cNvCxnSpPr/>
          <p:nvPr/>
        </p:nvCxnSpPr>
        <p:spPr>
          <a:xfrm>
            <a:off x="990360" y="856800"/>
            <a:ext cx="533880" cy="2520"/>
          </a:xfrm>
          <a:prstGeom prst="straightConnector1">
            <a:avLst/>
          </a:prstGeom>
          <a:ln w="25560">
            <a:solidFill>
              <a:srgbClr val="000000"/>
            </a:solidFill>
            <a:miter/>
            <a:tailEnd len="med" type="triangle" w="med"/>
          </a:ln>
        </p:spPr>
      </p:cxnSp>
      <p:grpSp>
        <p:nvGrpSpPr>
          <p:cNvPr id="405" name="Group 6"/>
          <p:cNvGrpSpPr/>
          <p:nvPr/>
        </p:nvGrpSpPr>
        <p:grpSpPr>
          <a:xfrm>
            <a:off x="2895480" y="5486400"/>
            <a:ext cx="380880" cy="0"/>
            <a:chOff x="2895480" y="5486400"/>
            <a:chExt cx="380880" cy="0"/>
          </a:xfrm>
        </p:grpSpPr>
        <p:sp>
          <p:nvSpPr>
            <p:cNvPr id="406" name="Line 7"/>
            <p:cNvSpPr/>
            <p:nvPr/>
          </p:nvSpPr>
          <p:spPr>
            <a:xfrm>
              <a:off x="2895480" y="548640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2895480" y="548640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 name="Group 6"/>
          <p:cNvGrpSpPr/>
          <p:nvPr/>
        </p:nvGrpSpPr>
        <p:grpSpPr>
          <a:xfrm>
            <a:off x="2819520" y="3581280"/>
            <a:ext cx="380880" cy="0"/>
            <a:chOff x="2819520" y="3581280"/>
            <a:chExt cx="380880" cy="0"/>
          </a:xfrm>
        </p:grpSpPr>
        <p:sp>
          <p:nvSpPr>
            <p:cNvPr id="409" name="Line 7"/>
            <p:cNvSpPr/>
            <p:nvPr/>
          </p:nvSpPr>
          <p:spPr>
            <a:xfrm>
              <a:off x="2819520" y="358128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2819520" y="358128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28600" y="62485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5BB8D946-4CC2-4EB7-8E57-643782957127}"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8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En quoi avons-nous besoin de FRBR?</a:t>
            </a:r>
            <a:endParaRPr b="1" lang="en-US" sz="2800" spc="-1" strike="noStrike">
              <a:solidFill>
                <a:srgbClr val="4d4d4d"/>
              </a:solidFill>
              <a:latin typeface="Arial Narrow"/>
            </a:endParaRPr>
          </a:p>
        </p:txBody>
      </p:sp>
      <p:sp>
        <p:nvSpPr>
          <p:cNvPr id="413" name="PlaceHolder 2"/>
          <p:cNvSpPr>
            <a:spLocks noGrp="1"/>
          </p:cNvSpPr>
          <p:nvPr>
            <p:ph/>
          </p:nvPr>
        </p:nvSpPr>
        <p:spPr>
          <a:xfrm>
            <a:off x="914400" y="2209320"/>
            <a:ext cx="7315200" cy="135324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clarifier les concep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innombrables de regroupemen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de réutilisation de l’information</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F369402-9FEB-40CA-A59E-6D35D66392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333360"/>
            <a:ext cx="9144000" cy="6191280"/>
          </a:xfrm>
          <a:prstGeom prst="rect">
            <a:avLst/>
          </a:prstGeom>
          <a:ln w="0">
            <a:noFill/>
          </a:ln>
        </p:spPr>
      </p:pic>
      <p:sp>
        <p:nvSpPr>
          <p:cNvPr id="415" name=""/>
          <p:cNvSpPr/>
          <p:nvPr/>
        </p:nvSpPr>
        <p:spPr>
          <a:xfrm>
            <a:off x="380880" y="5715000"/>
            <a:ext cx="22100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Christine Oliver et Daniel Paradis. 2008</a:t>
            </a:r>
            <a:endParaRPr b="0" lang="en-US" sz="1000" spc="-1" strike="noStrike">
              <a:solidFill>
                <a:srgbClr val="000000"/>
              </a:solidFill>
              <a:latin typeface="Arial"/>
            </a:endParaRPr>
          </a:p>
        </p:txBody>
      </p:sp>
      <p:sp>
        <p:nvSpPr>
          <p:cNvPr id="2" name="PlaceHolder 1"/>
          <p:cNvSpPr>
            <a:spLocks noGrp="1"/>
          </p:cNvSpPr>
          <p:nvPr>
            <p:ph type="ftr" idx="1"/>
          </p:nvPr>
        </p:nvSpPr>
        <p:spPr/>
        <p:txBody>
          <a:bodyPr/>
          <a:p>
            <a:r>
              <a:t>Bibliothèque de l'Université Laval</a:t>
            </a:r>
          </a:p>
        </p:txBody>
      </p:sp>
      <p:sp>
        <p:nvSpPr>
          <p:cNvPr id="3" name="PlaceHolder 2"/>
          <p:cNvSpPr>
            <a:spLocks noGrp="1"/>
          </p:cNvSpPr>
          <p:nvPr>
            <p:ph type="sldNum" idx="2"/>
          </p:nvPr>
        </p:nvSpPr>
        <p:spPr/>
        <p:txBody>
          <a:bodyPr/>
          <a:p>
            <a:fld id="{DD9DCA1E-6B20-4EAB-93C6-F2CCCD482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143000" y="2437920"/>
            <a:ext cx="3581280" cy="245160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s ne mouraient pas tous, mais tous étaient frappés»</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Les animaux malades de la peste</a:t>
            </a: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Par Jean de La Fontaine</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pic>
        <p:nvPicPr>
          <p:cNvPr id="260" name="" descr=""/>
          <p:cNvPicPr/>
          <p:nvPr/>
        </p:nvPicPr>
        <p:blipFill>
          <a:blip r:embed="rId1"/>
          <a:stretch/>
        </p:blipFill>
        <p:spPr>
          <a:xfrm>
            <a:off x="5181480" y="2438280"/>
            <a:ext cx="2895840" cy="2133720"/>
          </a:xfrm>
          <a:prstGeom prst="rect">
            <a:avLst/>
          </a:prstGeom>
          <a:ln w="0">
            <a:noFill/>
          </a:ln>
        </p:spPr>
      </p:pic>
      <p:sp>
        <p:nvSpPr>
          <p:cNvPr id="261"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Bibliothèque de l'Université Laval</a:t>
            </a:r>
          </a:p>
        </p:txBody>
      </p:sp>
      <p:sp>
        <p:nvSpPr>
          <p:cNvPr id="4" name="PlaceHolder 3"/>
          <p:cNvSpPr>
            <a:spLocks noGrp="1"/>
          </p:cNvSpPr>
          <p:nvPr>
            <p:ph type="sldNum" idx="4"/>
          </p:nvPr>
        </p:nvSpPr>
        <p:spPr/>
        <p:txBody>
          <a:bodyPr/>
          <a:p>
            <a:fld id="{0EAD7BD4-AD20-4BAD-8F90-ABE3885D96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7" name="PlaceHolder 2"/>
          <p:cNvSpPr>
            <a:spLocks noGrp="1"/>
          </p:cNvSpPr>
          <p:nvPr>
            <p:ph/>
          </p:nvPr>
        </p:nvSpPr>
        <p:spPr>
          <a:xfrm>
            <a:off x="914400" y="1447920"/>
            <a:ext cx="7315200" cy="437256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ournit des directives fondées sur des princip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une structure logique, extensible et flexible pour la description de tous les types de ressources et tous les types de conten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oduit des notices capables de répondre aux besoins des usager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patible avec les principes, normes et modèles établis au plan internationa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e à supprimer le biais religieux et culture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ie sur le jugement des catalogueur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E327482-0AD4-4EF0-BDBC-9627B1D046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9"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tilisable par d’autres communautés que celles des bibliothè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cile d’utilisation et efficac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onnées RDA compatibles avec les données RCAA2</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F636C4D-522B-4776-9F3F-DFA0CCF0B9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1" name="PlaceHolder 2"/>
          <p:cNvSpPr>
            <a:spLocks noGrp="1"/>
          </p:cNvSpPr>
          <p:nvPr>
            <p:ph/>
          </p:nvPr>
        </p:nvSpPr>
        <p:spPr>
          <a:xfrm>
            <a:off x="914400" y="1447920"/>
            <a:ext cx="7315200" cy="413208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est un document Web conçu pour être utilisé en ligne  </a:t>
            </a:r>
            <a:r>
              <a:rPr b="0" lang="fr-CA" sz="2000" spc="-1" strike="noStrike">
                <a:solidFill>
                  <a:srgbClr val="777777"/>
                </a:solidFill>
                <a:latin typeface="Arial Narrow"/>
              </a:rPr>
              <a:t>http://www.rdaonline.org/</a:t>
            </a:r>
            <a:endParaRPr b="1" lang="en-US" sz="2000" spc="-1" strike="noStrike">
              <a:solidFill>
                <a:srgbClr val="777777"/>
              </a:solidFill>
              <a:latin typeface="Arial Narrow"/>
            </a:endParaRPr>
          </a:p>
          <a:p>
            <a:pPr lvl="1" marL="627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version papier ne sera dispon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décrire tout type de document dans différents mil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u de différence dans les directives mais vocabulaire mis à jour</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22" name="" descr=""/>
          <p:cNvPicPr/>
          <p:nvPr/>
        </p:nvPicPr>
        <p:blipFill>
          <a:blip r:embed="rId1"/>
          <a:stretch/>
        </p:blipFill>
        <p:spPr>
          <a:xfrm>
            <a:off x="5867280" y="2362320"/>
            <a:ext cx="1371600" cy="685800"/>
          </a:xfrm>
          <a:prstGeom prst="rect">
            <a:avLst/>
          </a:prstGeom>
          <a:ln w="0">
            <a:noFill/>
          </a:ln>
        </p:spPr>
      </p:pic>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0CE666D-37ED-4C77-9AB7-88E749F25A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4" name="PlaceHolder 2"/>
          <p:cNvSpPr>
            <a:spLocks noGrp="1"/>
          </p:cNvSpPr>
          <p:nvPr>
            <p:ph/>
          </p:nvPr>
        </p:nvSpPr>
        <p:spPr>
          <a:xfrm>
            <a:off x="914400" y="2209680"/>
            <a:ext cx="7315200" cy="4003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distingue la description de la prése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a une plus grande conscience des usage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multipliant les points d’accè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abandonnant la majorité des abréviation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structu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vocabulai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ans la description</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00FCBF5-2D5E-43D0-903A-309518A69C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315200" cy="933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CAA2</a:t>
            </a:r>
            <a:br>
              <a:rPr sz="2800"/>
            </a:br>
            <a:endParaRPr b="1" lang="en-US" sz="2800" spc="-1" strike="noStrike">
              <a:solidFill>
                <a:srgbClr val="4d4d4d"/>
              </a:solidFill>
              <a:latin typeface="Arial Narrow"/>
            </a:endParaRPr>
          </a:p>
        </p:txBody>
      </p:sp>
      <p:pic>
        <p:nvPicPr>
          <p:cNvPr id="426" name="" descr=""/>
          <p:cNvPicPr/>
          <p:nvPr/>
        </p:nvPicPr>
        <p:blipFill>
          <a:blip r:embed="rId1"/>
          <a:stretch/>
        </p:blipFill>
        <p:spPr>
          <a:xfrm>
            <a:off x="533520" y="1523880"/>
            <a:ext cx="8153280" cy="464832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6B599287-2ED2-45B8-866F-356728C8FF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83772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DA</a:t>
            </a:r>
            <a:endParaRPr b="1" lang="en-US" sz="2800" spc="-1" strike="noStrike">
              <a:solidFill>
                <a:srgbClr val="4d4d4d"/>
              </a:solidFill>
              <a:latin typeface="Arial Narrow"/>
            </a:endParaRPr>
          </a:p>
        </p:txBody>
      </p:sp>
      <p:pic>
        <p:nvPicPr>
          <p:cNvPr id="428" name="" descr=""/>
          <p:cNvPicPr/>
          <p:nvPr/>
        </p:nvPicPr>
        <p:blipFill>
          <a:blip r:embed="rId1"/>
          <a:stretch/>
        </p:blipFill>
        <p:spPr>
          <a:xfrm>
            <a:off x="457200" y="1371600"/>
            <a:ext cx="8305920" cy="4890960"/>
          </a:xfrm>
          <a:prstGeom prst="rect">
            <a:avLst/>
          </a:prstGeom>
          <a:ln w="0">
            <a:noFill/>
          </a:ln>
        </p:spPr>
      </p:pic>
      <p:sp>
        <p:nvSpPr>
          <p:cNvPr id="429" name=""/>
          <p:cNvSpPr/>
          <p:nvPr/>
        </p:nvSpPr>
        <p:spPr>
          <a:xfrm>
            <a:off x="533520" y="5638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Ces éléments seront ajoutés plus tard</a:t>
            </a:r>
            <a:endParaRPr b="0" lang="en-US" sz="1800" spc="-1" strike="noStrike">
              <a:solidFill>
                <a:srgbClr val="000000"/>
              </a:solidFill>
              <a:latin typeface="Arial"/>
            </a:endParaRPr>
          </a:p>
        </p:txBody>
      </p:sp>
      <p:sp>
        <p:nvSpPr>
          <p:cNvPr id="430" name=""/>
          <p:cNvSpPr/>
          <p:nvPr/>
        </p:nvSpPr>
        <p:spPr>
          <a:xfrm>
            <a:off x="533520" y="5029200"/>
            <a:ext cx="3124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1F0B23B7-E12C-46AA-8B8B-34E34C0718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2" name="PlaceHolder 2"/>
          <p:cNvSpPr>
            <a:spLocks noGrp="1"/>
          </p:cNvSpPr>
          <p:nvPr>
            <p:ph/>
          </p:nvPr>
        </p:nvSpPr>
        <p:spPr>
          <a:xfrm>
            <a:off x="914400" y="1523520"/>
            <a:ext cx="7315200" cy="378324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Adoption du vocabulaire issu de FRBR</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tem ou exempla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ttributs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lation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849FBBC-E01B-4C0A-8431-4FA7C2A8E5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4" name="PlaceHolder 2"/>
          <p:cNvSpPr>
            <a:spLocks noGrp="1"/>
          </p:cNvSpPr>
          <p:nvPr>
            <p:ph/>
          </p:nvPr>
        </p:nvSpPr>
        <p:spPr>
          <a:xfrm>
            <a:off x="91440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CAA2</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Auteur, composi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cueil</a:t>
            </a:r>
            <a:r>
              <a:rPr b="0" lang="fr-CA" sz="2000" spc="-1" strike="noStrike">
                <a:solidFill>
                  <a:srgbClr val="4d4d4d"/>
                </a:solidFill>
                <a:latin typeface="Arial Narrow"/>
              </a:rPr>
              <a:t>	</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nvoi</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uniform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princip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secondaire</a:t>
            </a:r>
            <a:endParaRPr b="0" lang="en-US" sz="2000" spc="-1" strike="noStrike">
              <a:solidFill>
                <a:srgbClr val="4d4d4d"/>
              </a:solidFill>
              <a:latin typeface="Arial Narrow"/>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435" name="PlaceHolder 3"/>
          <p:cNvSpPr>
            <a:spLocks noGrp="1"/>
          </p:cNvSpPr>
          <p:nvPr>
            <p:ph/>
          </p:nvPr>
        </p:nvSpPr>
        <p:spPr>
          <a:xfrm>
            <a:off x="464832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DA</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ompilation</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ariante du 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privilégi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préfér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a:t>
            </a:r>
            <a:endParaRPr b="0" lang="en-US" sz="2000" spc="-1" strike="noStrike">
              <a:solidFill>
                <a:srgbClr val="4d4d4d"/>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9910F00B-5933-4D32-B0E4-ADAFE4550C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7" name="PlaceHolder 2"/>
          <p:cNvSpPr>
            <a:spLocks noGrp="1"/>
          </p:cNvSpPr>
          <p:nvPr>
            <p:ph/>
          </p:nvPr>
        </p:nvSpPr>
        <p:spPr>
          <a:xfrm>
            <a:off x="914400" y="1523880"/>
            <a:ext cx="7315200" cy="3368880"/>
          </a:xfrm>
          <a:prstGeom prst="rect">
            <a:avLst/>
          </a:prstGeom>
          <a:noFill/>
          <a:ln w="0">
            <a:noFill/>
          </a:ln>
        </p:spPr>
        <p:txBody>
          <a:bodyPr lIns="0" rIns="0" tIns="0" bIns="0" anchor="t">
            <a:normAutofit/>
          </a:bodyPr>
          <a:p>
            <a:pPr marL="177840" indent="-177840">
              <a:spcBef>
                <a:spcPts val="575"/>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777777"/>
                </a:solidFill>
                <a:latin typeface="Arial Narrow"/>
              </a:rPr>
              <a:t>Source principale d’information par catégorie de ressources</a:t>
            </a:r>
            <a:endParaRPr b="1" lang="en-US" sz="23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éments de base obligatoire au lieu d’une description minimale</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argissement des règles demandant une nouvelle descrip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 l’indication générale de type de document</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imitation des abréviations utilisées à celles présentes dans la source d’informa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s abréviations latin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Inscription des inexactitudes telles que vues</a:t>
            </a: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1F96C20-1AD4-4E01-84A6-917A977124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9" name="PlaceHolder 2"/>
          <p:cNvSpPr>
            <a:spLocks noGrp="1"/>
          </p:cNvSpPr>
          <p:nvPr>
            <p:ph/>
          </p:nvPr>
        </p:nvSpPr>
        <p:spPr>
          <a:xfrm>
            <a:off x="914400" y="1676520"/>
            <a:ext cx="7315200" cy="393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bolition de la règle de troi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ponsabilités multipl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cueil d’ouvrag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Taité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 formatage d’information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s éléments transcrit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9C9BF44-382A-48FD-8946-FC0F98AACC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finition de RDA</a:t>
            </a:r>
            <a:endParaRPr b="1" lang="en-US" sz="2800" spc="-1" strike="noStrike">
              <a:solidFill>
                <a:srgbClr val="4d4d4d"/>
              </a:solidFill>
              <a:latin typeface="Arial Narrow"/>
            </a:endParaRPr>
          </a:p>
        </p:txBody>
      </p:sp>
      <p:sp>
        <p:nvSpPr>
          <p:cNvPr id="263" name="PlaceHolder 2"/>
          <p:cNvSpPr>
            <a:spLocks noGrp="1"/>
          </p:cNvSpPr>
          <p:nvPr>
            <p:ph/>
          </p:nvPr>
        </p:nvSpPr>
        <p:spPr>
          <a:xfrm>
            <a:off x="914400" y="2209320"/>
            <a:ext cx="7315200" cy="3745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publique Démocratique Allemand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mote Data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assemblement Démocratique Africai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ource Description and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sources : Description et Accè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ertains y voient u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ocambolesque Désastre Annoncé</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4"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6CB62C3-6A02-46A8-B0A2-EC871CD42A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806400"/>
            <a:ext cx="7315200" cy="1194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 l’indication générale du genre de document</a:t>
            </a:r>
            <a:br>
              <a:rPr sz="2800"/>
            </a:br>
            <a:endParaRPr b="1" lang="en-US" sz="2800" spc="-1" strike="noStrike">
              <a:solidFill>
                <a:srgbClr val="4d4d4d"/>
              </a:solidFill>
              <a:latin typeface="Arial Narrow"/>
            </a:endParaRPr>
          </a:p>
        </p:txBody>
      </p:sp>
      <p:sp>
        <p:nvSpPr>
          <p:cNvPr id="441" name="PlaceHolder 2"/>
          <p:cNvSpPr>
            <a:spLocks noGrp="1"/>
          </p:cNvSpPr>
          <p:nvPr>
            <p:ph/>
          </p:nvPr>
        </p:nvSpPr>
        <p:spPr>
          <a:xfrm>
            <a:off x="914400" y="1752480"/>
            <a:ext cx="7315200" cy="4798800"/>
          </a:xfrm>
          <a:prstGeom prst="rect">
            <a:avLst/>
          </a:prstGeom>
          <a:noFill/>
          <a:ln w="0">
            <a:noFill/>
          </a:ln>
        </p:spPr>
        <p:txBody>
          <a:bodyPr lIns="0" rIns="0" tIns="0" bIns="0" anchor="t">
            <a:normAutofit/>
          </a:bodyPr>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média (336)</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Audio</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Ordinateur</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Microform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Vidéo</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support (337)</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Bobine de film</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fix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ransparent</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iapositiv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VD</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contenu (338)</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Notation musical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ext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d’animation</a:t>
            </a:r>
            <a:endParaRPr b="0" lang="en-US" sz="16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97E96D2-EA07-4293-B448-82556EFB29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806400"/>
            <a:ext cx="7315200" cy="1331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éments de base obligatoire au lieu d’une description minimale</a:t>
            </a:r>
            <a:br>
              <a:rPr sz="3700"/>
            </a:br>
            <a:endParaRPr b="1" lang="en-US" sz="2800" spc="-1" strike="noStrike">
              <a:solidFill>
                <a:srgbClr val="4d4d4d"/>
              </a:solidFill>
              <a:latin typeface="Arial Narrow"/>
            </a:endParaRPr>
          </a:p>
        </p:txBody>
      </p:sp>
      <p:sp>
        <p:nvSpPr>
          <p:cNvPr id="443"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44" name="" descr=""/>
          <p:cNvPicPr/>
          <p:nvPr/>
        </p:nvPicPr>
        <p:blipFill>
          <a:blip r:embed="rId1"/>
          <a:stretch/>
        </p:blipFill>
        <p:spPr>
          <a:xfrm>
            <a:off x="304920" y="1676520"/>
            <a:ext cx="8534160" cy="4572000"/>
          </a:xfrm>
          <a:prstGeom prst="rect">
            <a:avLst/>
          </a:prstGeom>
          <a:ln w="0">
            <a:noFill/>
          </a:ln>
        </p:spPr>
      </p:pic>
      <p:sp>
        <p:nvSpPr>
          <p:cNvPr id="445" name=""/>
          <p:cNvSpPr/>
          <p:nvPr/>
        </p:nvSpPr>
        <p:spPr>
          <a:xfrm>
            <a:off x="609480" y="54864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F6FF497-DE4F-47E0-80AD-CFDED4F445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argissement des règles demandant une nouvelle description</a:t>
            </a:r>
            <a:endParaRPr b="1" lang="en-US" sz="2800" spc="-1" strike="noStrike">
              <a:solidFill>
                <a:srgbClr val="4d4d4d"/>
              </a:solidFill>
              <a:latin typeface="Arial Narrow"/>
            </a:endParaRPr>
          </a:p>
        </p:txBody>
      </p:sp>
      <p:sp>
        <p:nvSpPr>
          <p:cNvPr id="447" name="PlaceHolder 2"/>
          <p:cNvSpPr>
            <a:spLocks noGrp="1"/>
          </p:cNvSpPr>
          <p:nvPr>
            <p:ph/>
          </p:nvPr>
        </p:nvSpPr>
        <p:spPr>
          <a:xfrm>
            <a:off x="91440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777777"/>
              </a:solidFill>
              <a:latin typeface="Arial Narrow"/>
            </a:endParaRPr>
          </a:p>
        </p:txBody>
      </p:sp>
      <p:sp>
        <p:nvSpPr>
          <p:cNvPr id="448" name="PlaceHolder 3"/>
          <p:cNvSpPr>
            <a:spLocks noGrp="1"/>
          </p:cNvSpPr>
          <p:nvPr>
            <p:ph/>
          </p:nvPr>
        </p:nvSpPr>
        <p:spPr>
          <a:xfrm>
            <a:off x="464832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4d4d4d"/>
              </a:solidFill>
              <a:latin typeface="Arial Narrow"/>
            </a:endParaRPr>
          </a:p>
        </p:txBody>
      </p:sp>
      <p:pic>
        <p:nvPicPr>
          <p:cNvPr id="449" name="" descr=""/>
          <p:cNvPicPr/>
          <p:nvPr/>
        </p:nvPicPr>
        <p:blipFill>
          <a:blip r:embed="rId1"/>
          <a:stretch/>
        </p:blipFill>
        <p:spPr>
          <a:xfrm>
            <a:off x="304920" y="1600200"/>
            <a:ext cx="8610480" cy="4648320"/>
          </a:xfrm>
          <a:prstGeom prst="rect">
            <a:avLst/>
          </a:prstGeom>
          <a:ln w="0">
            <a:noFill/>
          </a:ln>
        </p:spPr>
      </p:pic>
      <p:sp>
        <p:nvSpPr>
          <p:cNvPr id="450" name=""/>
          <p:cNvSpPr/>
          <p:nvPr/>
        </p:nvSpPr>
        <p:spPr>
          <a:xfrm>
            <a:off x="685800" y="5562720"/>
            <a:ext cx="2743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447BBBAA-33E7-4097-AD4E-49FC6D4740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ource principale d’information par catégorie de ressources</a:t>
            </a:r>
            <a:endParaRPr b="1" lang="en-US" sz="2800" spc="-1" strike="noStrike">
              <a:solidFill>
                <a:srgbClr val="4d4d4d"/>
              </a:solidFill>
              <a:latin typeface="Arial Narrow"/>
            </a:endParaRPr>
          </a:p>
        </p:txBody>
      </p:sp>
      <p:sp>
        <p:nvSpPr>
          <p:cNvPr id="452"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53" name="" descr=""/>
          <p:cNvPicPr/>
          <p:nvPr/>
        </p:nvPicPr>
        <p:blipFill>
          <a:blip r:embed="rId1"/>
          <a:stretch/>
        </p:blipFill>
        <p:spPr>
          <a:xfrm>
            <a:off x="990720" y="1600200"/>
            <a:ext cx="7238880" cy="4572000"/>
          </a:xfrm>
          <a:prstGeom prst="rect">
            <a:avLst/>
          </a:prstGeom>
          <a:ln w="0">
            <a:noFill/>
          </a:ln>
        </p:spPr>
      </p:pic>
      <p:sp>
        <p:nvSpPr>
          <p:cNvPr id="454" name=""/>
          <p:cNvSpPr/>
          <p:nvPr/>
        </p:nvSpPr>
        <p:spPr>
          <a:xfrm>
            <a:off x="5029200" y="563868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B621A3B-051F-48E6-8748-0A42248574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imitation des abréviations utilisées à celles présentes dans la source d’information</a:t>
            </a:r>
            <a:endParaRPr b="1" lang="en-US" sz="2800" spc="-1" strike="noStrike">
              <a:solidFill>
                <a:srgbClr val="4d4d4d"/>
              </a:solidFill>
              <a:latin typeface="Arial Narrow"/>
            </a:endParaRPr>
          </a:p>
        </p:txBody>
      </p:sp>
      <p:sp>
        <p:nvSpPr>
          <p:cNvPr id="456" name="PlaceHolder 2"/>
          <p:cNvSpPr>
            <a:spLocks noGrp="1"/>
          </p:cNvSpPr>
          <p:nvPr>
            <p:ph/>
          </p:nvPr>
        </p:nvSpPr>
        <p:spPr>
          <a:xfrm>
            <a:off x="914400" y="2209320"/>
            <a:ext cx="7315200" cy="28908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permet d’utiliser des abréviations uniquement si ces abréviations sont présentes dans la source d’information</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ention d’édi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uméro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eu de publication et de distribu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llections</a:t>
            </a: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589EC1A-2675-461F-A761-B57AE1AEFF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bréviations latines</a:t>
            </a:r>
            <a:endParaRPr b="1" lang="en-US" sz="2800" spc="-1" strike="noStrike">
              <a:solidFill>
                <a:srgbClr val="4d4d4d"/>
              </a:solidFill>
              <a:latin typeface="Arial Narrow"/>
            </a:endParaRPr>
          </a:p>
        </p:txBody>
      </p:sp>
      <p:sp>
        <p:nvSpPr>
          <p:cNvPr id="4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t quatre autres personn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Lieu de publication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n.</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Éditeur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d.</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Date de publication non identifié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a</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nviron</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32AE619-A5C5-49F6-B128-8F12963E00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0" name="PlaceHolder 2"/>
          <p:cNvSpPr>
            <a:spLocks noGrp="1"/>
          </p:cNvSpPr>
          <p:nvPr>
            <p:ph/>
          </p:nvPr>
        </p:nvSpPr>
        <p:spPr>
          <a:xfrm>
            <a:off x="914400" y="2209680"/>
            <a:ext cx="7315200" cy="4141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Page de tit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 addid.</a:t>
            </a:r>
            <a:r>
              <a:rPr b="0" lang="fr-CA" sz="2600" spc="-1" strike="noStrike">
                <a:solidFill>
                  <a:srgbClr val="777777"/>
                </a:solidFill>
                <a:latin typeface="Arial Narrow"/>
              </a:rPr>
              <a:t>	</a:t>
            </a:r>
            <a:r>
              <a:rPr b="0" lang="fr-CA" sz="2600" spc="-1" strike="noStrike">
                <a:solidFill>
                  <a:srgbClr val="777777"/>
                </a:solidFill>
                <a:latin typeface="Arial Narrow"/>
              </a:rPr>
              <a:t>Page de titre additionnel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ll. en cou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Illustrations en coul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nv.</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Envir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imp. en fac-sim.  du ms = Réimpression en fac-similé du manuscrit</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ibliogr.</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Bibliographi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Siècle</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44EAA4C-7608-45A0-B8C6-F39D521AD2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2" name="PlaceHolder 2"/>
          <p:cNvSpPr>
            <a:spLocks noGrp="1"/>
          </p:cNvSpPr>
          <p:nvPr>
            <p:ph/>
          </p:nvPr>
        </p:nvSpPr>
        <p:spPr>
          <a:xfrm>
            <a:off x="914400" y="2209320"/>
            <a:ext cx="7315200" cy="357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30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v, 195 pages :$billustrations (certaines en couleurs), cartes, portraits en couleurs.</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86 pages, 22 pages non numérotées , 25 pages de planches, 12 illustrations en couleurs, 1 carte pliée</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49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Que sais-je ;$volume 2267</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6BD6B02-2AB5-4D04-9D7A-BC49E9432A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scription des inexactitudes telles que vues</a:t>
            </a:r>
            <a:endParaRPr b="1" lang="en-US" sz="2800" spc="-1" strike="noStrike">
              <a:solidFill>
                <a:srgbClr val="4d4d4d"/>
              </a:solidFill>
              <a:latin typeface="Arial Narrow"/>
            </a:endParaRPr>
          </a:p>
        </p:txBody>
      </p:sp>
      <p:sp>
        <p:nvSpPr>
          <p:cNvPr id="464" name="PlaceHolder 2"/>
          <p:cNvSpPr>
            <a:spLocks noGrp="1"/>
          </p:cNvSpPr>
          <p:nvPr>
            <p:ph/>
          </p:nvPr>
        </p:nvSpPr>
        <p:spPr>
          <a:xfrm>
            <a:off x="914400" y="1523520"/>
            <a:ext cx="7315200" cy="3111120"/>
          </a:xfrm>
          <a:prstGeom prst="rect">
            <a:avLst/>
          </a:prstGeom>
          <a:noFill/>
          <a:ln w="0">
            <a:noFill/>
          </a:ln>
        </p:spPr>
        <p:txBody>
          <a:bodyPr lIns="0" rIns="0" tIns="0" bIns="0" anchor="t">
            <a:normAutofit fontScale="99000"/>
          </a:bodyPr>
          <a:p>
            <a:pPr marL="17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éléments sont transcrits tels que v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inexactitudes ne sont pas corrigé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te est générée si nécessaire et un accès supplémentaire est inscri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un principe est fondamental</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99"/>
                </a:solidFill>
                <a:latin typeface="Arial Narrow"/>
              </a:rPr>
              <a:t>Prenez ce que vous voyez et acceptez ce que vous recevez</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60B3F31-165E-43AA-8464-62B4A9AC46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olition de la règle de trois</a:t>
            </a:r>
            <a:endParaRPr b="1" lang="en-US" sz="2800" spc="-1" strike="noStrike">
              <a:solidFill>
                <a:srgbClr val="4d4d4d"/>
              </a:solidFill>
              <a:latin typeface="Arial Narrow"/>
            </a:endParaRPr>
          </a:p>
        </p:txBody>
      </p:sp>
      <p:sp>
        <p:nvSpPr>
          <p:cNvPr id="466" name="PlaceHolder 2"/>
          <p:cNvSpPr>
            <a:spLocks noGrp="1"/>
          </p:cNvSpPr>
          <p:nvPr>
            <p:ph/>
          </p:nvPr>
        </p:nvSpPr>
        <p:spPr>
          <a:xfrm>
            <a:off x="914400" y="1447920"/>
            <a:ext cx="7315200" cy="4372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ous les auteurs faisant partie d’une mention de responsabilité sont inscrits dans la notice bibliographique (option poss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ns le cas des ouvrages à responsabilités multiples, la vedette est prise à la première personne, famille ou collectivité nommée comme principale responsa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05D0952-E68B-4CB3-B247-0D8548CDF2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 sont les RDA?</a:t>
            </a:r>
            <a:endParaRPr b="1" lang="en-US" sz="2800" spc="-1" strike="noStrike">
              <a:solidFill>
                <a:srgbClr val="4d4d4d"/>
              </a:solidFill>
              <a:latin typeface="Arial Narrow"/>
            </a:endParaRPr>
          </a:p>
        </p:txBody>
      </p:sp>
      <p:sp>
        <p:nvSpPr>
          <p:cNvPr id="266" name="PlaceHolder 2"/>
          <p:cNvSpPr>
            <a:spLocks noGrp="1"/>
          </p:cNvSpPr>
          <p:nvPr>
            <p:ph/>
          </p:nvPr>
        </p:nvSpPr>
        <p:spPr>
          <a:xfrm>
            <a:off x="914400" y="2209320"/>
            <a:ext cx="7315200" cy="3102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 code de catalogage conçu pour un environnement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s technologies de son temp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ant à traiter les documents faisant partie de l’univers documentai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dressant à un vaste public d’utilis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7"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CD7CEAA-51D1-4FD7-B37A-5A83963B21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ucun formatage d’information numérique</a:t>
            </a:r>
            <a:endParaRPr b="1" lang="en-US" sz="2800" spc="-1" strike="noStrike">
              <a:solidFill>
                <a:srgbClr val="4d4d4d"/>
              </a:solidFill>
              <a:latin typeface="Arial Narrow"/>
            </a:endParaRPr>
          </a:p>
        </p:txBody>
      </p:sp>
      <p:sp>
        <p:nvSpPr>
          <p:cNvPr id="468" name="PlaceHolder 2"/>
          <p:cNvSpPr>
            <a:spLocks noGrp="1"/>
          </p:cNvSpPr>
          <p:nvPr>
            <p:ph/>
          </p:nvPr>
        </p:nvSpPr>
        <p:spPr>
          <a:xfrm>
            <a:off x="914400" y="2209680"/>
            <a:ext cx="7315200" cy="3046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insi</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olume 10, numéro 1</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Vol. 10, no 1</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Janvier 201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Jan. 2010</a:t>
            </a: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9C9D884-2415-46D2-96B1-B6CCB422DB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ternationalisation</a:t>
            </a:r>
            <a:endParaRPr b="1" lang="en-US" sz="2800" spc="-1" strike="noStrike">
              <a:solidFill>
                <a:srgbClr val="4d4d4d"/>
              </a:solidFill>
              <a:latin typeface="Arial Narrow"/>
            </a:endParaRPr>
          </a:p>
        </p:txBody>
      </p:sp>
      <p:sp>
        <p:nvSpPr>
          <p:cNvPr id="470"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ente de supprimer les biais culturels et relig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era éventuellement traduit en plusieurs lang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ption d’utiliser d’autres systèmes d’écritures et de datation</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ACCE2CB-C2C9-415D-A278-AAFD074D2E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ontenu plus développé du contrôle d’autorités</a:t>
            </a:r>
            <a:endParaRPr b="1" lang="en-US" sz="2800" spc="-1" strike="noStrike">
              <a:solidFill>
                <a:srgbClr val="4d4d4d"/>
              </a:solidFill>
              <a:latin typeface="Arial Narrow"/>
            </a:endParaRPr>
          </a:p>
        </p:txBody>
      </p:sp>
      <p:sp>
        <p:nvSpPr>
          <p:cNvPr id="472" name="PlaceHolder 2"/>
          <p:cNvSpPr>
            <a:spLocks noGrp="1"/>
          </p:cNvSpPr>
          <p:nvPr>
            <p:ph/>
          </p:nvPr>
        </p:nvSpPr>
        <p:spPr>
          <a:xfrm>
            <a:off x="914400" y="1676520"/>
            <a:ext cx="7315200" cy="20718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justifier le choix du nom de l’entité</a:t>
            </a:r>
            <a:endParaRPr b="1" lang="en-US" sz="2600" spc="-1" strike="noStrike">
              <a:solidFill>
                <a:srgbClr val="777777"/>
              </a:solidFill>
              <a:latin typeface="Arial Narrow"/>
            </a:endParaRPr>
          </a:p>
          <a:p>
            <a:pPr lvl="1" marL="620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trouver ou identifier les entité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92C9509-1D56-41EA-BDDE-6A9D0E56B2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191120" cy="6477120"/>
          </a:xfrm>
          <a:prstGeom prst="rect">
            <a:avLst/>
          </a:prstGeom>
          <a:ln w="0">
            <a:noFill/>
          </a:ln>
        </p:spPr>
      </p:pic>
      <p:pic>
        <p:nvPicPr>
          <p:cNvPr id="474" name="" descr=""/>
          <p:cNvPicPr/>
          <p:nvPr/>
        </p:nvPicPr>
        <p:blipFill>
          <a:blip r:embed="rId2"/>
          <a:stretch/>
        </p:blipFill>
        <p:spPr>
          <a:xfrm>
            <a:off x="4114800" y="0"/>
            <a:ext cx="5029200" cy="6477120"/>
          </a:xfrm>
          <a:prstGeom prst="rect">
            <a:avLst/>
          </a:prstGeom>
          <a:ln w="0">
            <a:noFill/>
          </a:ln>
        </p:spPr>
      </p:pic>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0699C65F-7A86-4BE2-B2B7-CAE008ED0C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lques commentaires sur RDA</a:t>
            </a:r>
            <a:endParaRPr b="1" lang="en-US" sz="2800" spc="-1" strike="noStrike">
              <a:solidFill>
                <a:srgbClr val="4d4d4d"/>
              </a:solidFill>
              <a:latin typeface="Arial Narrow"/>
            </a:endParaRPr>
          </a:p>
        </p:txBody>
      </p:sp>
      <p:sp>
        <p:nvSpPr>
          <p:cNvPr id="476" name="PlaceHolder 2"/>
          <p:cNvSpPr>
            <a:spLocks noGrp="1"/>
          </p:cNvSpPr>
          <p:nvPr>
            <p:ph/>
          </p:nvPr>
        </p:nvSpPr>
        <p:spPr>
          <a:xfrm>
            <a:off x="914400" y="2209680"/>
            <a:ext cx="7315200" cy="222768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mentaires peu élogieux</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illite à rencontrer les objectifs de dépar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style même d’écriture est vu comme une barrière à l’implantation et une menace à son accep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ersion imprimée désirée</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C0AFE28-ACCF-4C71-8826-53A7AA7162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78" name="PlaceHolder 2"/>
          <p:cNvSpPr>
            <a:spLocks noGrp="1"/>
          </p:cNvSpPr>
          <p:nvPr>
            <p:ph/>
          </p:nvPr>
        </p:nvSpPr>
        <p:spPr>
          <a:xfrm>
            <a:off x="838080" y="1371600"/>
            <a:ext cx="7315200" cy="52920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ise en ligne de RDA Web en juin 2010</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tructure de tarific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test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brary of Congrès</a:t>
            </a:r>
            <a:r>
              <a:rPr b="0" lang="fr-CA" sz="2200" spc="-1" strike="noStrike">
                <a:solidFill>
                  <a:srgbClr val="4d4d4d"/>
                </a:solidFill>
                <a:latin typeface="Arial Narrow"/>
              </a:rPr>
              <a:t>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Medecin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Agricultu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ximum de 20 partenaire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cision d’impla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format pour remplacer MARC21</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083854A-CD37-4B1F-A9E7-00328C2BC4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80" name="PlaceHolder 2"/>
          <p:cNvSpPr>
            <a:spLocks noGrp="1"/>
          </p:cNvSpPr>
          <p:nvPr>
            <p:ph/>
          </p:nvPr>
        </p:nvSpPr>
        <p:spPr>
          <a:xfrm>
            <a:off x="914400" y="2209320"/>
            <a:ext cx="7315200" cy="2421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uction française</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mité scientifique composé de </a:t>
            </a:r>
            <a:r>
              <a:rPr b="0" lang="fr-FR" sz="2200" spc="-1" strike="noStrike">
                <a:solidFill>
                  <a:srgbClr val="4d4d4d"/>
                </a:solidFill>
                <a:latin typeface="Arial Narrow"/>
              </a:rPr>
              <a:t>BAnQ, BAC, BNF, EBSI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ordonné par l’ASTED</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350 000 mots à tradu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ucun échéancier prévu pour le moment</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075D2DB-F8E3-4803-ACA5-9F671C1602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Webographie</a:t>
            </a:r>
            <a:endParaRPr b="1" lang="en-US" sz="2800" spc="-1" strike="noStrike">
              <a:solidFill>
                <a:srgbClr val="4d4d4d"/>
              </a:solidFill>
              <a:latin typeface="Arial Narrow"/>
            </a:endParaRPr>
          </a:p>
        </p:txBody>
      </p:sp>
      <p:sp>
        <p:nvSpPr>
          <p:cNvPr id="482" name="PlaceHolder 2"/>
          <p:cNvSpPr>
            <a:spLocks noGrp="1"/>
          </p:cNvSpPr>
          <p:nvPr>
            <p:ph/>
          </p:nvPr>
        </p:nvSpPr>
        <p:spPr>
          <a:xfrm>
            <a:off x="914400" y="1447560"/>
            <a:ext cx="7315200" cy="7132680"/>
          </a:xfrm>
          <a:prstGeom prst="rect">
            <a:avLst/>
          </a:prstGeom>
          <a:noFill/>
          <a:ln w="0">
            <a:noFill/>
          </a:ln>
        </p:spPr>
        <p:txBody>
          <a:bodyPr lIns="0" rIns="0" tIns="0" bIns="0" anchor="t">
            <a:normAutofit/>
          </a:bodyPr>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RDA et RCAA2 : un survol des différences entre les deux codes.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1"/>
              </a:rPr>
              <a:t>http://www.asted.org/_uploadedcontent/medias/content_1460_1385.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et Oliver, Christine. Ressources : Description et Accès. 2008</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2"/>
              </a:rPr>
              <a:t>http://www.rda-jsc.org/docs/codp-banq-20080422.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rincipes internationaux de catalogage</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3"/>
              </a:rPr>
              <a:t>http://archive.ifla.org/VII/s13/icp/ICP-2009_fr.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Riva, Pat. L’essentiel des modèles FRBR et FRAD pour la compréhension des RDA.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4"/>
              </a:rPr>
              <a:t>http://tsig.wikispaces.com/file/view/RivaFRBRFRADforCLA-fre.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illett, Barbara.  </a:t>
            </a:r>
            <a:endParaRPr b="1" lang="en-US" sz="1800" spc="-1" strike="noStrike">
              <a:solidFill>
                <a:srgbClr val="777777"/>
              </a:solidFill>
              <a:latin typeface="Arial Narrow"/>
            </a:endParaRPr>
          </a:p>
          <a:p>
            <a:pPr lvl="1" marL="627120" indent="-169920">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What is FRBR? : a conceptual model for the bibliographic universe. 2004.</a:t>
            </a:r>
            <a:endParaRPr b="0" lang="en-US" sz="16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5"/>
              </a:rPr>
              <a:t>http://www.loc.gov/cds/downloads/FRBR.PDF</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Narrow"/>
              </a:rPr>
              <a:t>Changes from AACR2 for Texts. 2010</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6"/>
              </a:rPr>
              <a:t>http://www.loc.gov/library/webcasts/jan12_RDA_changes/RDA_changes.ppt</a:t>
            </a: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7F964CE-7BF2-4234-AFBD-CE3E0A888E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Text Box 6"/>
          <p:cNvSpPr/>
          <p:nvPr/>
        </p:nvSpPr>
        <p:spPr>
          <a:xfrm>
            <a:off x="685800" y="914400"/>
            <a:ext cx="7696080" cy="3809880"/>
          </a:xfrm>
          <a:prstGeom prst="rect">
            <a:avLst/>
          </a:prstGeom>
          <a:noFill/>
          <a:ln w="0">
            <a:noFill/>
          </a:ln>
        </p:spPr>
        <p:style>
          <a:lnRef idx="0"/>
          <a:fillRef idx="0"/>
          <a:effectRef idx="0"/>
          <a:fontRef idx="minor"/>
        </p:style>
        <p:txBody>
          <a:bodyPr lIns="0" rIns="0" tIns="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Arial Narrow"/>
                <a:ea typeface="ヒラギノ角ゴ Pro W3"/>
              </a:rPr>
              <a:t>Merci !</a:t>
            </a:r>
            <a:endParaRPr b="0" lang="en-US" sz="10000" spc="-1" strike="noStrike">
              <a:solidFill>
                <a:srgbClr val="000000"/>
              </a:solidFill>
              <a:latin typeface="Arial"/>
            </a:endParaRPr>
          </a:p>
        </p:txBody>
      </p:sp>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2446F4A2-A221-4935-8B6A-A3F20384A8EF}" type="slidenum">
              <a:t>5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83"/>
                                        </p:tgtEl>
                                        <p:attrNameLst>
                                          <p:attrName>style.visibility</p:attrName>
                                        </p:attrNameLst>
                                      </p:cBhvr>
                                      <p:to>
                                        <p:strVal val="visible"/>
                                      </p:to>
                                    </p:set>
                                    <p:animEffect filter="fade" transition="in">
                                      <p:cBhvr additive="repl">
                                        <p:cTn id="91" dur="500"/>
                                        <p:tgtEl>
                                          <p:spTgt spid="483"/>
                                        </p:tgtEl>
                                      </p:cBhvr>
                                    </p:animEffect>
                                  </p:childTnLst>
                                </p:cTn>
                              </p:par>
                              <p:par>
                                <p:cTn id="92" nodeType="withEffect" fill="hold" presetClass="entr" presetID="10">
                                  <p:stCondLst>
                                    <p:cond delay="0"/>
                                  </p:stCondLst>
                                  <p:childTnLst>
                                    <p:set>
                                      <p:cBhvr>
                                        <p:cTn id="93" dur="1" fill="hold">
                                          <p:stCondLst>
                                            <p:cond delay="0"/>
                                          </p:stCondLst>
                                        </p:cTn>
                                        <p:tgtEl>
                                          <p:spTgt spid="483"/>
                                        </p:tgtEl>
                                        <p:attrNameLst>
                                          <p:attrName>style.visibility</p:attrName>
                                        </p:attrNameLst>
                                      </p:cBhvr>
                                      <p:to>
                                        <p:strVal val="visible"/>
                                      </p:to>
                                    </p:set>
                                    <p:animEffect filter="fade" transition="in">
                                      <p:cBhvr additive="repl">
                                        <p:cTn id="9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veloppement des RCAA</a:t>
            </a:r>
            <a:endParaRPr b="1" lang="en-US" sz="2800" spc="-1" strike="noStrike">
              <a:solidFill>
                <a:srgbClr val="4d4d4d"/>
              </a:solidFill>
              <a:latin typeface="Arial Narrow"/>
            </a:endParaRPr>
          </a:p>
        </p:txBody>
      </p:sp>
      <p:sp>
        <p:nvSpPr>
          <p:cNvPr id="269" name="PlaceHolder 2"/>
          <p:cNvSpPr>
            <a:spLocks noGrp="1"/>
          </p:cNvSpPr>
          <p:nvPr>
            <p:ph/>
          </p:nvPr>
        </p:nvSpPr>
        <p:spPr>
          <a:xfrm>
            <a:off x="914400" y="2209680"/>
            <a:ext cx="7315200" cy="231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itions anglo-américain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veloppés sur la base des Principes de Paris de 1961</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 modèles des ISBD</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A526867-9977-4AB5-92AC-F3645E0413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réation des RCAA2 en 1978 et révisions de 1988, 1998, et 2002</a:t>
            </a:r>
            <a:endParaRPr b="1" lang="en-US" sz="2800" spc="-1" strike="noStrike">
              <a:solidFill>
                <a:srgbClr val="4d4d4d"/>
              </a:solidFill>
              <a:latin typeface="Arial Narrow"/>
            </a:endParaRPr>
          </a:p>
        </p:txBody>
      </p:sp>
      <p:pic>
        <p:nvPicPr>
          <p:cNvPr id="271" name="" descr=""/>
          <p:cNvPicPr/>
          <p:nvPr/>
        </p:nvPicPr>
        <p:blipFill>
          <a:blip r:embed="rId1"/>
          <a:stretch/>
        </p:blipFill>
        <p:spPr>
          <a:xfrm>
            <a:off x="379440" y="1417680"/>
            <a:ext cx="2114640" cy="2960640"/>
          </a:xfrm>
          <a:prstGeom prst="rect">
            <a:avLst/>
          </a:prstGeom>
          <a:ln w="0">
            <a:noFill/>
          </a:ln>
        </p:spPr>
      </p:pic>
      <p:pic>
        <p:nvPicPr>
          <p:cNvPr id="272" name="" descr=""/>
          <p:cNvPicPr/>
          <p:nvPr/>
        </p:nvPicPr>
        <p:blipFill>
          <a:blip r:embed="rId2"/>
          <a:stretch/>
        </p:blipFill>
        <p:spPr>
          <a:xfrm>
            <a:off x="1981080" y="1981080"/>
            <a:ext cx="2443320" cy="3041640"/>
          </a:xfrm>
          <a:prstGeom prst="rect">
            <a:avLst/>
          </a:prstGeom>
          <a:ln w="0">
            <a:noFill/>
          </a:ln>
        </p:spPr>
      </p:pic>
      <p:pic>
        <p:nvPicPr>
          <p:cNvPr id="273" name="" descr=""/>
          <p:cNvPicPr/>
          <p:nvPr/>
        </p:nvPicPr>
        <p:blipFill>
          <a:blip r:embed="rId3"/>
          <a:stretch/>
        </p:blipFill>
        <p:spPr>
          <a:xfrm>
            <a:off x="4114800" y="2666880"/>
            <a:ext cx="2584440" cy="3195720"/>
          </a:xfrm>
          <a:prstGeom prst="rect">
            <a:avLst/>
          </a:prstGeom>
          <a:ln w="0">
            <a:noFill/>
          </a:ln>
        </p:spPr>
      </p:pic>
      <p:pic>
        <p:nvPicPr>
          <p:cNvPr id="274" name="" descr=""/>
          <p:cNvPicPr/>
          <p:nvPr/>
        </p:nvPicPr>
        <p:blipFill>
          <a:blip r:embed="rId4"/>
          <a:stretch/>
        </p:blipFill>
        <p:spPr>
          <a:xfrm>
            <a:off x="6248520" y="2895480"/>
            <a:ext cx="2428920" cy="310068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A139E4B8-B537-4236-A384-E87330A19D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1997 International Conference on the Principles &amp; Future Development of AACR, Toronto</a:t>
            </a:r>
            <a:endParaRPr b="1" lang="en-US" sz="2800" spc="-1" strike="noStrike">
              <a:solidFill>
                <a:srgbClr val="4d4d4d"/>
              </a:solidFill>
              <a:latin typeface="Arial Narrow"/>
            </a:endParaRPr>
          </a:p>
        </p:txBody>
      </p:sp>
      <p:sp>
        <p:nvSpPr>
          <p:cNvPr id="276" name="PlaceHolder 2"/>
          <p:cNvSpPr>
            <a:spLocks noGrp="1"/>
          </p:cNvSpPr>
          <p:nvPr>
            <p:ph/>
          </p:nvPr>
        </p:nvSpPr>
        <p:spPr>
          <a:xfrm>
            <a:off x="914400" y="2209680"/>
            <a:ext cx="7315200" cy="3636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Les experts identifient 5 problèmes majeu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Principes sous-tendant l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ntenu vs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tructure logique d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érialité</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nternationalisation</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563F5AD-5F37-4A8C-92FD-6E7BDAE2E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78" name="PlaceHolder 2"/>
          <p:cNvSpPr>
            <a:spLocks noGrp="1"/>
          </p:cNvSpPr>
          <p:nvPr>
            <p:ph/>
          </p:nvPr>
        </p:nvSpPr>
        <p:spPr>
          <a:xfrm>
            <a:off x="914400" y="1599840"/>
            <a:ext cx="7315200" cy="57942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nvironnement de départ a changé</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Les RCAA2 avaient été rédigées pour guider le traitement de documents traditionnel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Élaborées à l’époque des catalogues sur fiches 3 X 5</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Se prêtaient mal au nouvel environnement numérique et à la multiplication des suppor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répondaient pas au besoin de  partage avec d’autres secteurs liés au monde de la documen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tenaient pas compte de nouveaux modèles conceptuels développés au niveau international (FRBR, FRAD et des travaux internationaux du IME ICC </a:t>
            </a:r>
            <a:r>
              <a:rPr b="0" lang="en-US" sz="2200" spc="-1" strike="noStrike">
                <a:solidFill>
                  <a:srgbClr val="777777"/>
                </a:solidFill>
                <a:latin typeface="Arial Narrow"/>
              </a:rPr>
              <a:t>(IFLA Meeting of Experts on an International Cataloguing Code)</a:t>
            </a:r>
            <a:endParaRPr b="0" lang="en-US" sz="2200" spc="-1" strike="noStrike">
              <a:solidFill>
                <a:srgbClr val="4d4d4d"/>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679E2A2-2069-428B-986E-AF3091BCFD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5:03:47Z</dcterms:created>
  <dc:creator>Service de Reprographie</dc:creator>
  <dc:description/>
  <dc:language>en-US</dc:language>
  <cp:lastModifiedBy>maplo56</cp:lastModifiedBy>
  <dcterms:modified xsi:type="dcterms:W3CDTF">2010-04-23T15:03:37Z</dcterms:modified>
  <cp:revision>64</cp:revision>
  <dc:subject/>
  <dc:title>Diapositive 1</dc:title>
</cp:coreProperties>
</file>