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01F-1247-4CF1-9678-4E3E2203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3A5-5D56-4AD8-A872-14CA51A4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8330-3DA9-475F-8BA3-BE873AF2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8E55-A072-40A5-AEEC-86E4FF90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525-ACEB-476B-AC11-0C607F13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F866-9133-441F-92A0-73E14EED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3D3-79A2-4D20-9C28-E46EC9A6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45BD-7FE0-433F-BE96-65947B94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26FD-D0AC-4F03-B530-7FFF35F1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F68-7896-4452-98A5-F2AC3E7C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9BA0-325A-4F05-9EDA-80C96E35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E7E0-5EF7-442E-80E4-3E2D20E6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B9F0-EF9B-41F9-B69A-695D7A85429A}" type="datetime">
              <a:rPr b="0" lang="fr-CA" sz="1200" spc="-1" strike="noStrike">
                <a:solidFill>
                  <a:srgbClr val="898989"/>
                </a:solidFill>
                <a:latin typeface="Calibri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6D05-BE52-4398-B0B0-E1BEF6EDCB5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774880"/>
          <a:ext cx="8229600" cy="3687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6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57AF-097C-4720-8D64-E10D1BADF6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017880"/>
          <a:ext cx="8229600" cy="3267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ZoneTexte 5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2A5-E96A-498C-A7C5-4502256DBF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7:59:45Z</dcterms:modified>
  <cp:revision>111</cp:revision>
  <dc:subject/>
  <dc:title>Quiz Module 8: les relations RDA</dc:title>
</cp:coreProperties>
</file>