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553DB-CDEF-4A0B-B4E0-5624A12A2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34E87-C22E-4421-B5A4-3649D7C8A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C9B32-92A3-4DB3-9A2F-E2CD1CF2C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1829C-3C45-4925-A45C-38B213611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485D2-D562-4E60-8475-9F2DFBDBA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745AE-04C7-4D59-8003-B4D76F3F8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6FA6C-D46A-43F6-BDD6-2C19B7797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A3342-0FC7-4B0D-86BD-5EAC99BE3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85C5B-F8C7-4BF2-B743-E0802E5F2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9C367-977E-4A09-8D5A-CAD41B98C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C5121-0233-4247-8D2E-418834C1A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0E9AA-EBB9-4AAF-93C9-DBFDABFB7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BB5A7-3FC6-4454-8D2E-7A97CF6318E5}" type="datetime">
              <a:rPr b="0" lang="fr-CA" sz="1200" spc="-1" strike="noStrike">
                <a:solidFill>
                  <a:srgbClr val="898989"/>
                </a:solidFill>
                <a:latin typeface="Calibri"/>
              </a:rPr>
              <a:t>26-07-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898989"/>
                </a:solidFill>
                <a:latin typeface="Calibri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88E0D-1D86-43E9-8E54-5074D1F8A2F5}" type="slidenum">
              <a:rPr b="0" lang="fr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90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376092"/>
                </a:solidFill>
                <a:latin typeface="Calibri"/>
              </a:rPr>
              <a:t>Quels types de relations signalent les indicateurs suivants? Préciser l’endroit où vous avez trouvé la réponse dans RD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468360" y="2774880"/>
          <a:ext cx="8229600" cy="368784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ndicateur de rel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 de rel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nstru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éditeur intellectu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thograph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notateu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nteu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tervieweu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staurateu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79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éalisateur d’émissions de télévis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uteur de commentaire ajout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43" name="ZoneTexte 6"/>
          <p:cNvSpPr/>
          <p:nvPr/>
        </p:nvSpPr>
        <p:spPr>
          <a:xfrm>
            <a:off x="468360" y="1052640"/>
            <a:ext cx="8136000" cy="15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Calibri"/>
              </a:rPr>
              <a:t>Types de relation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6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fr-CA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A" sz="1600" spc="-1" strike="noStrike">
                <a:solidFill>
                  <a:srgbClr val="000000"/>
                </a:solidFill>
                <a:latin typeface="Calibri"/>
              </a:rPr>
              <a:t>relation entre une personne/une collectivité/ou une famille et une œuv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6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fr-CA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A" sz="1600" spc="-1" strike="noStrike">
                <a:solidFill>
                  <a:srgbClr val="000000"/>
                </a:solidFill>
                <a:latin typeface="Calibri"/>
              </a:rPr>
              <a:t>relation entre une personne/une collectivité/ou une famille et une expres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6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0" lang="fr-CA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A" sz="1600" spc="-1" strike="noStrike">
                <a:solidFill>
                  <a:srgbClr val="000000"/>
                </a:solidFill>
                <a:latin typeface="Calibri"/>
              </a:rPr>
              <a:t>relation entre une personne/une collectivité/ou une famille et une manifes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6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fr-CA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A" sz="1600" spc="-1" strike="noStrike">
                <a:solidFill>
                  <a:srgbClr val="000000"/>
                </a:solidFill>
                <a:latin typeface="Calibri"/>
              </a:rPr>
              <a:t>relation entre une personne/une collectivité/ou une famille et un i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193C4-43F7-49A3-8480-48FB5BE22E6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itre 1"/>
          <p:cNvSpPr/>
          <p:nvPr/>
        </p:nvSpPr>
        <p:spPr>
          <a:xfrm>
            <a:off x="468360" y="260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76092"/>
                </a:solidFill>
                <a:latin typeface="Calibri"/>
              </a:rPr>
              <a:t>Quels types de relations signalent les indicateurs suivants? Préciser l’endroit où vous avez trouvé la réponse dans R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457200" y="3017880"/>
          <a:ext cx="8229600" cy="326700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33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ndicateur de rel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 de rel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nstru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strument de recherch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rra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tépisod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te miroi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0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ns la colle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production d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raphrase d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lié ave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46" name="ZoneTexte 5"/>
          <p:cNvSpPr/>
          <p:nvPr/>
        </p:nvSpPr>
        <p:spPr>
          <a:xfrm>
            <a:off x="539640" y="1341360"/>
            <a:ext cx="8136000" cy="15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Calibri"/>
              </a:rPr>
              <a:t>Types de relation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6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fr-CA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A" sz="1600" spc="-1" strike="noStrike">
                <a:solidFill>
                  <a:srgbClr val="000000"/>
                </a:solidFill>
                <a:latin typeface="Calibri"/>
              </a:rPr>
              <a:t>relation entre œuv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6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fr-CA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A" sz="1600" spc="-1" strike="noStrike">
                <a:solidFill>
                  <a:srgbClr val="000000"/>
                </a:solidFill>
                <a:latin typeface="Calibri"/>
              </a:rPr>
              <a:t>relation entre expre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6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0" lang="fr-CA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A" sz="1600" spc="-1" strike="noStrike">
                <a:solidFill>
                  <a:srgbClr val="000000"/>
                </a:solidFill>
                <a:latin typeface="Calibri"/>
              </a:rPr>
              <a:t>relation entre manifest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6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fr-CA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A" sz="1600" spc="-1" strike="noStrike">
                <a:solidFill>
                  <a:srgbClr val="000000"/>
                </a:solidFill>
                <a:latin typeface="Calibri"/>
              </a:rPr>
              <a:t>relation entre i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2EC97-572F-4D85-A691-1F2AD36660C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6T17:14:56Z</dcterms:created>
  <dc:creator>Tiburon</dc:creator>
  <dc:description/>
  <dc:language>en-US</dc:language>
  <cp:lastModifiedBy>Pat Riva</cp:lastModifiedBy>
  <dcterms:modified xsi:type="dcterms:W3CDTF">2013-04-15T17:59:45Z</dcterms:modified>
  <cp:revision>111</cp:revision>
  <dc:subject/>
  <dc:title>Quiz Module 8: les relations RDA</dc:title>
</cp:coreProperties>
</file>