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8DD6570-92B0-4E91-9C7F-BBCFB25B709B}"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90FA162-FE8F-471E-A4E7-48924AE67C2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access.rdatoolkit.org/document.php?id=rdachp20&amp;target=rda20-115#rda20-115" TargetMode="External"/><Relationship Id="rId2" Type="http://schemas.openxmlformats.org/officeDocument/2006/relationships/hyperlink" Target="http://access.rdatoolkit.org/document.php?id=rdachp20&amp;target=rda20-115#rda20-115"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maintenant traiter des relations RDA.</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peut exprimer les relations selon 3 méthodes, et le choix de la méthode employée dépend, en très grande partie, du type de relation qui est exprim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méthode, dont on vient tout juste de parler, consiste à employer un point d’accès autorisé avec un indicateur de relation (dans l’ex. à l’écran on a donc une collectivité qui est auteur d’une ressourc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econde méthode consiste, pour sa part, à rédiger une description structurée, saisie dans une zone de liaison, et de qualifier la relation en $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fin, la troisième méthode prévoit la rédaction d’une description non structurée, qui prend, alors, la forme d’un note en texte libre (par exemple, une note en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À présent, nous allons voir comment exprimer les relations dans les notices bibliographiques en utilisant le format MARC.</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00 et 110, et les zones 700 et 710, on peut utiliser le $e pour donner l’indicateur de relation, qu’on ajoute après le point d’accès autorisé.</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11 et 711, la sous-zone $e est déjà employée pour saisir le nom d’une collectivité subordonnée. Par conséquent, l’indicateur de relation ne peut pas est enregistré en $e, mais doit plutôt être donné en $j.</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a sous zone $i des zones 700 à 730 est également utilisée pour fournir de l’information sur la relation </a:t>
            </a:r>
            <a:r>
              <a:rPr b="0" lang="fr-FR" sz="1200" spc="-1" strike="noStrike">
                <a:solidFill>
                  <a:srgbClr val="000000"/>
                </a:solidFill>
                <a:latin typeface="Calibri"/>
              </a:rPr>
              <a:t>qui existe entre la ressource décrite dans la zone 7XX et celle décrite dans les zones 1XX et 245 de la notice. Il est possible de saisir des phrases non contrôlées en $i, mais dans le cadre de RDA et des options qu’on a décider d’appliquer, on doit s’en tenir, autant que possible, au phrase que l’on trouve dans l’annexe J (par exemple: « Traduction de »)</a:t>
            </a:r>
            <a:r>
              <a:rPr b="0" lang="fr-FR" sz="900" spc="-1" strike="noStrike">
                <a:solidFill>
                  <a:srgbClr val="000000"/>
                </a:solidFill>
                <a:latin typeface="Arial"/>
                <a:ea typeface="ＭＳ Ｐゴシック"/>
              </a:rPr>
              <a:t>.</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On peut également utiliser le $i au début des zones de liaison pour préciser la nature de la relation entre des ressources. </a:t>
            </a:r>
            <a:r>
              <a:rPr b="0" lang="fr-FR" sz="900" spc="-1" strike="noStrike" u="sng">
                <a:solidFill>
                  <a:srgbClr val="000000"/>
                </a:solidFill>
                <a:uFillTx/>
                <a:latin typeface="Arial"/>
                <a:ea typeface="ＭＳ Ｐゴシック"/>
              </a:rPr>
              <a:t>Sauf pour les zones 780 et 785</a:t>
            </a:r>
            <a:r>
              <a:rPr b="0" lang="fr-FR" sz="900" spc="-1" strike="noStrike">
                <a:solidFill>
                  <a:srgbClr val="000000"/>
                </a:solidFill>
                <a:latin typeface="Arial"/>
                <a:ea typeface="ＭＳ Ｐゴシック"/>
              </a:rPr>
              <a:t>, on emploie donc un indicateur de relation en $i, en s’assurant que </a:t>
            </a:r>
            <a:r>
              <a:rPr b="0" lang="fr-FR" sz="900" spc="-1" strike="noStrike">
                <a:solidFill>
                  <a:srgbClr val="000000"/>
                </a:solidFill>
                <a:latin typeface="Calibri"/>
              </a:rPr>
              <a:t>le second indicateur contient la valeur 8 (pour qu’aucune constante d’affichage soit générée).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e codage MARC peut également être utilisé pour exprimer une relation. Par exemple, dans les zone 780 et 785, le deuxième indicateur est employé pour générer une constante d’affichage (par ex., en 780, 0 = fait suite à ; 1= </a:t>
            </a:r>
            <a:r>
              <a:rPr b="0" lang="fr-FR" sz="900" spc="-1" strike="noStrike">
                <a:solidFill>
                  <a:srgbClr val="000000"/>
                </a:solidFill>
                <a:latin typeface="Calibri"/>
              </a:rPr>
              <a:t>Fait suite après scission à ; 2 = remplace, etc. ; tandis qu’en 785, vous avez les relations réciproques, donc 0 = Suivi de ; 1 = Suivi en partie de ; 2 = Remplacé par, etc.)</a:t>
            </a:r>
            <a:r>
              <a:rPr b="0" lang="fr-FR" sz="900" spc="-1" strike="noStrike">
                <a:solidFill>
                  <a:srgbClr val="000000"/>
                </a:solidFill>
                <a:latin typeface="Arial"/>
                <a:ea typeface="ＭＳ Ｐゴシック"/>
              </a:rPr>
              <a:t>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De la même façon, on peut utiliser la valeur 2 comme 2</a:t>
            </a:r>
            <a:r>
              <a:rPr b="0" lang="fr-FR" sz="900" spc="-1" strike="noStrike" baseline="30000">
                <a:solidFill>
                  <a:srgbClr val="000000"/>
                </a:solidFill>
                <a:latin typeface="Arial"/>
                <a:ea typeface="ＭＳ Ｐゴシック"/>
              </a:rPr>
              <a:t>ième</a:t>
            </a:r>
            <a:r>
              <a:rPr b="0" lang="fr-FR" sz="900" spc="-1" strike="noStrike">
                <a:solidFill>
                  <a:srgbClr val="000000"/>
                </a:solidFill>
                <a:latin typeface="Arial"/>
                <a:ea typeface="ＭＳ Ｐゴシック"/>
              </a:rPr>
              <a:t> indicateur, dans la zone 740, pour indiquer, par exemple, qu’une œuvre fait partie de la ressource que l’on catalogue (i.e. une relation tout-partie).</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Enfin, nous avons vu que le deuxième indicateur de la zone 264 permet de préciser si l’entité nommé en $b est un producteur, un éditeur, un distributeur ou un fabricant, donc on peut dire que ça vient également qualifier la relation entre la ressource et l’entité concernée.    </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Pour citer une ressource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comme on vient de le voir, les zones MARC 700, 710, 711, ou 73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forme du nom que l’on doit utiliser est la forme privilégiée telle qu’établi dans notre fichier d’autorité (en autant qu’il ne s’agisse pas d’une autorité RCAA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trouve pas de notice d’autorité déjà établie, on doit donner la forme RDA (et créer une autorité s’il y a lieu).</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il y a une exception à laquelle il faut porter attention: il ne faut pas utiliser les autorités RCAA2 qui contiennent le terme « multilingue » pi qui contiennent plus d’une langue dans la sous-zone $l pour désigner les expressions multiples contenues dans une même manifestation, puis que, comme on l’a vu au module 7, chaque expression doit avoir son point d’accè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Si on utilise une des zones de liaison pour citer une ressource en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Vous n’avez qu’à co</a:t>
            </a:r>
            <a:r>
              <a:rPr b="0" lang="fr-FR" sz="1200" spc="-1" strike="noStrike">
                <a:solidFill>
                  <a:srgbClr val="000000"/>
                </a:solidFill>
                <a:latin typeface="Calibri"/>
              </a:rPr>
              <a:t>pier/coller l’information telle qu’elle apparaît dans la notice de la ressource citée, puis ajouter le codage approprié pour les sous-zones. Il est évident que l’information que vous aller copier dans la zone de liaison ne suivra pas nécessairement les directives de RDA, notamment en ce qui à trait à la transcription (i.e. les abréviations, les majuscules, etc.). Ça ne vaut pas la peine, cependant, de prendre le temps de tout modifier en fonction de RDA (et ce, d’autant plus que vous n’aurez pas le document en main et que vous ne pourrez pas vérifier, par exemple, si le mot éd. a été abrégé par le catalogueur, où s’il apparaissait tel quel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nous attarder à la façon d’exprimer les relation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 fondamentales LC sont représentées da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zone 500 et dans la zone 663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51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s exemples vont vous être montrés plus tard dans le modu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optionnelles peuvent aussi être ajoutées dans la 5XX $w r $i (et ici aussi, nous avons des exemples à vous montrer plus tard pour vous donner une meilleure idée de comment il faut procéder).</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éléments fondamentaux LC sont identifiés dans le LC-PCC P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À présent, nous allons aborder la seconde partie du module, qui traite des relations entre les entités du Group 1 (les personnes, familles, et collectivités) et du Groupe 2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vous montre quels sont les chapitres qui correspondent aux relations que les entités du groupe 2 ont avec les ressources (et, comme nous l’avons vu, ces relations sont enregistrée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réateurs et autres personnes/familles/collectivités qui sont associées aux œuvres sont présentées au chapitre 19</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ontributeurs associés aux expressions sont présentées au chapitre 2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fabricants, les éditeurs, distributeurs associés aux manifestations sont présentées au chapitre 21</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ropriétaires, les annotateurs, les signataires autographes, etc., qui sont associés aux items sont couverts au chapitre 2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Arial"/>
                <a:ea typeface="Arial"/>
              </a:rPr>
              <a:t>Les relations entre les œuvres et les créa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personnes, familles, et collectivités associées aux œuvres comprennent: les auteurs, les compilateurs (e.g. les compilateurs de bibliographies), les cinéastes, les interviewers, les programmeurs etc. (la liste complète des indicateurs de relation pour les créateurs et les autres personnes associées aux œuvres sont donnés dans l’annexe I.2)</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LC-PCC-PS 19.2 nous dit que l’on doit obligatoirement donner le créateur ayant la responsabilité principale et qui est nommé en premier sur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créateurs associés à l’œuvre sont nommés, le catalogueur doit juger s’il est pertinent de donner des points d’accès pour les autres créateur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œuvre et le créateurs est exprimée à l’aide des zones 1XX (100, 110 ou la 111) lorsque l’on a une ressource par un seul créateur. Les zones 1XX sont aussi utilisées pour le premier créateur nommé d’une ressource qui a été créée par plus d’une créateur ayant la responsabilité principale (et les autres créateurs peuvent alors être mentionnés en 7XX, ainsi que les autres personnes ou collectivités associées à l’œuvre). La seule exception, comme on l’a vu au module 6, sont les compilations d’œuvres par plusieurs créateurs (car, on s’en rappelle, on ne donne pas de 1XX, mais des points d’accès 7xx pour chacune des œ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nnexe I.2 sont enregistrés dans la sous-zone $e de la zone 1XX ou 7XX. Une fois de plus, on vous rappelle qu’il ne s’agit pas d’une liste fermée. Si aucun des termes de la liste ne convient (ce qui devrait arrivé exceptionnellement), vous devez suivre une procédure pour que le terme puisse être ajouté à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éer une notice d’autorité pour un créateur, ne pas inclure l’indicateur de relation dans la zone 1XX de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bjectifs du module sont les suivant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rendre les principes de base propres aux relations da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dentifier les relations qui sont fondamentales dan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Établir des relations correctement dans les not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ur cette diapo, on vous montre des exemples de créateurs, auxquels on a ajouté un indicateur de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 premier exemple, deux collectivités qui remplissent le rôle de créateur sont données en 110 et 71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deux autres exemples montrent d’autres types de créateurs pour lesquels on trouve des indicateurs de relation à l’annexe I.2. Dans le premier cas, on a le compositeur d’une œuvre musicale, et dans le second, une juridiction qui a promulgué un acte ou un décret législatif.</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Hormis les créateurs, il y a d’autres personnes, familles ou collectivités qui peuvent être associées aux œuvres ; les instructions se rapportant à ces autres types de relation sont présentées sous 19.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vons donc ici l’exemple d’un organisme de publication—i.e. une collectivité qui publie une ressource à titre d’organe officiel de l’organisme — ainsi que l’exemple d’une collectivité agissant à titre de commandit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terme « contributeur » désigne, selon le chapitre 20 de RDA, « les personnes, les familles et les collectivités qui contribuent à la réalisation d’une œuvre dans une </a:t>
            </a:r>
            <a:r>
              <a:rPr b="0" lang="fr-FR" sz="1200" spc="-1" strike="noStrike" u="sng">
                <a:solidFill>
                  <a:srgbClr val="000000"/>
                </a:solidFill>
                <a:uFillTx/>
                <a:latin typeface="Arial"/>
                <a:ea typeface="ＭＳ Ｐゴシック"/>
              </a:rPr>
              <a:t>expression</a:t>
            </a:r>
            <a:r>
              <a:rPr b="0" lang="fr-FR" sz="1200" spc="-1" strike="noStrike">
                <a:solidFill>
                  <a:srgbClr val="000000"/>
                </a:solidFill>
                <a:latin typeface="Arial"/>
                <a:ea typeface="ＭＳ Ｐゴシック"/>
              </a:rPr>
              <a:t>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mi les types de relations impliquant les entités du groupe 2 et les expressions on trouve: les traducteurs, les éditeurs intellectuels, les interprètes, les illustrateurs, les arrangeurs de musique, les compilateurs (e.g. les compilateurs d’anthologie), etc. Pour les instructions relatives aux contributeurs, il faut consulter la section RDA 20.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mi les différents types de contributeurs couverts à la section 20.2, seul le </a:t>
            </a:r>
            <a:r>
              <a:rPr b="0" lang="fr-FR" sz="1200" spc="-1" strike="noStrike" u="sng">
                <a:solidFill>
                  <a:srgbClr val="000000"/>
                </a:solidFill>
                <a:uFillTx/>
                <a:latin typeface="Calibri"/>
              </a:rPr>
              <a:t>premier illustrateur d’une ressource pour enfants</a:t>
            </a:r>
            <a:r>
              <a:rPr b="0" lang="fr-FR" sz="1200" spc="-1" strike="noStrike">
                <a:solidFill>
                  <a:srgbClr val="000000"/>
                </a:solidFill>
                <a:latin typeface="Calibri"/>
              </a:rPr>
              <a:t> est considéré comme une relation fondamentale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illustrateurs sont nommés, le catalogueur doit juger s’il est pertinent de donner plus d’un illustrateu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ccès autorisé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nnexe I.3 – et, selon la politique LC seul l’indicateur de relation pour les illustrateurs de ressources destiné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est encore une fois le jugement du catalogueur qui va déterminer si on doit également donner l’indicateur de relation en plus du point d’accès (en terme général, si vous décidez d’ajouter un point d’accès pour un contributeur, il est logique de fournir également un indicateur de relation appropri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indicateur de relation dans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nous avons ici un exemple pour l’illustrateur d’un ressource pour enfants, une relation qui doit être obligatoirement être établi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Finalement, constatez que le $e illustrateur a été ajouté au nom privilégié en 700, ce qui est conforme au LC-PCC PS </a:t>
            </a:r>
            <a:r>
              <a:rPr b="0" lang="fr-FR" sz="1200" spc="-1" strike="noStrike" u="sng">
                <a:solidFill>
                  <a:srgbClr val="009999"/>
                </a:solidFill>
                <a:uFillTx/>
                <a:latin typeface="Arial"/>
                <a:ea typeface="ＭＳ Ｐゴシック"/>
                <a:hlinkClick r:id="rId1"/>
              </a:rPr>
              <a:t>20.2.1.3</a:t>
            </a:r>
            <a:r>
              <a:rPr b="0" lang="fr-FR" sz="1200" spc="-1" strike="noStrike" u="sng">
                <a:solidFill>
                  <a:srgbClr val="009999"/>
                </a:solidFill>
                <a:uFillTx/>
                <a:latin typeface="Arial"/>
                <a:ea typeface="ＭＳ Ｐゴシック"/>
                <a:hlinkClick r:id="rId2"/>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deuxième exemple, on voit un autre type de relation au niveau de l’expression qui, pour certains types de ressources, peut être jugé important par le catalogu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ici nous on a enregistré la relation pour le traducteur d’une œuvre littéraire en fournissant un point d’accès autorisé et un indicateur de relation. Encore une fois, on rappelle que l’ajout des indicateurs de relation « auteur » et « traducteur » est laissé au jugement du catalogueur.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llons à présent voir les relations entre les personnes, les familles et les collectivités qui sont associées aux manifestation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1 et l’annexe I.4 fournissent la liste des relations au niveau de la manifestation, ce qui comprend les producteurs, les éditeurs (à ne pas confondre ici avec les éditeurs intellectuels), les diffuseurs et les distributeurs, et, finalement, les fabricants (par exemple, les graveurs, les lithographes, les phototypeurs, les imprimeur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a politique LC, il revient au catalogueur de juger s’il est pertinent ou non d’enregistrer les relations au niveau de la manifestation.</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également qu’il n’y a pas de police RDA qui puisse s’objecter à l’usage d’un terme qui n’apparaît pas à l’Annexe I : en d’autres termes, comme la liste est ouverte, le terme « éditeur » pourrait, en théorie, être utilisé si, pour une raison quelconque, une institution croit qu’il serait utile de l’ajouter. C’est pourquoi il va falloir, je présume, que l’on prenne, nous-mêmes, une décision à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terminer, nous allons aborder les relations au niveau de l’item, c’est-à-dire des relations entre les personnes, les familles ou les collectivités, d’une part, et d’autre part, un exemplaire isolé </a:t>
            </a:r>
            <a:r>
              <a:rPr b="0" lang="fr-FR" sz="1200" spc="-1" strike="noStrike">
                <a:solidFill>
                  <a:srgbClr val="000000"/>
                </a:solidFill>
                <a:latin typeface="Calibri"/>
              </a:rPr>
              <a:t>manifestation quelcon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principaux indicateurs de relation qui sont employés pour ce niveau, sont « propriétaire », « dépositaire » et « conservateur », mais vous pouvez consulter l’annexe I.5 pour avoir la liste exhausti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olitique de LC, ici encore, est d’appliquer le jugement du catalogueur. Ce sont, en général, des relations que l’on indique plus rarement dans les notices bibliographiques, mais qui peuvent être jugés pertinentes dans le cas de collections spéciales ou de livres rares et ancien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conformément à ce que nous venons de voir, les relations exprimées dans les exemples suivants se rapportent à un exemplaire particulier ou à une instance de la manifestation. Par conséquent, ce sont des notes qui sont uniquement pertinentes au niveau local (par ex. qui est le donateur du document x conservé dans la collection y).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Les relations entre les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entre les ressources sont les relations qui existent entre les œuvres, les expressions, les manifestations et les i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épendant du type d’entités concernées, les relations doivent être établies dans les notices d’autorité, ou dans les notices bibliographiques et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our chacune des entités du groupe 1 sont traités dans des chapitres sépar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5 parle des Œuvre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6 parle des Expression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7, des Manifestation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 chapitre 28, des items en re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5 traite des relations entre les œuvr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types les plus communs de relation entre les œuvre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tout-partie (par ex., les œuvres qui sont comprises à l’intérieur d’une compilation, d’une anthologie, d’un recueil, etc. ; les articles publiés dans d’une revue ou dans les actes d’un colloque, voire même les chapitres d’un livre, si on considère que chaque chapitre est une œuv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adaptations (par ex., l’adaptation cinématographique d’une œuvre littéraire ; une adaptation en prose d’une chanson de geste, un roman classique adapté pour les lecteurs de 12 à 16 ans, etc.)</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suppléments (par ex. un guide pédagogique ou un corrigé qui accompagne un manuel scolai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séquentielles (par ex., les relations « précédé de » ou « suivi de », employées souvent pour les périodiques; les romans qui ont des suites ou des antépisodes, etc.).</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LC considère comme fondamentales deux types précis de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œuvres qui font partie d’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relations sont optionnel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tout d’abord les relations tout-partie pour les compila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indique que l’on doit créer une note de dépouillement (en 505) sauf si les titres apparaissent ailleurs dans la description (par exemple dans le titre parce que la compilation n’a pas de titre collectif) ou que le nombre d’œuvres comprises est trop grand et exigerait, par conséquent, une note 505 d’une longueur exagér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 plus du dépouillement, la politique LC exige que l’on donne au moins un point d’accès analytique autorisé en 7XX.  Le catalogueur doit alors juger s’il est nécessaire ou pertinent de donner d’autres œuvres comme points d’accès autorisé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 plus, l’énoncé de politique de LC sous 25.1 demande de ne pas créer de points d’accès analytiques autorisés pour certains types de ressources: notamment, pour les anthologies de poésie, les actes de colloque, les livres de cantiques, les périodiques, les recueils d’entrevues ou de lettre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PS 25.1 on 7XX</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des points d’accès autorisés sont utilisés pour représenter la relation entre les parties (donc, chacune des deux pièces individuelles de Molière) et la ressource comme tout. Étant donné que l’indicateur #2 indique déjà qu’il s’agit d’un point d’accès analytique, LC juge que le codage suffit à exprimer la relation: c’est pourquoi ils ont décidé de ne pas utiliser d’indicateurs de relation provenant de l’Annexe J. Cela dit, le PCC n’est pas d’accord avec cette position, étant donné que l’indicateur ne fait qu’indiquer que la chose représentée par le point d’accès est contenu dans la compilation, sans préciser s’il s’agit d’une œuvre ou d’une expression. Il va falloir que nous prenions, par conséquent, une décision sur le sujet, et qu’on s’enligne soit avec LC ou avec le PCC.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ant aux relations séquentielles, vous avez à l’écran le cas de deux périodiques où l’un est la continuation de l’autre. Dans l’exemple précédent, on avait utilisé des points d’accès autorisés ; ici, on emploie plutôt des descriptions structurées qui contiennent chacune, en plus du titre, 3 identifiants: l’ISSN, le numéro de contrôle de la notice LC, et le numéro de contrôle de la notice OCL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cas aussi, les indicateurs des zones de liaison 780 et 785, sont utilisés puisque les points d’accès autorisés saisis dans ces zones ne peuvent représenter que des œuvres, et qu’il n’y a donc pas risque de confusion.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à présent traiter des relations entre expressions, qui sont traitées au chapitre 26 de RDA.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aussi, on a établi une liste des relations les plus communes au niveau des express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tout-partie (e.g. si ouvrage agrégatif contient plusieurs œuvres sous forme de traductio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dérivativ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Révis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Édi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Tra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brégés, etc. (= abridgem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deux objectifs de base, selon lesquels RDA est structuré, sont de faciliter l’identification des ressources et de permettre d’établir des relations entre les différentes entités représentées au catalogu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modules que nous vous avons présentés jusqu’à maintenant permettaient de remplir le premier de ces objectifs, soit identifier les œuvres, les expression, les manifestations, les items, les personnes, les collectivités, les familles et les lieux à partir de leurs attributs respectif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À présent nous allons voir comment remplir le second objectif en liant entre elles les entités du groupe 1 et 2.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 premier lieu, nous devons comprendre ce que sont les relations au sens où RDA l’entend. Les entités que nous identifions en cataloguant — les ressources, les personnes, les collectivités, etc. — sont associées les unes avec les autres (RDA découlant, comme on s’en rappelle, d’un modèle entités-relations). Les relations RDA correspondent donc aux liens qui sont établis conceptuellement par les modèles FRBR et FRAD entre les entité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vec les RCAA2, nous étions déjà familiers avec l’idée que les auteurs sont en relation avec les œuvres qu’ils ont écrits ; de même, nous exprimions déjà des relations en utilisant des zones de liaison pour indiquer qu’un périodique changeait de titre, ou pour relier les versions papier et électronique d’une même ressourc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la signifie, en somme, qu’on reliait déjà des entités entre elles, bien qu’à présent les relations </a:t>
            </a:r>
            <a:r>
              <a:rPr b="0" lang="fr-FR" sz="1000" spc="-1" strike="noStrike">
                <a:solidFill>
                  <a:srgbClr val="000000"/>
                </a:solidFill>
                <a:latin typeface="Calibri"/>
              </a:rPr>
              <a:t>jouent un rôle beaucoup plus important, pour ne pas dire crucial, dans la structure de la RDA.</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xprimer des relations dans les notices bibliographiques et les notices d’autorité permet donc aux usagers de trouver ce qu’il recherchent et facilite la navigation à l’intérieur de notre catalogue et dans nos produits bibliographiques.</a:t>
            </a:r>
            <a:endParaRPr b="0" lang="en-US" sz="10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énoncé de politique LC qui correspond à l’instruction 26.1 indique que pour les expressions, LC considère comme fondament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expressions qui sont comprises dans une compilation (la politique pour les œuvres comprises dans une compilation est la même que pour les œuvres comprises dans une compil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insi qu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 (par ex. un changement de titre qui affecte la version française d’un périodique russ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illustrer le type de relations que nous allons établir au niveau des expressions, nous avons préparé quelques exe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orsqu’une publication en série est éditée en plusieurs langues, chacune des versions constitue une expression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xemple à l’écran, on a donc utilisé une description structurée enregistrée dans la zone de liaison 775 pour exprimer la relation entre la version originale en espagnol et la version en anglais. La relation réciproque doit également apparaître dans la notice bibliographique pour la version espagno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à pré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érents formats d’une même expression (par ex. un enregistrement sonore gravé sur vinyle ou sur CD, un livre imprimé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éros spéciaux de pé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énoncé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éciser que le terme « reproduction » est employé, dans RDA, dans un sens très large ; par reproduction on désigne donc toutes les ressources identifiées comme rééditions, réimpressions, reproductions et facsimilés, en autant que la nouvelle manifestation présente un contenu équivalent à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éditions révisées, quant à elles, constituent une nouvelle expression et, par conséquent, elle ne peuvent pas être traité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Tout comme pour œuvres en relation et les expressions en relations, RDA nous permet d’utiliser une description structurée (en utilisant les zones de liaison 775 ou 776) ou de rédiger une note non structurée en 500, pour exprimer la relation. Remarquez cependant qu’au niveau de la manifestation, on ne peut pas utiliser un point d’accès autorisé pour indiquer une relation (vous n’aurez donc pas à créer d’autorités pour les manifestation). (Cela pourrait toutefois changer quand nous passerons à un niveau d’implantation plus avancé, où chaque entité du groupe 1 seront cataloguées dans des notices séparées). </a:t>
            </a: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Sauf pour les reproductions (qui sont des relations fondamentales LC), c’est essentiellement le catalogueur qui devra juger s’il est pertinent d’indiquer des relations supplémentaires au niveau de la manifestation ; aussi, le catalogueur devra décider s’il pertinent d’utiliser les indicateurs de relation de l’annexe J.4 dans la sous-zone $i (et ce, bien sûr, à moins que le codage MARC n’exprime déjà la relatio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voici un exemple de manifestations en relation où un même contenu, exprimé dans la même langue, est présenté dans deux format différent: en format imprimé et sur CD-ROM. L’indicateur de relation saisi en $i provient de la liste des relations entre manifestations équivalentes, disponible sous J.4.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façon générale, LC a décidé d’employer une description structurée en 775 ou en 776, </a:t>
            </a:r>
            <a:r>
              <a:rPr b="0" lang="fr-FR" sz="1200" spc="-1" strike="noStrike" u="sng">
                <a:solidFill>
                  <a:srgbClr val="000000"/>
                </a:solidFill>
                <a:uFillTx/>
                <a:latin typeface="Arial"/>
                <a:ea typeface="Arial"/>
              </a:rPr>
              <a:t>et c’est également ce que nous allons faire</a:t>
            </a:r>
            <a:r>
              <a:rPr b="0" lang="fr-FR" sz="1200" spc="-1" strike="noStrike">
                <a:solidFill>
                  <a:srgbClr val="000000"/>
                </a:solidFill>
                <a:latin typeface="Arial"/>
                <a:ea typeface="Arial"/>
              </a:rPr>
              <a:t>. Vous devez choisir la zone 775 quand le support de la ressource est le même (par ex., la réimpression d’un ouvrage qui, à l’origine, était publié sous forme imprimée – support = volume dans les deux ca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n emploie la zone 776 lorsque le support est différent (par exemple, une monographie publiée en deux formats différents, imprimé et électroniqu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a zone de liaison, vous devez retranscrire l’information telle qu’elle apparaît dans la notice bibliographique de la manifestation originale, sans mettre à jour les données. Par conséquent, si la notice originale a été créée en RCAA2, vous ne modifiez pas les données selon RDA. (copier-coll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l n’y pas de notice bibliographique ou de description détaillée de la manifestation qui sont disponibles, rédigez plutôt une note non structurée dans la zone MARC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par contre, la reproduction est une compilation (par ex., si vous traitez la réimpression ou la réédition d’une compi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créer une zone de liaison MARC 775 ou 776 pour chaque œuvre/expression de la compilation, e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rédiger une note non structurée pour donner l’historique de l’édition de chaque œuvre/expression de la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devez donc seulement vous contenter d’exprimer la relation entre les deux compilations, sans se préoccuper des relations au niveau analytique.</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établir une relation, nous avons besoin de deux éléments:</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Tout d’abord ils nous faut des entités qui vont mises en relations (et comme je viens de le mentionner nous parlons ici des entités FRBR).</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Une entité peut être identifiée de diverses manières: soit à l’aide d’un point d’accès autorisé (ce que l’on appelait auparavant des vedettes), soit à l’aide d’un identifiant (tel qu’un ISSN, un ISBN ou un URI), ou d’une description (qui est donnée sous la forme d’une note).</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suite, on doit préciser — et c’est le second élément dont on a besoin — quel est le type de relation qui unit les entités mises en relation, ce que l’on effectue à l’aide d’indicateurs de relation (i.e. un terme qui nous indique ce qu’est la relation, ou quel est le rôle joué par une personne, une collectivité ou une famille vis-à-vis d’un ressource quelconque, que ce soit au niveau de l’œuvre, de l’expression, de la manifestation, ou de l’item).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fin, nous allons voir le dernier type de relation entre ressources, soit les relations entre item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tems en relation sont traités au chapitre 28, et les principaux types de relations entre item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productions de copies spécif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 reliés ave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items s’appliquent uniquement à des copies individuelles de la manifestation ; c’est donc, habituellement, de l’information loc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elon le LC-PCC PS, les relations fondamentales LC (qui sont également fondamentales BAnQ) comprenne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articulières entre les ressources ra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 reliés avec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 l’enregistrement des relations entre items, on procède de la même façon que pour les manifestations, i.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on utilise une zone de liaison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u une note non structurée  pour exprimer la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tout comme pour les manifestations, on ne crée pas de point d’accès autorisé pour représenter un ite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s autres relations au niveau de l’item, on laisse au jugement du catalogueur la décision d’établir la relation. Aussi, on laisse au catalogueur la décision d’employer les indicateurs de relation de l’annexe J.5 (surtout pour les relations qui ne sont pas fondamentales : e.g., «commentaire sur», « analyse de », « contenu dans », et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traiter du dernier bloc de relations couvert dans le module: soit les relations entre les personnes, les familles, et les collectivités (ou, si l’on préfère, les relations entre les entités du groupe 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chose à souligner, c’est que dans le cas des entités du groupe 2, les relations vont être enregistrée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la section qui vient est importante, peu importe que l’on crée ou non des autorités, parce qu’il faut comprendre les relations pour pouvoir choisir la bonne forme autorisée lorsqu’on établit des points d’accès dans les notices bibliographique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pour les instructions traitant des personnes en relation, il faut consulter le chapitre 3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familles en relation, il faut consulter le chapitre 31, 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collectivités en relation, il faut consulter le chapitre 3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jugées fondamentales par LC se limitent à deux types de relat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remièrement,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uxièmement, les collectivités qui précèdent ou succèdent immédiatement une collectivité donn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t>
            </a:r>
            <a:r>
              <a:rPr b="0" lang="fr-FR" sz="1200" spc="-1" strike="noStrike" u="sng">
                <a:solidFill>
                  <a:srgbClr val="000000"/>
                </a:solidFill>
                <a:uFillTx/>
                <a:latin typeface="Arial"/>
                <a:ea typeface="ＭＳ Ｐゴシック"/>
              </a:rPr>
              <a:t>il faut cependant spécifier que l’on ne doit pas établir de relations séquentielles pour les congrès, les conférences, les expositions, etc., ; donc on n’établit ces relations que pour les collectivités « ordinaires »</a:t>
            </a:r>
            <a:r>
              <a:rPr b="0" lang="fr-FR" sz="1200" spc="-1" strike="noStrike">
                <a:solidFill>
                  <a:srgbClr val="000000"/>
                </a:solidFill>
                <a:latin typeface="Arial"/>
                <a:ea typeface="ＭＳ Ｐゴシック"/>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s notices d’autorités, les relations entre les entités du groupe 2 sont enregistrées dans les zones 5XX d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format MARC pour les données d’autorité permet d’exprimer les relations de diverses façons (en employant une valeur en $w, en utilisant un indicateur de relation en $i ou en utilisant un code pour la relation, en $4).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a décidé d’employer la sous-zone $w, plutôt que le $i ou le $4, pour enregistrer:</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différentes identités d’une personne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séquentielles immédiates pour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on n’utilisera pas le $w pour les différentes identités d’une personne, mais on va l’employer pour les collectivités qui précèdent ou succèdent. Alors dans les diapos qui suivent, on va vous montrer ce que nous allons faire plus spécifiquement.</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premièrement, la politique LC en ce a trait aux relations entre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s sous deux identités, LC va donner la première identité en 100, et la seconde en 500 sans utiliser de codag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 sous 3 identités ou plus de 3 identités, alors LC va utiliser la zone 663 (i.e. la zone pour les </a:t>
            </a:r>
            <a:r>
              <a:rPr b="1" lang="fr-FR" sz="1200" spc="-1" strike="noStrike">
                <a:solidFill>
                  <a:srgbClr val="000000"/>
                </a:solidFill>
                <a:latin typeface="Arial"/>
                <a:ea typeface="ＭＳ Ｐゴシック"/>
              </a:rPr>
              <a:t>r</a:t>
            </a:r>
            <a:r>
              <a:rPr b="1" lang="fr-FR" sz="1200" spc="-1" strike="noStrike">
                <a:solidFill>
                  <a:srgbClr val="000000"/>
                </a:solidFill>
                <a:latin typeface="Calibri"/>
              </a:rPr>
              <a:t>envois complexes de vedettes de nom</a:t>
            </a:r>
            <a:r>
              <a:rPr b="0" lang="fr-FR" sz="1200" spc="-1" strike="noStrike">
                <a:solidFill>
                  <a:srgbClr val="000000"/>
                </a:solidFill>
                <a:latin typeface="Calibri"/>
              </a:rPr>
              <a:t>)</a:t>
            </a:r>
            <a:r>
              <a:rPr b="1" lang="fr-FR" sz="1200" spc="-1" strike="noStrike">
                <a:solidFill>
                  <a:srgbClr val="000000"/>
                </a:solidFill>
                <a:latin typeface="Calibri"/>
              </a:rPr>
              <a:t> </a:t>
            </a:r>
            <a:r>
              <a:rPr b="0" lang="fr-FR" sz="1200" spc="-1" strike="noStrike">
                <a:solidFill>
                  <a:srgbClr val="000000"/>
                </a:solidFill>
                <a:latin typeface="Arial"/>
                <a:ea typeface="ＭＳ Ｐゴシック"/>
              </a:rPr>
              <a:t>avec la zone 500 codée avec la valeur «nnnc» en $w.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 on vient de le mentionner — on va employer des zone 500 sans codage, peu importe le nombre d’identités associées à une personne, mais on va cependant utiliser la zone 663, comme on l’a vu lors de la dernière réunion de catalogage (et, pour ceux qui sont peut-être moins familiers avec la zone 663,  on a également inclus des exemples dans les diapos suivantes, pour montrer concrètement comment la zone est utilisée).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pour le premier exemple, on a choisi un créateur connu sous deux identités: Émile Coderre, alias Jean Narrache. </a:t>
            </a:r>
            <a:endParaRPr b="0" lang="en-US" sz="12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comme nous venons de le dire, pour deux identités, on se contente de donner la seconde identité en 500, sans utiliser de codage supplémentaire et sans utiliser la zone 66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donc voir ensemble trois ensembles ou groupes de relations, soit :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les œuvres, les expressions, les manifestations et les items) et les entités du groupe 2 (i.e. les personnes, les familles et les collectivité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i.e. entre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2 (i.e. entre les personnes, les familles et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 </a:t>
            </a: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en ce qui concerne les collectivités en relation, nous allons faire exactement comme LC, i.e. que nous allons indiquer la relation en employant dans la zone 510 soi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valeur « a » en $w pour indiquer qu’il s’agit de la collectivité qui précède immédiatemen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U la valeur « b » pour indiquer qu’il s’agit de la collectivité qui succède immédiate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dans le premier exemple, on voit que le Canadien Pacifique était antérieurement la Compagnie du chemin de fer canadien du Pacifique, et le second exemple donne la relation réciproque (i.e. la Compagnie du chemin de fer canadien du Pacifique est devenue le Canadien Pacifiqu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ce qui est des autres relations qui existent entre les entités du groupe 2, LC laisse au jugement du catalogueur la décision de les indiquer ou non dans les notices d’autorités. Pour l’instant nous avons la même politique, donc c’est à vous de voir si une relation mérite ou non d’être exprimer dans la notic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ussi, le catalogueur doit juger s’il est pertinent ou non de saisir en $i un indicateur de relation issu de l’annexe K pour préciser quelle est la relation entre les deux ent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vous décidez d’employer un indicateur de relation en $i, il faut OBLIGATOIREMENT saisir la valeur « r » dans la sous-zone $w (r = relationship)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ésente deux exemples pour vous montrer comment procé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utorité pour Charles Tisseyre, on a décidé d’é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indicateur de relation en $i (« Employeur »), et on donne en $a le nom de l’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hacun de ces groupes de relation sont traités dans des sections précises de RDA:</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instructions concernant les relations entre les entités du groupe 1 et du groupe 2 sont données aux chapitres 18 à 22, et les indicateurs de relation qui s’y rapportent se trouvent à l’annexe I</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1 sont traitées aux chapitres 24 à 28, et les indicateurs de relation se trouvent à l’annexe J</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et finalemen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2 (i.e. les personnes, les familles et les collectivités) sont couvertes du chapitre 29 à 32, et les indicateurs de relation sont à l’annexe K.</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Je rappelle que les indicateurs de relation sont des termes utilisés pour qualifier la relation entre les entités qui sont représentées, elles, à l’aide d’un point d’accès autorisé, d’une description ou d’un identifiant. On peut utiliser les indicateurs de relation tels qu’on les trouvent dans les annexes, en conjonction avec un point d’accès ou au début d’une note structurée ; sinon des codes MARC, ou les indicateurs de certaines zones, peuvent être employés pour qualifier la rela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ussi, concernant les différents types d’indicateurs de relation:</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qu’on trouve à l’annexe I peuvent seulement être utilisés dans les notices bibliographiques (par ex., l’indicateur de relation « auteur » peut être utilisé pour indiquer que Jean Barbe est le créateur du Travail de l’huître, une ressource textuell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de l’annexe J, peuvent être utilisés dans les notices bibliographiques et dans les notices d’autorités (par ex.: l’indicateur de relation « adaptation filmique de » peut être utiliser pour qualifier la relation entre un roman et son adaptation au cinéma, e.g. la Reine Margo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fin, ceux de l’annexe K sont seulement utilisés dans les notices d’autorités, avec ce que l’on appelait, dans les RCAA2, les renvois « vois aussi ». On peut donc, par exemple, employer l’indicateur de relation « identité réelle » pour donner en 500 le nom véritable de George Eliot, dans la notice d’autorité de Mary Ann Evan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vous avez une copie d’écran de l’annexe I, où on voit comment sont présentées les listes d’indicateurs de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elon les besoins de l’agence bibliographique et le contexte de la ressource, RDA permet d’utiliser les indicateurs a un niveau générique ou spécifique. Par exemple, RDA permet d’utiliser le terme artiste ou sculpteur pour qualifier le nom du créateur d’une œuvre tridimensionnelle. Cependant, dans le contexte des notices que nous produisons à BAnQ, on devrait employer le terme le plus précis possible. Dans un point d’accès autorisé pour une personne, une collectivité ou une famille, l’indicateur de relation est saisi en $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voir plusieurs exemples, plus tard, dans la formation d’aujourd’hui.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B649AA-0671-41D1-B895-5F505B34C0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85343C-8D03-4EA2-888B-F23CE1816B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402992-204A-4BC8-9840-E0E71CEC40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8BFC2B-B3C0-4539-BFD9-408AAC9877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6577BD-8983-426B-9CA5-B7985CEAB9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67CBCD-1174-4F26-8447-DDA12EC549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F7D624-CB2D-44BE-BE2F-2A15B3ADBC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D77DDE-FABC-4E80-988A-663269D86D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F9693B-AFA2-48F4-8DE0-09DC2A0A5F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27AB63-A82A-44BB-BA15-E0D457F953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C2620C-39D7-442F-8775-4F6C7B1293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397E0F-76F3-4299-A7DF-1B21955F7F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EC6AC7A5-4C94-4791-BC2E-3C6D3F5687A6}"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008093"/>
                </a:solidFill>
                <a:latin typeface="Courier New"/>
              </a:rPr>
              <a:t>$e auteur</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7D29E9-5F5E-4E67-8BAC-FC27C735D9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FA9A5B-15C1-4BDB-AD32-A7BD9736B7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zones MARC </a:t>
            </a:r>
            <a:r>
              <a:rPr b="0" lang="en-US" sz="2800" spc="-1" strike="noStrike">
                <a:solidFill>
                  <a:srgbClr val="008093"/>
                </a:solidFill>
                <a:latin typeface="Arial"/>
              </a:rPr>
              <a:t>700-730</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forme acceptée selon la notice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on ne trouve pas d’autorité déjà établie, donner la forme RDA (créer une autorité s’il y a lieu)</a:t>
            </a:r>
            <a:endParaRPr b="0" lang="en-US" sz="2800" spc="-1" strike="noStrike">
              <a:solidFill>
                <a:srgbClr val="000000"/>
              </a:solidFill>
              <a:latin typeface="Arial"/>
            </a:endParaRPr>
          </a:p>
        </p:txBody>
      </p:sp>
      <p:sp>
        <p:nvSpPr>
          <p:cNvPr id="73" name=""/>
          <p:cNvSpPr/>
          <p:nvPr/>
        </p:nvSpPr>
        <p:spPr>
          <a:xfrm>
            <a:off x="914400" y="4648320"/>
            <a:ext cx="7848720" cy="1434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u="sng">
                <a:solidFill>
                  <a:srgbClr val="000000"/>
                </a:solidFill>
                <a:uFillTx/>
                <a:latin typeface="Arial"/>
              </a:rPr>
              <a:t>Exception</a:t>
            </a:r>
            <a:r>
              <a:rPr b="0" lang="en-US" sz="2200" spc="-1" strike="noStrike">
                <a:solidFill>
                  <a:srgbClr val="000000"/>
                </a:solidFill>
                <a:latin typeface="Arial"/>
              </a:rPr>
              <a:t> : Ne pas utiliser les autorités RCAA2 qui contiennent le terme « </a:t>
            </a:r>
            <a:r>
              <a:rPr b="0" lang="en-US" sz="2200" spc="-1" strike="noStrike">
                <a:solidFill>
                  <a:srgbClr val="000000"/>
                </a:solidFill>
                <a:latin typeface="Verdana"/>
              </a:rPr>
              <a:t>Multilingue »</a:t>
            </a:r>
            <a:r>
              <a:rPr b="0" lang="en-US" sz="2200" spc="-1" strike="noStrike">
                <a:solidFill>
                  <a:srgbClr val="000000"/>
                </a:solidFill>
                <a:latin typeface="Arial"/>
              </a:rPr>
              <a:t> ou plus d’une langue dans la sous-zone $l pour désigner les expressions multiples contenues dans une même manifestation</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FAF98A81-5E3F-46A1-BB2B-55D0A77BC8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zones de liaison</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zones MARC </a:t>
            </a:r>
            <a:r>
              <a:rPr b="0" lang="fr-CA" sz="2800" spc="-1" strike="noStrike">
                <a:solidFill>
                  <a:srgbClr val="008093"/>
                </a:solidFill>
                <a:latin typeface="Arial"/>
              </a:rPr>
              <a:t>760-787</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pier/coller l’information à partir de la notice de la ressource citée et ajouter le codage approprié pour les sous-zones</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emple, titre copié du 245 $a de la notice pour la ressource en re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76 08 $i Reproduction de (manifestation) : $t </a:t>
            </a:r>
            <a:r>
              <a:rPr b="0" lang="fr-CA" sz="2400" spc="-1" strike="noStrike">
                <a:solidFill>
                  <a:srgbClr val="008093"/>
                </a:solidFill>
                <a:latin typeface="Arial"/>
              </a:rPr>
              <a:t>10 ans de Belle et Bum</a:t>
            </a:r>
            <a:r>
              <a:rPr b="0" lang="fr-CA" sz="2400" spc="-1" strike="noStrike">
                <a:solidFill>
                  <a:srgbClr val="000000"/>
                </a:solidFill>
                <a:latin typeface="Arial"/>
              </a:rPr>
              <a:t> $w (CaQMBN)000430252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6C836A-0709-4081-9B86-9D17DE9127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177815-C0FA-4DA9-835D-5E2EE2AE12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éléments fondamentaux LC sont indiqués dans le LC-PCC P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B6F47A-1581-4009-A6A5-E6733F15F4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265BFA-BEEE-4362-B42F-F99D4DC776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F52491-2D7F-4E68-B724-A85ABD3901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généralement créer un point d’accès pour tous les créateurs avec responsabilité principale; pour les autres créateurs, le catalogueur juge s’il est pertinent de donner des points d’accès supplémentai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F379AC-7F4B-4CBE-9EFA-EA6A4B5CBF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8DF484-0F07-4E4A-A843-53B1CA9302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5A2814-EF1F-4535-B6D5-9A298CE5BF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89" name=""/>
          <p:cNvSpPr/>
          <p:nvPr/>
        </p:nvSpPr>
        <p:spPr>
          <a:xfrm>
            <a:off x="654120" y="1616040"/>
            <a:ext cx="810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Société Alzheimer de Québec </a:t>
            </a:r>
            <a:r>
              <a:rPr b="1" lang="en-US" sz="2400" spc="-1" strike="noStrike">
                <a:solidFill>
                  <a:srgbClr val="008093"/>
                </a:solidFill>
                <a:latin typeface="Courier New"/>
                <a:ea typeface="Courier New"/>
              </a:rPr>
              <a:t>$e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710 $a Entraide du Faubourg </a:t>
            </a:r>
            <a:r>
              <a:rPr b="1" lang="en-US" sz="2400" spc="-1" strike="noStrike">
                <a:solidFill>
                  <a:srgbClr val="008093"/>
                </a:solidFill>
                <a:latin typeface="Courier New"/>
                <a:ea typeface="Courier New"/>
              </a:rPr>
              <a:t>$e auteur</a:t>
            </a:r>
            <a:endParaRPr b="1" lang="en-US" sz="2400" spc="-1" strike="noStrike">
              <a:solidFill>
                <a:srgbClr val="000000"/>
              </a:solidFill>
              <a:latin typeface="Arial Unicode MS"/>
            </a:endParaRPr>
          </a:p>
        </p:txBody>
      </p:sp>
      <p:sp>
        <p:nvSpPr>
          <p:cNvPr id="90" name=""/>
          <p:cNvSpPr/>
          <p:nvPr/>
        </p:nvSpPr>
        <p:spPr>
          <a:xfrm>
            <a:off x="654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endParaRPr b="1" lang="en-US" sz="2400" spc="-1" strike="noStrike">
              <a:solidFill>
                <a:srgbClr val="000000"/>
              </a:solidFill>
              <a:latin typeface="Arial Unicode MS"/>
            </a:endParaRPr>
          </a:p>
        </p:txBody>
      </p:sp>
      <p:sp>
        <p:nvSpPr>
          <p:cNvPr id="91" name=""/>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7048F06-D29C-4431-B8AC-DBB0DF3A18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94" name=""/>
          <p:cNvSpPr/>
          <p:nvPr/>
        </p:nvSpPr>
        <p:spPr>
          <a:xfrm>
            <a:off x="423720" y="2200320"/>
            <a:ext cx="84600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95" name=""/>
          <p:cNvSpPr/>
          <p:nvPr/>
        </p:nvSpPr>
        <p:spPr>
          <a:xfrm>
            <a:off x="423720" y="4159080"/>
            <a:ext cx="8460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AACF9028-EE15-49EC-BCF3-BD244D95DF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86D0DB-CF9E-459C-B88E-8F9CC7EBB1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a:t>
            </a:r>
            <a:r>
              <a:rPr b="0" lang="en-US" sz="2800" spc="-1" strike="noStrike">
                <a:solidFill>
                  <a:srgbClr val="000000"/>
                </a:solidFill>
                <a:latin typeface="Arial"/>
              </a:rPr>
              <a:t> :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F6EB3E-A57F-4197-914B-E086EEE2CB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72CA1B-2C91-47D9-B9DF-8E5A34DB9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3" name=""/>
          <p:cNvSpPr/>
          <p:nvPr/>
        </p:nvSpPr>
        <p:spPr>
          <a:xfrm>
            <a:off x="654120" y="1827360"/>
            <a:ext cx="8032680" cy="302004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104" name=""/>
          <p:cNvSpPr/>
          <p:nvPr/>
        </p:nvSpPr>
        <p:spPr>
          <a:xfrm>
            <a:off x="654120" y="504180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216D3979-77A4-4B8A-9475-1231070B16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6"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a:t>
            </a: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07" name=""/>
          <p:cNvSpPr/>
          <p:nvPr/>
        </p:nvSpPr>
        <p:spPr>
          <a:xfrm>
            <a:off x="838080" y="4903920"/>
            <a:ext cx="7848720" cy="14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Note : </a:t>
            </a:r>
            <a:endParaRPr b="1" lang="en-US" sz="22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La 2e mention de responsabilité n’est pas un élément fondamental ; de plus, il n’est pas nécessaire de justifier la zone 700</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19BEE303-8E80-4BB9-A747-06DFB21ACB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987F93-BFC9-4063-93CF-1B1E0280C7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06FEAA-E91A-4915-9011-085E0A6092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C896B9-4EA6-4451-B074-C838D474C5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00A58A-BF49-4C94-A29D-80B0C9AAED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15" name=""/>
          <p:cNvSpPr/>
          <p:nvPr/>
        </p:nvSpPr>
        <p:spPr>
          <a:xfrm>
            <a:off x="923760" y="2698920"/>
            <a:ext cx="7066080" cy="20739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0000"/>
                </a:solidFill>
                <a:latin typeface="Courier New"/>
              </a:rPr>
              <a:t>595 $a L’exemplaire de conservation est dédicacé par l’auteur sur la page de titre</a:t>
            </a:r>
            <a:endParaRPr b="1" lang="en-US" sz="26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8093"/>
                </a:solidFill>
                <a:latin typeface="Courier New"/>
              </a:rPr>
              <a:t>700 $a Laberge, Marie, $d 1950- $e dédicateur</a:t>
            </a:r>
            <a:endParaRPr b="1" lang="en-US" sz="2600" spc="-1" strike="noStrike">
              <a:solidFill>
                <a:srgbClr val="000000"/>
              </a:solidFill>
              <a:latin typeface="Arial Unicode MS"/>
            </a:endParaRPr>
          </a:p>
        </p:txBody>
      </p:sp>
      <p:sp>
        <p:nvSpPr>
          <p:cNvPr id="3" name="PlaceHolder 2"/>
          <p:cNvSpPr>
            <a:spLocks noGrp="1"/>
          </p:cNvSpPr>
          <p:nvPr>
            <p:ph type="sldNum" idx="2"/>
          </p:nvPr>
        </p:nvSpPr>
        <p:spPr/>
        <p:txBody>
          <a:bodyPr/>
          <a:p>
            <a:fld id="{E25E39D9-ED1D-4EBF-A4EE-95DC2456A9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B5CFA7-556F-4491-94CD-A4FEC78991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8E6EDF-BF50-4877-864D-CEC0E74889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Œuvres comprises dans une compilation</a:t>
            </a:r>
            <a:endParaRPr b="0" lang="en-US" sz="22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pitres d’un livre</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17D99E-2C06-4C91-A9EF-9627908AF3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œuvres</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5.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œuvr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œuvres comprises dans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054276-30AB-40A9-85A1-C75475E831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établir aussi des points d’accès analytiques autorisé dans des zones MARC 7XX ; sauf si le nombre d’œuvres est excessif</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nalytiques autorisé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E3D438-6B30-4307-9903-4F4B6027BC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28"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812B30F-1CBC-4D56-BB87-25FB9B4E1B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lation séquentielle  </a:t>
            </a:r>
            <a:br>
              <a:rPr sz="2800"/>
            </a:br>
            <a:r>
              <a:rPr b="1" lang="en-US" sz="2800" spc="-1" strike="noStrike">
                <a:solidFill>
                  <a:srgbClr val="ffffff"/>
                </a:solidFill>
                <a:latin typeface="Arial"/>
              </a:rPr>
              <a:t>(publications en séri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8093"/>
                </a:solidFill>
                <a:latin typeface="Arial"/>
              </a:rPr>
              <a:t>Descriptions structurées avec identifiant :</a:t>
            </a:r>
            <a:endParaRPr b="0" lang="en-US" sz="27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a TVQ et la TPS/TVH</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0 00 </a:t>
            </a:r>
            <a:r>
              <a:rPr b="1" lang="fr-CA" sz="2200" spc="-1" strike="noStrike">
                <a:solidFill>
                  <a:srgbClr val="000000"/>
                </a:solidFill>
                <a:latin typeface="Courier New"/>
              </a:rPr>
              <a:t>$t Aide-mémoire pour les entreprises en démarrage, les taxes </a:t>
            </a:r>
            <a:r>
              <a:rPr b="1" lang="fr-CA" sz="2200" spc="-1" strike="noStrike">
                <a:solidFill>
                  <a:srgbClr val="008000"/>
                </a:solidFill>
                <a:latin typeface="Courier New"/>
              </a:rPr>
              <a:t>$w (CaQMBN)0003697705</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es taxe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5 00</a:t>
            </a:r>
            <a:r>
              <a:rPr b="1" lang="fr-CA" sz="2200" spc="-1" strike="noStrike">
                <a:solidFill>
                  <a:srgbClr val="000000"/>
                </a:solidFill>
                <a:latin typeface="Courier New"/>
              </a:rPr>
              <a:t> $t Aide-mémoire pour les entreprises en démarrage, la TVQ et la TPS/TVH</a:t>
            </a:r>
            <a:r>
              <a:rPr b="1" lang="fr-CA" sz="2200" spc="-1" strike="noStrike">
                <a:solidFill>
                  <a:srgbClr val="008000"/>
                </a:solidFill>
                <a:latin typeface="Courier New"/>
              </a:rPr>
              <a:t> $w (CaQMBN)0004458199</a:t>
            </a:r>
            <a:endParaRPr b="0" lang="en-US" sz="2200" spc="-1" strike="noStrike">
              <a:solidFill>
                <a:srgbClr val="000000"/>
              </a:solidFill>
              <a:latin typeface="Arial"/>
            </a:endParaRPr>
          </a:p>
        </p:txBody>
      </p:sp>
      <p:sp>
        <p:nvSpPr>
          <p:cNvPr id="131" name=""/>
          <p:cNvSpPr/>
          <p:nvPr/>
        </p:nvSpPr>
        <p:spPr>
          <a:xfrm>
            <a:off x="2106720" y="5740560"/>
            <a:ext cx="677700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5, indicateurs 00 = relation « Continué par »</a:t>
            </a:r>
            <a:endParaRPr b="1" lang="en-US" sz="2200" spc="-1" strike="noStrike">
              <a:solidFill>
                <a:srgbClr val="000000"/>
              </a:solidFill>
              <a:latin typeface="Arial Unicode M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0, indicateur 00 = relation « Continue »</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96321E2E-54D4-41D1-B36E-BCBEC6FB5E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580D35-7154-4F2E-8DA6-CAEC9B2BEF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F38C45-22AF-48B9-B3BD-AD9B364D66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A85CFE-E771-4901-8330-2A2DE2EB5D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expression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6.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000000"/>
                </a:solidFill>
                <a:latin typeface="Arial"/>
              </a:rPr>
              <a:t>: </a:t>
            </a:r>
            <a:r>
              <a:rPr b="0" lang="en-US" sz="2800" spc="-1" strike="noStrike">
                <a:solidFill>
                  <a:srgbClr val="008093"/>
                </a:solidFill>
                <a:latin typeface="Arial"/>
              </a:rPr>
              <a:t>express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expressions comprises dans une </a:t>
            </a:r>
            <a:r>
              <a:rPr b="0" lang="en-US" sz="2800" spc="-1" strike="noStrike">
                <a:solidFill>
                  <a:srgbClr val="008093"/>
                </a:solidFill>
                <a:latin typeface="Arial"/>
              </a:rPr>
              <a:t>compilation</a:t>
            </a:r>
            <a:r>
              <a:rPr b="0" lang="en-US" sz="2800" spc="-1" strike="noStrike">
                <a:solidFill>
                  <a:srgbClr val="000000"/>
                </a:solidFill>
                <a:latin typeface="Arial"/>
              </a:rPr>
              <a:t> (même politique que pour l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E4D44E-0D07-4FA1-AB26-9EAD4830DA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3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C722139-E944-4032-A393-3699D7EE26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publications en série)</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structurée pour une édition dans une autre langue :</a:t>
            </a:r>
            <a:endParaRPr b="0" lang="en-US" sz="2400" spc="-1" strike="noStrike">
              <a:solidFill>
                <a:srgbClr val="000000"/>
              </a:solidFill>
              <a:latin typeface="Arial"/>
            </a:endParaRPr>
          </a:p>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30 0# $a Revista de política y derecho</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mbientales en América Latina y el Caribe. </a:t>
            </a:r>
            <a:r>
              <a:rPr b="1" lang="fr-CA" sz="2400" spc="-1" strike="noStrike">
                <a:solidFill>
                  <a:srgbClr val="008093"/>
                </a:solidFill>
                <a:latin typeface="Courier New"/>
              </a:rPr>
              <a:t>$l Anglais</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Journal of environmental policy and law in Latin America and the   Caribbean</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Publié également en espagnol sous le titre :</a:t>
            </a:r>
            <a:r>
              <a:rPr b="1" lang="fr-CA" sz="2400" spc="-1" strike="noStrike">
                <a:solidFill>
                  <a:srgbClr val="000000"/>
                </a:solidFill>
                <a:latin typeface="Courier New"/>
              </a:rPr>
              <a:t> $t Revista de política y derecho ambientales en América Latina y el Carib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96DBA4-D1D4-44B6-8026-A8AD8C99E9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46DB1E-0BBF-4DFB-BCC6-8F05CB4BDA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15FBD3-E3B4-474F-A778-49455A0C9B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 </a:t>
            </a:r>
            <a:r>
              <a:rPr b="0" lang="en-US" sz="2800" spc="-1" strike="noStrike">
                <a:solidFill>
                  <a:srgbClr val="000000"/>
                </a:solidFill>
                <a:latin typeface="Arial"/>
              </a:rPr>
              <a:t>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F38D60-86AC-4D03-ADFF-D710B5DF5B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B486AB-D362-4FBA-881D-2E8F371EF9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 </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fournir l’information concernant la manifestation originale dans une zone de liaison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5</a:t>
            </a:r>
            <a:r>
              <a:rPr b="0" lang="en-US" sz="2400" spc="-1" strike="noStrike">
                <a:solidFill>
                  <a:srgbClr val="000000"/>
                </a:solidFill>
                <a:latin typeface="Arial"/>
              </a:rPr>
              <a:t> → même suppor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6</a:t>
            </a:r>
            <a:r>
              <a:rPr b="0" lang="en-US" sz="2400" spc="-1" strike="noStrike">
                <a:solidFill>
                  <a:srgbClr val="000000"/>
                </a:solidFill>
                <a:latin typeface="Arial"/>
              </a:rPr>
              <a:t> → support différen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er l’information telle qu’elle apparaît dans la notice de la manifestation original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information détaillée n’est pas disponible, rédiger une note non structurée dans la zone MARC 50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66F7CB-C9D8-439E-8CB4-708CB9BBB8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e reproduction est une </a:t>
            </a:r>
            <a:r>
              <a:rPr b="0" lang="en-US" sz="2800" spc="-1" strike="noStrike">
                <a:solidFill>
                  <a:srgbClr val="008093"/>
                </a:solidFill>
                <a:latin typeface="Arial"/>
              </a:rPr>
              <a:t>compilation</a:t>
            </a:r>
            <a:r>
              <a:rPr b="0" lang="en-US" sz="2800" spc="-1" strike="noStrike">
                <a:solidFill>
                  <a:srgbClr val="000000"/>
                </a:solidFill>
                <a:latin typeface="Arial"/>
              </a:rPr>
              <a:t>, en général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créer une zone de liaison MARC 775 ou 776 pour chaque œuvre/expression de la compilation, e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rédiger une note non structurée pour donner l’historique de l’édition de chaque œuvre/expression de la compil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84356C-8363-42A6-96C9-01AC5EFFFF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216FAB-9963-48DD-B9EC-4A0A54B7EA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799FAC-E2E2-4667-9F23-B99E81583A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0DE89F-03A4-4F7E-9126-408AD9165B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item</a:t>
            </a:r>
            <a:br>
              <a:rPr sz="2800"/>
            </a:b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8.1</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particulières entre ressources ra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348633-F7E8-42BC-A909-EF2BDBB59D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9AB266-C949-44D6-B2F2-8C8A979D30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63"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64"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6260089-204C-40AE-A514-0B2440D28F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1A8C9A-A3DF-43B5-BC4F-04CF7EB8C7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96FC36-CB4E-4BBB-A63E-7677FB334F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F835EA-DDD0-47D1-9325-037848B22C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 </a:t>
            </a:r>
            <a:r>
              <a:rPr b="0" lang="en-US" sz="2800" spc="-1" strike="noStrike">
                <a:solidFill>
                  <a:srgbClr val="000000"/>
                </a:solidFill>
                <a:latin typeface="Arial"/>
              </a:rPr>
              <a:t>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Utiliser la sous-zone $w plutôt que la sous-zone $i pour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a:p>
            <a:pPr lvl="1"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603510-DCAE-4E5D-A4C8-B31E100895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les différentes identités d’une personne </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2 identités</a:t>
            </a:r>
            <a:r>
              <a:rPr b="0" lang="fr-CA" sz="2800" spc="-1" strike="noStrike">
                <a:solidFill>
                  <a:srgbClr val="000000"/>
                </a:solidFill>
                <a:latin typeface="Arial"/>
              </a:rPr>
              <a:t> = zones 500 sans autre codage dans chaque autorit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3 identités et plus</a:t>
            </a:r>
            <a:r>
              <a:rPr b="0" lang="fr-CA" sz="2800" spc="-1" strike="noStrike">
                <a:solidFill>
                  <a:srgbClr val="000000"/>
                </a:solidFill>
                <a:latin typeface="Arial"/>
              </a:rPr>
              <a:t> = une </a:t>
            </a:r>
            <a:r>
              <a:rPr b="0" lang="fr-CA" sz="2800" spc="-1" strike="noStrike">
                <a:solidFill>
                  <a:srgbClr val="008093"/>
                </a:solidFill>
                <a:latin typeface="Arial"/>
              </a:rPr>
              <a:t>zone 663</a:t>
            </a:r>
            <a:r>
              <a:rPr b="0" lang="fr-CA" sz="2800" spc="-1" strike="noStrike">
                <a:solidFill>
                  <a:srgbClr val="000000"/>
                </a:solidFill>
                <a:latin typeface="Arial"/>
              </a:rPr>
              <a:t> et des </a:t>
            </a:r>
            <a:r>
              <a:rPr b="0" lang="fr-CA" sz="2800" spc="-1" strike="noStrike">
                <a:solidFill>
                  <a:srgbClr val="008093"/>
                </a:solidFill>
                <a:latin typeface="Arial"/>
              </a:rPr>
              <a:t>zones 500 </a:t>
            </a:r>
            <a:r>
              <a:rPr b="0" lang="fr-CA" sz="2800" spc="-1" strike="noStrike">
                <a:solidFill>
                  <a:srgbClr val="000000"/>
                </a:solidFill>
                <a:latin typeface="Arial"/>
              </a:rPr>
              <a:t>(codage actue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B : LC code aussi </a:t>
            </a:r>
            <a:r>
              <a:rPr b="0" lang="fr-CA" sz="2800" spc="-1" strike="noStrike">
                <a:solidFill>
                  <a:srgbClr val="008093"/>
                </a:solidFill>
                <a:latin typeface="Arial"/>
              </a:rPr>
              <a:t>$w nnnc</a:t>
            </a:r>
            <a:r>
              <a:rPr b="0" lang="fr-CA" sz="2800" spc="-1" strike="noStrike">
                <a:solidFill>
                  <a:srgbClr val="000000"/>
                </a:solidFill>
                <a:latin typeface="Arial"/>
              </a:rPr>
              <a:t> dans les 500 lorsqu’il y a 3 identités ou plu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79ACF8-4CF6-48B4-8264-DA0EB47156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9DCC99-E567-4372-9B08-94011F5953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mises en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tr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et les personnes, familles ou collectivité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œuvres, expressions, manifestations, item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ersonnes, les familles et les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68C087-51D7-421F-9FDB-EB3CF1B38D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178" name="PlaceHolder 2"/>
          <p:cNvSpPr>
            <a:spLocks noGrp="1"/>
          </p:cNvSpPr>
          <p:nvPr>
            <p:ph/>
          </p:nvPr>
        </p:nvSpPr>
        <p:spPr>
          <a:xfrm>
            <a:off x="653760" y="1345680"/>
            <a:ext cx="8489880" cy="5272200"/>
          </a:xfrm>
          <a:prstGeom prst="rect">
            <a:avLst/>
          </a:prstGeom>
          <a:noFill/>
          <a:ln w="0">
            <a:noFill/>
          </a:ln>
        </p:spPr>
        <p:txBody>
          <a:bodyPr lIns="90000" rIns="90000" tIns="46800" bIns="46800"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Snodgrass, Quintus Curtius, $d </a:t>
            </a:r>
            <a:r>
              <a:rPr b="1" lang="fr-CA" sz="2200" spc="-1" strike="noStrike">
                <a:solidFill>
                  <a:srgbClr val="000000"/>
                </a:solidFill>
                <a:latin typeface="Courier New"/>
              </a:rPr>
              <a:t>	</a:t>
            </a:r>
            <a:r>
              <a:rPr b="1" lang="fr-CA" sz="2200" spc="-1" strike="noStrike">
                <a:solidFill>
                  <a:srgbClr val="000000"/>
                </a:solidFill>
                <a:latin typeface="Courier New"/>
              </a:rPr>
              <a:t>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es œuvres de cet auteur écrites sous d’autres noms, rechercher aussi sous $b Clemens, Samuel Langhorne, 1835-1910, $b Snodgrass, Quintus Curtius, 1835-1910</a:t>
            </a:r>
            <a:endParaRPr b="0" lang="en-US" sz="22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a liste des autres noms utilisés par cet auteur, rechercher aussi sous $b Twain, Mark, 1835-1910</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283781E-AF33-4560-9571-0D1FE5CBCD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1D7FEC-0B06-44A1-ABD1-69C1B3205F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E890D1-89BE-4C42-96CB-E0ABBFA600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AF3D16-C8BA-43F0-949B-D93A3D8A8D88}"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148C65-D77D-49CB-B3D8-75EE78C50C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66B4DB-CED9-4CB3-BC69-E771024B09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64" name=""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65" name=""/>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66" name=""/>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 name="PlaceHolder 1"/>
          <p:cNvSpPr>
            <a:spLocks noGrp="1"/>
          </p:cNvSpPr>
          <p:nvPr>
            <p:ph type="sldNum" idx="2"/>
          </p:nvPr>
        </p:nvSpPr>
        <p:spPr/>
        <p:txBody>
          <a:bodyPr/>
          <a:p>
            <a:fld id="{A3EC82AD-6C16-4A61-BE9E-BA6F107EC1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0:47:46Z</dcterms:modified>
  <cp:revision>589</cp:revision>
  <dc:subject/>
  <dc:title>Diapositive 1</dc:title>
</cp:coreProperties>
</file>