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na, Ita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ett: 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BD2E1A-DFF7-429A-B4F4-14E3064E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36AC79-DF59-4FA8-AA60-DA969472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D8B947-4D2C-4B18-9C48-CBB6B02CC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E3C02F-68FA-4849-9F38-542832AB3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58B4FD-AD2F-4AFD-9BA6-A557F12F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A13061-2CA8-42C2-B753-1DDB9F78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D65CD8-8340-468D-818D-975BA777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BC848A2-819D-4D5A-A8BD-33CEA199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537CB9-0435-4333-BB79-B1F997DB5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99DDA6-AD97-4C81-8D21-AA9A50D22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3D5455-597B-41F4-A45A-FA8364C16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795760" y="228600"/>
            <a:ext cx="3555720" cy="2666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80520" y="3047760"/>
            <a:ext cx="632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25A69CB-09D8-4741-9A25-8EB73847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028-8153-4D0A-B95D-A2AA21D7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573-F04B-4B46-B688-2C5F000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887-B856-455D-81D4-4D93E862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241-4791-4E0D-A88C-06FA3D2B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67F-53AE-45D3-BE46-91254F7E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B7D-2098-4553-9295-ADB87CCA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9F5-1119-47D5-B117-79B6794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1F8-FB74-4F0C-9ACC-23D40B9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566-FB8D-4F0E-9500-3803C3A1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5A3-9224-4F97-9D8E-5BE466A3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2F2-49C6-4D49-8E55-436D6842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DE5-BA93-4B9F-A09C-46AFDD5C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28600" y="0"/>
            <a:ext cx="8488080" cy="831600"/>
            <a:chOff x="228600" y="0"/>
            <a:chExt cx="848808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020600" y="77760"/>
              <a:ext cx="7696080" cy="685800"/>
              <a:chOff x="1020600" y="77760"/>
              <a:chExt cx="769608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020600" y="77760"/>
                <a:ext cx="7696080" cy="685800"/>
              </a:xfrm>
              <a:prstGeom prst="pie">
                <a:avLst/>
              </a:pr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1863720" y="77760"/>
                <a:ext cx="6075360" cy="680400"/>
                <a:chOff x="1863720" y="77760"/>
                <a:chExt cx="607536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1863720" y="79200"/>
                  <a:ext cx="3505320" cy="677160"/>
                  <a:chOff x="1863720" y="79200"/>
                  <a:chExt cx="350532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3826080" y="700920"/>
                    <a:ext cx="1116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3944880" y="743760"/>
                    <a:ext cx="1440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608640" y="67392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365640" y="694800"/>
                    <a:ext cx="1728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292560" y="70416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246480" y="702720"/>
                    <a:ext cx="4608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2997360" y="56448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143520" y="55512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246480" y="60408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243240" y="62964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329280" y="59940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335400" y="648720"/>
                    <a:ext cx="3168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368880" y="624960"/>
                    <a:ext cx="410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380040" y="63756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548160" y="64692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3659400" y="55980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3726000" y="623160"/>
                    <a:ext cx="1728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511800" y="48024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399120" y="5472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275280" y="52632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257640" y="435960"/>
                    <a:ext cx="6336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273480" y="50256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229200" y="509040"/>
                    <a:ext cx="2988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4894200" y="472320"/>
                    <a:ext cx="474840" cy="284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265640" y="80280"/>
                    <a:ext cx="666720" cy="4489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060800" y="402480"/>
                    <a:ext cx="2412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041720" y="393120"/>
                    <a:ext cx="255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4811760" y="340560"/>
                    <a:ext cx="115920" cy="52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4934160" y="383400"/>
                    <a:ext cx="93600" cy="2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4884840" y="396360"/>
                    <a:ext cx="38160" cy="2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4859280" y="327960"/>
                    <a:ext cx="25560" cy="280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061240" y="413640"/>
                    <a:ext cx="2988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523040" y="88200"/>
                    <a:ext cx="325440" cy="64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235400" y="86760"/>
                    <a:ext cx="30168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570480" y="13284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2792520" y="86760"/>
                    <a:ext cx="69228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486240" y="79200"/>
                    <a:ext cx="31680" cy="86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467160" y="151920"/>
                    <a:ext cx="9360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367080" y="202680"/>
                    <a:ext cx="12708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451320" y="23580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2739960" y="313560"/>
                    <a:ext cx="55116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2836800" y="52020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259080" y="364320"/>
                    <a:ext cx="2880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340080" y="345600"/>
                    <a:ext cx="144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1863720" y="194760"/>
                    <a:ext cx="68760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130480" y="405720"/>
                    <a:ext cx="258840" cy="350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586240" y="66600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571840" y="48528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1944720" y="26280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424240" y="11700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105280" y="8820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295720" y="14400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271960" y="165960"/>
                    <a:ext cx="2988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370240" y="23112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457720" y="22968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224080" y="164520"/>
                    <a:ext cx="223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131160" y="77760"/>
                  <a:ext cx="1807920" cy="680400"/>
                  <a:chOff x="6131160" y="77760"/>
                  <a:chExt cx="180792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7875720" y="67428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7632720" y="695160"/>
                    <a:ext cx="1764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7559640" y="70452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7513920" y="703080"/>
                    <a:ext cx="4572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264440" y="56484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7410600" y="55548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7513920" y="60444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7510680" y="63000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7596360" y="59976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7602480" y="649080"/>
                    <a:ext cx="32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7635960" y="625320"/>
                    <a:ext cx="4140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7647120" y="63792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7815240" y="64728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7926480" y="56016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7778880" y="4806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7666200" y="54756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7542360" y="52668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7524720" y="436320"/>
                    <a:ext cx="6372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7540560" y="50292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7496280" y="509400"/>
                    <a:ext cx="302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7837560" y="13320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058160" y="87120"/>
                    <a:ext cx="69516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7753320" y="77760"/>
                    <a:ext cx="32040" cy="87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7734240" y="152280"/>
                    <a:ext cx="939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7634520" y="203040"/>
                    <a:ext cx="12672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7718400" y="23616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007400" y="313920"/>
                    <a:ext cx="55080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104240" y="52056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7526520" y="364680"/>
                    <a:ext cx="2844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7607520" y="345960"/>
                    <a:ext cx="14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131160" y="196560"/>
                    <a:ext cx="68724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6397560" y="407880"/>
                    <a:ext cx="258840" cy="350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6853320" y="66636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6838920" y="48564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212160" y="26316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6691320" y="11736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6372360" y="8856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6562800" y="14436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6539040" y="166320"/>
                    <a:ext cx="3024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6637320" y="23148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6724800" y="23004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6491520" y="164880"/>
                    <a:ext cx="2196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233360" y="88560"/>
                <a:ext cx="7464240" cy="663840"/>
                <a:chOff x="1233360" y="88560"/>
                <a:chExt cx="746424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233360" y="43956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595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19573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3191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681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0430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404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3767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128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491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4852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214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5576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5938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300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66625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024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7386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7748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110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8472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1884240" y="85680"/>
                <a:ext cx="5864040" cy="671040"/>
                <a:chOff x="1884240" y="85680"/>
                <a:chExt cx="586404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49064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4684320" y="43956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485280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21460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30072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151320" y="43956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666252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6665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02432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262640" y="43956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052760" y="43956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7386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7748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40488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04308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00168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2788920" y="43956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471400" y="43956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1884240" y="43956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31588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195732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31912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68092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68092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6743520" y="43776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28600" y="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2096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281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98" descr="rda_lgo_rgb"/>
          <p:cNvPicPr/>
          <p:nvPr/>
        </p:nvPicPr>
        <p:blipFill>
          <a:blip r:embed="rId3"/>
          <a:stretch/>
        </p:blipFill>
        <p:spPr>
          <a:xfrm>
            <a:off x="3352680" y="762120"/>
            <a:ext cx="2438640" cy="1190520"/>
          </a:xfrm>
          <a:prstGeom prst="rect">
            <a:avLst/>
          </a:prstGeom>
          <a:ln w="0">
            <a:noFill/>
          </a:ln>
        </p:spPr>
      </p:pic>
      <p:sp>
        <p:nvSpPr>
          <p:cNvPr id="283" name="Oval 99"/>
          <p:cNvSpPr/>
          <p:nvPr/>
        </p:nvSpPr>
        <p:spPr>
          <a:xfrm>
            <a:off x="533520" y="2438280"/>
            <a:ext cx="10666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ha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8511-2CB8-4B41-8ABB-7D2232290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da-jsc.html/" TargetMode="External"/><Relationship Id="rId2" Type="http://schemas.openxmlformats.org/officeDocument/2006/relationships/hyperlink" Target="http://www.rda-jsc.org/stratplan.html" TargetMode="External"/><Relationship Id="rId3" Type="http://schemas.openxmlformats.org/officeDocument/2006/relationships/hyperlink" Target="http://www.rda-jsc.org/rda.html#prospectus" TargetMode="External"/><Relationship Id="rId4" Type="http://schemas.openxmlformats.org/officeDocument/2006/relationships/hyperlink" Target="http://www.rda-jsc.org/docs/5rda-objectivesrev2.pdf" TargetMode="External"/><Relationship Id="rId5" Type="http://schemas.openxmlformats.org/officeDocument/2006/relationships/hyperlink" Target="http://www.ifla.org/files/cataloguing/frbr/frbr-fr.pdf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663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Verdana"/>
              </a:rPr>
              <a:t>RDA :  Pourquoi, quoi, qui et qu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Verdana"/>
              </a:rPr>
              <a:t>Des règles aux entités : Catalogage avec la R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ACB, le 29 mai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illian Cante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Bibliothèque et Archives Canada</a:t>
            </a: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933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4572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5" descr="RDAlogo_rgb"/>
          <p:cNvPicPr/>
          <p:nvPr/>
        </p:nvPicPr>
        <p:blipFill>
          <a:blip r:embed="rId1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Transcription</a:t>
            </a:r>
            <a:r>
              <a:rPr b="0" i="1" lang="en-CA" sz="4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66"/>
                </a:solidFill>
                <a:latin typeface="Verdana"/>
              </a:rPr>
              <a:t>(représentation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rendre ce qu’on v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acilitation de la saisie des données et de la ré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Les données RDA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outiendront les tâches de l’utilisateur des SFNB et des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ront indépendantes du format, du médium ou du système utilisé pour stocker ou communiquer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ourront être intégrées dans les bases de données existantes, avec un minimum d'ajustements rétrosp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210760" y="5181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Verdana"/>
              </a:rPr>
              <a:t>Plan stratégique – Objectifs de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Couvrir tous les types de ressources et de conten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adaptable à d’autres langues que l’angla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Permettre que les documents résultants soient utilisables dans un environnement numér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optimisé pour une utilisation comme produit en lig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Groupe de travail sur l’IMDC/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Établi en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Les éléments, les vocabulaires et les rôles de la RDA sont enregist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3200" spc="-1" strike="noStrike">
                <a:solidFill>
                  <a:srgbClr val="3333cc"/>
                </a:solidFill>
                <a:latin typeface="Verdana"/>
              </a:rPr>
              <a:t>http://metadataregistry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ositionne les données RDA dans le Web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sémantiq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838080"/>
            <a:ext cx="533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1080" y="828720"/>
          <a:ext cx="7429320" cy="5570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74293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429000" y="838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Verdana"/>
              </a:rPr>
              <a:t>Qui développe et soutient la R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RDAlogo_rgb"/>
          <p:cNvPicPr/>
          <p:nvPr/>
        </p:nvPicPr>
        <p:blipFill>
          <a:blip r:embed="rId4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ntervenants et organismes de soutien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èle du J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té canadien de catalog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s de travail – exemples, annex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quipe de sensibi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communautés (p. ex., DC, MAR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organismes affectés à l’établissement de rè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Verdana"/>
              </a:rPr>
              <a:t>Échéancier pour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mission du cont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/juillet 2009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sai bê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4e trimestre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emièr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 6 à 9 mois en 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à l’essai et préparation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ur la 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Référenc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200" y="1904760"/>
            <a:ext cx="73407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1"/>
              </a:rPr>
              <a:t>http://www.rda-jsc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2"/>
              </a:rPr>
              <a:t>http://www.rda-jsc.org/stratplan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Prospec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3"/>
              </a:rPr>
              <a:t>http://www.rda-jsc.org/rda.html#prospectus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Objectives and princi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4"/>
              </a:rPr>
              <a:t>http://www.rda-jsc.org/docs/5rda-objectivesrev2.pdf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R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Tahoma"/>
                <a:hlinkClick r:id="rId5"/>
              </a:rPr>
              <a:t>http://www.ifla.org/files/cataloguing/frbr/frbr-fr.pdf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RDAlogo_rgb"/>
          <p:cNvPicPr/>
          <p:nvPr/>
        </p:nvPicPr>
        <p:blipFill>
          <a:blip r:embed="rId8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A" sz="4400" spc="-1" strike="noStrike">
                <a:solidFill>
                  <a:srgbClr val="000099"/>
                </a:solidFill>
                <a:latin typeface="Verdana"/>
              </a:rPr>
              <a:t>Vue d’ensembl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Pourquoi une nouvelle nor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Les principes et les objectifs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Ceux qui élaborent et appuient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Échéancier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333800" cy="1828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715000" y="76176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aacr"/>
          <p:cNvPicPr/>
          <p:nvPr/>
        </p:nvPicPr>
        <p:blipFill>
          <a:blip r:embed="rId4"/>
          <a:stretch/>
        </p:blipFill>
        <p:spPr>
          <a:xfrm>
            <a:off x="3429000" y="38862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RDAlogo_rgb"/>
          <p:cNvPicPr/>
          <p:nvPr/>
        </p:nvPicPr>
        <p:blipFill>
          <a:blip r:embed="rId7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5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férence internationale de 1997 sur les principes et l’évolution future des RCA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inc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tenu v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ructure logique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ublications en sé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ondi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Verdana"/>
              </a:rPr>
              <a:t>Raison d’être de la RDA</a:t>
            </a:r>
            <a:endParaRPr b="0" i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Les RCA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hapitres – classe de document/type de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tributs des SFNB entités et re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0"/>
          <p:cNvSpPr/>
          <p:nvPr/>
        </p:nvSpPr>
        <p:spPr>
          <a:xfrm flipH="1">
            <a:off x="1523880" y="52578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09480" y="48769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143000" y="545004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57200" y="4038480"/>
            <a:ext cx="3505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sources électro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4267080" y="3733920"/>
            <a:ext cx="4724640" cy="220968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cuments numér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IFLA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SFNB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147760"/>
            <a:ext cx="514368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oins des usagers 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ouver, relever, sélectionner et se procu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7" descr="frbr low"/>
          <p:cNvPicPr/>
          <p:nvPr/>
        </p:nvPicPr>
        <p:blipFill>
          <a:blip r:embed="rId1"/>
          <a:stretch/>
        </p:blipFill>
        <p:spPr>
          <a:xfrm>
            <a:off x="6181560" y="533520"/>
            <a:ext cx="242892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11"/>
          <p:cNvSpPr/>
          <p:nvPr/>
        </p:nvSpPr>
        <p:spPr>
          <a:xfrm>
            <a:off x="1828800" y="14479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16"/>
          <p:cNvSpPr/>
          <p:nvPr/>
        </p:nvSpPr>
        <p:spPr>
          <a:xfrm flipV="1" rot="5400000">
            <a:off x="4305240" y="2552400"/>
            <a:ext cx="2286000" cy="1143000"/>
          </a:xfrm>
          <a:prstGeom prst="rightArrow">
            <a:avLst>
              <a:gd name="adj1" fmla="val 23343"/>
              <a:gd name="adj2" fmla="val 50009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RDAlogo_rgb"/>
          <p:cNvPicPr/>
          <p:nvPr/>
        </p:nvPicPr>
        <p:blipFill>
          <a:blip r:embed="rId4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ME ICC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IFLA met à jour et réitère les principes de P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 Déclaration de principes internationale sur le catalogage »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IFLA logo"/>
          <p:cNvPicPr/>
          <p:nvPr/>
        </p:nvPicPr>
        <p:blipFill>
          <a:blip r:embed="rId1"/>
          <a:stretch/>
        </p:blipFill>
        <p:spPr>
          <a:xfrm>
            <a:off x="5410080" y="914400"/>
            <a:ext cx="900360" cy="10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RDAlogo_rgb"/>
          <p:cNvPicPr/>
          <p:nvPr/>
        </p:nvPicPr>
        <p:blipFill>
          <a:blip r:embed="rId2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556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aison d’être d’une nouvelle norm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2320" y="1523520"/>
            <a:ext cx="849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harmoniser aux modèles conceptuels (SFNB, FRAD) en vue d’élaborer des métadonnées appropri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ourager l’application des SFNB/FRA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appuyer sur des princi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81880" y="22860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frbr low"/>
          <p:cNvPicPr/>
          <p:nvPr/>
        </p:nvPicPr>
        <p:blipFill>
          <a:blip r:embed="rId1"/>
          <a:stretch/>
        </p:blipFill>
        <p:spPr>
          <a:xfrm>
            <a:off x="7162920" y="480060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FLA logo"/>
          <p:cNvPicPr/>
          <p:nvPr/>
        </p:nvPicPr>
        <p:blipFill>
          <a:blip r:embed="rId2"/>
          <a:stretch/>
        </p:blipFill>
        <p:spPr>
          <a:xfrm>
            <a:off x="4952880" y="4648320"/>
            <a:ext cx="152568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RDAlogo_rgb"/>
          <p:cNvPicPr/>
          <p:nvPr/>
        </p:nvPicPr>
        <p:blipFill>
          <a:blip r:embed="rId5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Principes de la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fféren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aractère suffis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419360" y="2057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é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sage comm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niform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295280" y="499284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l est nécessaire de maintenir un équilibre entre les princi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6:44:21Z</dcterms:created>
  <dc:creator>Marjorie E. Bloss</dc:creator>
  <dc:description/>
  <dc:language>en-US</dc:language>
  <cp:lastModifiedBy>stewam</cp:lastModifiedBy>
  <cp:lastPrinted>2007-04-08T20:28:39Z</cp:lastPrinted>
  <dcterms:modified xsi:type="dcterms:W3CDTF">2009-05-28T16:06:46Z</dcterms:modified>
  <cp:revision>938</cp:revision>
  <dc:subject>RDA</dc:subject>
  <dc:title>CARLI Presentation March 20, 2007</dc:title>
</cp:coreProperties>
</file>