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100584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Img"/>
          </p:nvPr>
        </p:nvSpPr>
        <p:spPr>
          <a:xfrm>
            <a:off x="947520" y="698400"/>
            <a:ext cx="51130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Click to move the slide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A av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65A9D94-94EA-4818-BD1F-9B62954D8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A3A250C-BE00-4D2E-8120-BF6284A1C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456436-DFE9-422D-B5D7-A5D1F9D08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4416120"/>
            <a:ext cx="6324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380709A-D3B2-4324-B074-9C9403763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EAB1F89-7FEF-408F-B735-35AAA6B57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E5BBF1-EAFB-44EE-9EAF-5EAD1BA5D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63D6D4D-C29F-449F-A5BA-04571A918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073535D-F652-476E-83AE-C13E487BB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F19E36-EB63-4AA4-B19F-DB0AA53EE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eering Committe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merican Library Asso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ustralian Committee on Catalogu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British Libr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Canadian Committee on Catalogu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ILIP : Chartered Institute of Library and Information Professio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Library of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omité canadien de catalogag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Association pour l'avancement des sciences et des techniques de la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anadian Library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Bibliothèque et Archives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8 autres organismes qui fournissent leur expertise dans leurs secteurs d'activités particuliers (bibliothèques de recherche, bibliothèques musicales, cartothèques et archives cartographiques, bibliothèques de droit, archives, bibliothèques spécialisées, sciences de l’in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909F0FB-6F4B-448F-82E0-4C4F66920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C95A4E6-BA81-4312-9F1A-C2BCD4351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environnement du Web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ble aux ressources du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util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architecture du Web  et interopérable avec les initiatives du Web sémantique pour faciliter l’échange des métadonné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AECF6B-3D95-4716-917C-3FCBB92DB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4EBA390-E177-42DE-8459-E9399B559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environnement du Web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ble aux ressources du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util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architecture du Web  et interopérable avec les initiatives du Web sémantique pour faciliter l’échange des métadonné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C695299-3EE3-4BD0-9A02-54DA5C5BE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A24180E-A847-483A-85E5-D00BF5C04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3C8CFC5-F7BB-4AC8-928B-94FDEFD93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2CE4A3-90AF-47C8-A6C7-82B968F65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C727FDA-5595-45F2-A0C9-1FB1D6957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496B49-7C31-47BD-8C64-D6F096F57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m= édition avec estampes originales de Antoine Du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609D1B0-E2FC-43A4-8E86-4ECED0F8F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A5AB1FC-D23D-4852-A8AA-E1A1A6AA2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outes les entités ne sont pas représentées dans ce tablea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0C9896A-A356-4EEA-9C9D-579964CE8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D1433C-CC10-4D91-A087-2200AD269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CEE0736-AE35-4E2E-A79D-6E58C62DD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BFD38DD-42E6-4183-94CB-269D47E19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Trouver 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les entités qui correspondent aux critères de recherche ou explorer les entités bibliograph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une entité pour confirmer qu’elle correspond à cette recherche ou valider la forme de la vedette retenue comme point d’accès contrôl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Contextualis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i.e. mettre une entité dans son contexte, expliciter les liens entre entités et entre les entités et leurs n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Justifi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i.e. documenter les raisons pour le choix de la forme de la vedet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1C05B38-F4F4-47B0-A0D9-555160239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3753FD-C116-475C-9799-A2F9BF9B1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57E277A-B440-4A2D-9C46-3E4564F0B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7700ED9-8583-437A-B2BB-08527B0C0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9C3E070-E71E-47E3-8870-A5D368006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47C92A5-504D-45EE-9B80-C854C34BE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07064E6-EAEB-403F-B45D-AD6D56CB6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62FCB16-DA2D-4B02-9A78-988727CBA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E4F690-2B27-4DAB-BC40-64D002ED0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B240228-7338-4A06-9397-B616385DC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24D4904-E88E-4FDF-BC1C-5CE5C3D24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E62D56-AEEB-4E4F-8EDA-16F817501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3622C48-0484-4CD9-BABC-06C5202B7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E8FD86-F16E-492C-81ED-FAA474C43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ressources électroniques : permettent la capture des données à partir des ressources elles-mê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é-utilisation des métadonnées bibliographiques : dont celles des édi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des types de formats de communication des métadonnées bibliograph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lin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873D0E6-4EF6-4FE8-9C00-0355093D1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xemples du nouveau vocabulaire (en anglais) :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access poin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preferred access poin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preferred title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name of the work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D4DD33A-AAEA-4E05-AD3F-0A34E71C2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s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B424C25-6C93-4878-853D-0B494022D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6C5E951-8E1E-41F9-B158-FDF09D531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A0AF669-5C20-46AD-8CBC-9CB567FA5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305FE26-EAC2-4B31-AA23-C7F3AB648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D6FC012-3800-46ED-B91C-77BFAC1C6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nçu pour les ressources tangibles autant qu’électro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identificateurs persistents (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persistent identifier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) et u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support est au niveau de la manif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permet la capture automatique et la ré-utilisation des donn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l’importance de la transcription des données pour l’identification des ressources va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vres anciens – très importa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ssources numériques – peut-être pas aussi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F0077FB-228F-4278-B858-9898DDB0E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FBFA36-6306-4879-BD5F-C8B21027B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BE99FE-BF07-494B-A9F4-847F47576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6B59955-02DD-4516-9E2F-985EF8734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F5ECCE6-9955-4ACF-BDC3-BAFA69D42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IGB : Système intégré de gestion de bibliothè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ACCD10-DDD5-4013-9FCD-D351402CB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B5EFDE-52AB-4201-B854-DA286C285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5D69FA1-6960-40B5-93AA-8CDC65FF5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BB02CCB-3D7C-4779-8D50-858BE7137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571320" y="4416120"/>
            <a:ext cx="5981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0B10D8F-91BF-47D6-BAF6-CF5283366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F3ED500-5CB0-440A-8B5C-EFF4E8B29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ME ICC : IFLA Meetings of Experts on a International Cataloguing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BA012B5-323B-43E3-8D72-B6E46E08A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F7F-1CAC-4F2D-A772-1A7F79A4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231-4EA8-44E0-9EC7-085C17AB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0FA-E921-4959-8F60-ECDED8D2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D0A-95EC-4E5C-BD67-94045D74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441-DFB6-460F-BFB4-9AB310F6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9162-8332-4495-B9CC-E62FDD05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4189-9A30-48CA-B9FA-CAEA90A5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981-5A73-4AE8-9B48-6808299A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13E-2048-44E5-9B3D-F98D2230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2890-9859-4017-A15F-10C4B612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BDF-D4B3-430E-BB15-32F3CD32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1DA9-E07A-4639-A96D-4368A209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250920" y="0"/>
            <a:ext cx="9336960" cy="831600"/>
            <a:chOff x="250920" y="0"/>
            <a:chExt cx="9336960" cy="831600"/>
          </a:xfrm>
        </p:grpSpPr>
        <p:grpSp>
          <p:nvGrpSpPr>
            <p:cNvPr id="3" name="Group 8"/>
            <p:cNvGrpSpPr/>
            <p:nvPr/>
          </p:nvGrpSpPr>
          <p:grpSpPr>
            <a:xfrm>
              <a:off x="1122120" y="77760"/>
              <a:ext cx="8465760" cy="685800"/>
              <a:chOff x="1122120" y="77760"/>
              <a:chExt cx="8465760" cy="685800"/>
            </a:xfrm>
          </p:grpSpPr>
          <p:sp>
            <p:nvSpPr>
              <p:cNvPr id="4" name="Freeform 9"/>
              <p:cNvSpPr/>
              <p:nvPr/>
            </p:nvSpPr>
            <p:spPr>
              <a:xfrm>
                <a:off x="1122120" y="77760"/>
                <a:ext cx="846576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" name="Group 10"/>
              <p:cNvGrpSpPr/>
              <p:nvPr/>
            </p:nvGrpSpPr>
            <p:grpSpPr>
              <a:xfrm>
                <a:off x="2049480" y="77760"/>
                <a:ext cx="6682320" cy="680400"/>
                <a:chOff x="2049480" y="77760"/>
                <a:chExt cx="6682320" cy="680400"/>
              </a:xfrm>
            </p:grpSpPr>
            <p:grpSp>
              <p:nvGrpSpPr>
                <p:cNvPr id="6" name="Group 11"/>
                <p:cNvGrpSpPr/>
                <p:nvPr/>
              </p:nvGrpSpPr>
              <p:grpSpPr>
                <a:xfrm>
                  <a:off x="2049480" y="79200"/>
                  <a:ext cx="3855240" cy="677160"/>
                  <a:chOff x="2049480" y="79200"/>
                  <a:chExt cx="3855240" cy="677160"/>
                </a:xfrm>
              </p:grpSpPr>
              <p:sp>
                <p:nvSpPr>
                  <p:cNvPr id="7" name="Freeform 12"/>
                  <p:cNvSpPr/>
                  <p:nvPr/>
                </p:nvSpPr>
                <p:spPr>
                  <a:xfrm>
                    <a:off x="4207680" y="700920"/>
                    <a:ext cx="1224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" name="Freeform 13"/>
                  <p:cNvSpPr/>
                  <p:nvPr/>
                </p:nvSpPr>
                <p:spPr>
                  <a:xfrm>
                    <a:off x="4338360" y="743760"/>
                    <a:ext cx="154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4"/>
                  <p:cNvSpPr/>
                  <p:nvPr/>
                </p:nvSpPr>
                <p:spPr>
                  <a:xfrm>
                    <a:off x="3968640" y="67392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Freeform 15"/>
                  <p:cNvSpPr/>
                  <p:nvPr/>
                </p:nvSpPr>
                <p:spPr>
                  <a:xfrm>
                    <a:off x="3701160" y="694800"/>
                    <a:ext cx="1872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6"/>
                  <p:cNvSpPr/>
                  <p:nvPr/>
                </p:nvSpPr>
                <p:spPr>
                  <a:xfrm>
                    <a:off x="3620880" y="70416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7"/>
                  <p:cNvSpPr/>
                  <p:nvPr/>
                </p:nvSpPr>
                <p:spPr>
                  <a:xfrm>
                    <a:off x="3570120" y="702720"/>
                    <a:ext cx="5040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8"/>
                  <p:cNvSpPr/>
                  <p:nvPr/>
                </p:nvSpPr>
                <p:spPr>
                  <a:xfrm>
                    <a:off x="3296160" y="56448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9"/>
                  <p:cNvSpPr/>
                  <p:nvPr/>
                </p:nvSpPr>
                <p:spPr>
                  <a:xfrm>
                    <a:off x="3457080" y="55512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20"/>
                  <p:cNvSpPr/>
                  <p:nvPr/>
                </p:nvSpPr>
                <p:spPr>
                  <a:xfrm>
                    <a:off x="3570120" y="60408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21"/>
                  <p:cNvSpPr/>
                  <p:nvPr/>
                </p:nvSpPr>
                <p:spPr>
                  <a:xfrm>
                    <a:off x="3566520" y="62964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22"/>
                  <p:cNvSpPr/>
                  <p:nvPr/>
                </p:nvSpPr>
                <p:spPr>
                  <a:xfrm>
                    <a:off x="3661200" y="59940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Freeform 23"/>
                  <p:cNvSpPr/>
                  <p:nvPr/>
                </p:nvSpPr>
                <p:spPr>
                  <a:xfrm>
                    <a:off x="3668040" y="648720"/>
                    <a:ext cx="345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Freeform 24"/>
                  <p:cNvSpPr/>
                  <p:nvPr/>
                </p:nvSpPr>
                <p:spPr>
                  <a:xfrm>
                    <a:off x="3704760" y="624960"/>
                    <a:ext cx="450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5"/>
                  <p:cNvSpPr/>
                  <p:nvPr/>
                </p:nvSpPr>
                <p:spPr>
                  <a:xfrm>
                    <a:off x="3717000" y="63756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Freeform 26"/>
                  <p:cNvSpPr/>
                  <p:nvPr/>
                </p:nvSpPr>
                <p:spPr>
                  <a:xfrm>
                    <a:off x="3902040" y="64692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Freeform 27"/>
                  <p:cNvSpPr/>
                  <p:nvPr/>
                </p:nvSpPr>
                <p:spPr>
                  <a:xfrm>
                    <a:off x="4024440" y="55980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8"/>
                  <p:cNvSpPr/>
                  <p:nvPr/>
                </p:nvSpPr>
                <p:spPr>
                  <a:xfrm>
                    <a:off x="4097520" y="623160"/>
                    <a:ext cx="1872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Freeform 29"/>
                  <p:cNvSpPr/>
                  <p:nvPr/>
                </p:nvSpPr>
                <p:spPr>
                  <a:xfrm>
                    <a:off x="3862080" y="48024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Freeform 30"/>
                  <p:cNvSpPr/>
                  <p:nvPr/>
                </p:nvSpPr>
                <p:spPr>
                  <a:xfrm>
                    <a:off x="3738240" y="5472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31"/>
                  <p:cNvSpPr/>
                  <p:nvPr/>
                </p:nvSpPr>
                <p:spPr>
                  <a:xfrm>
                    <a:off x="3601800" y="52632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Freeform 32"/>
                  <p:cNvSpPr/>
                  <p:nvPr/>
                </p:nvSpPr>
                <p:spPr>
                  <a:xfrm>
                    <a:off x="3582360" y="435960"/>
                    <a:ext cx="6948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Freeform 33"/>
                  <p:cNvSpPr/>
                  <p:nvPr/>
                </p:nvSpPr>
                <p:spPr>
                  <a:xfrm>
                    <a:off x="3600000" y="50256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4"/>
                  <p:cNvSpPr/>
                  <p:nvPr/>
                </p:nvSpPr>
                <p:spPr>
                  <a:xfrm>
                    <a:off x="3551040" y="509040"/>
                    <a:ext cx="327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Freeform 35"/>
                  <p:cNvSpPr/>
                  <p:nvPr/>
                </p:nvSpPr>
                <p:spPr>
                  <a:xfrm>
                    <a:off x="5382720" y="472320"/>
                    <a:ext cx="52200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Freeform 36"/>
                  <p:cNvSpPr/>
                  <p:nvPr/>
                </p:nvSpPr>
                <p:spPr>
                  <a:xfrm>
                    <a:off x="4691160" y="80280"/>
                    <a:ext cx="7333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7"/>
                  <p:cNvSpPr/>
                  <p:nvPr/>
                </p:nvSpPr>
                <p:spPr>
                  <a:xfrm>
                    <a:off x="4465800" y="402480"/>
                    <a:ext cx="2628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Freeform 38"/>
                  <p:cNvSpPr/>
                  <p:nvPr/>
                </p:nvSpPr>
                <p:spPr>
                  <a:xfrm>
                    <a:off x="4444920" y="393120"/>
                    <a:ext cx="2808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Freeform 39"/>
                  <p:cNvSpPr/>
                  <p:nvPr/>
                </p:nvSpPr>
                <p:spPr>
                  <a:xfrm>
                    <a:off x="5292000" y="340560"/>
                    <a:ext cx="12744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40"/>
                  <p:cNvSpPr/>
                  <p:nvPr/>
                </p:nvSpPr>
                <p:spPr>
                  <a:xfrm>
                    <a:off x="5426640" y="383400"/>
                    <a:ext cx="102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Freeform 41"/>
                  <p:cNvSpPr/>
                  <p:nvPr/>
                </p:nvSpPr>
                <p:spPr>
                  <a:xfrm>
                    <a:off x="5372280" y="396360"/>
                    <a:ext cx="417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Freeform 42"/>
                  <p:cNvSpPr/>
                  <p:nvPr/>
                </p:nvSpPr>
                <p:spPr>
                  <a:xfrm>
                    <a:off x="5344200" y="327960"/>
                    <a:ext cx="2808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3"/>
                  <p:cNvSpPr/>
                  <p:nvPr/>
                </p:nvSpPr>
                <p:spPr>
                  <a:xfrm>
                    <a:off x="5566320" y="413640"/>
                    <a:ext cx="3276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Freeform 44"/>
                  <p:cNvSpPr/>
                  <p:nvPr/>
                </p:nvSpPr>
                <p:spPr>
                  <a:xfrm>
                    <a:off x="4974480" y="88200"/>
                    <a:ext cx="3578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Freeform 45"/>
                  <p:cNvSpPr/>
                  <p:nvPr/>
                </p:nvSpPr>
                <p:spPr>
                  <a:xfrm>
                    <a:off x="4658040" y="86760"/>
                    <a:ext cx="3315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6"/>
                  <p:cNvSpPr/>
                  <p:nvPr/>
                </p:nvSpPr>
                <p:spPr>
                  <a:xfrm>
                    <a:off x="3926520" y="13284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Freeform 47"/>
                  <p:cNvSpPr/>
                  <p:nvPr/>
                </p:nvSpPr>
                <p:spPr>
                  <a:xfrm>
                    <a:off x="3070800" y="86760"/>
                    <a:ext cx="76140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Freeform 48"/>
                  <p:cNvSpPr/>
                  <p:nvPr/>
                </p:nvSpPr>
                <p:spPr>
                  <a:xfrm>
                    <a:off x="3834000" y="79200"/>
                    <a:ext cx="3456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9"/>
                  <p:cNvSpPr/>
                  <p:nvPr/>
                </p:nvSpPr>
                <p:spPr>
                  <a:xfrm>
                    <a:off x="3813120" y="151920"/>
                    <a:ext cx="102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50"/>
                  <p:cNvSpPr/>
                  <p:nvPr/>
                </p:nvSpPr>
                <p:spPr>
                  <a:xfrm>
                    <a:off x="3702960" y="202680"/>
                    <a:ext cx="1396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Freeform 51"/>
                  <p:cNvSpPr/>
                  <p:nvPr/>
                </p:nvSpPr>
                <p:spPr>
                  <a:xfrm>
                    <a:off x="3795480" y="23580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52"/>
                  <p:cNvSpPr/>
                  <p:nvPr/>
                </p:nvSpPr>
                <p:spPr>
                  <a:xfrm>
                    <a:off x="3013200" y="313560"/>
                    <a:ext cx="60588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Freeform 53"/>
                  <p:cNvSpPr/>
                  <p:nvPr/>
                </p:nvSpPr>
                <p:spPr>
                  <a:xfrm>
                    <a:off x="3119760" y="52020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Freeform 54"/>
                  <p:cNvSpPr/>
                  <p:nvPr/>
                </p:nvSpPr>
                <p:spPr>
                  <a:xfrm>
                    <a:off x="3584160" y="364320"/>
                    <a:ext cx="3132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5"/>
                  <p:cNvSpPr/>
                  <p:nvPr/>
                </p:nvSpPr>
                <p:spPr>
                  <a:xfrm>
                    <a:off x="3673080" y="345600"/>
                    <a:ext cx="15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Freeform 56"/>
                  <p:cNvSpPr/>
                  <p:nvPr/>
                </p:nvSpPr>
                <p:spPr>
                  <a:xfrm>
                    <a:off x="2049480" y="194760"/>
                    <a:ext cx="7560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57"/>
                  <p:cNvSpPr/>
                  <p:nvPr/>
                </p:nvSpPr>
                <p:spPr>
                  <a:xfrm>
                    <a:off x="2342880" y="405720"/>
                    <a:ext cx="28440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8"/>
                  <p:cNvSpPr/>
                  <p:nvPr/>
                </p:nvSpPr>
                <p:spPr>
                  <a:xfrm>
                    <a:off x="2844000" y="66600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59"/>
                  <p:cNvSpPr/>
                  <p:nvPr/>
                </p:nvSpPr>
                <p:spPr>
                  <a:xfrm>
                    <a:off x="2828160" y="48528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60"/>
                  <p:cNvSpPr/>
                  <p:nvPr/>
                </p:nvSpPr>
                <p:spPr>
                  <a:xfrm>
                    <a:off x="2138400" y="26280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61"/>
                  <p:cNvSpPr/>
                  <p:nvPr/>
                </p:nvSpPr>
                <p:spPr>
                  <a:xfrm>
                    <a:off x="2665800" y="117000"/>
                    <a:ext cx="51480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62"/>
                  <p:cNvSpPr/>
                  <p:nvPr/>
                </p:nvSpPr>
                <p:spPr>
                  <a:xfrm>
                    <a:off x="2315160" y="8820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63"/>
                  <p:cNvSpPr/>
                  <p:nvPr/>
                </p:nvSpPr>
                <p:spPr>
                  <a:xfrm>
                    <a:off x="2524320" y="144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4"/>
                  <p:cNvSpPr/>
                  <p:nvPr/>
                </p:nvSpPr>
                <p:spPr>
                  <a:xfrm>
                    <a:off x="2498400" y="165960"/>
                    <a:ext cx="3276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65"/>
                  <p:cNvSpPr/>
                  <p:nvPr/>
                </p:nvSpPr>
                <p:spPr>
                  <a:xfrm>
                    <a:off x="2606400" y="23112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66"/>
                  <p:cNvSpPr/>
                  <p:nvPr/>
                </p:nvSpPr>
                <p:spPr>
                  <a:xfrm>
                    <a:off x="2702520" y="22968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7"/>
                  <p:cNvSpPr/>
                  <p:nvPr/>
                </p:nvSpPr>
                <p:spPr>
                  <a:xfrm>
                    <a:off x="2445840" y="164520"/>
                    <a:ext cx="24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8"/>
                <p:cNvGrpSpPr/>
                <p:nvPr/>
              </p:nvGrpSpPr>
              <p:grpSpPr>
                <a:xfrm>
                  <a:off x="6743520" y="77760"/>
                  <a:ext cx="1988280" cy="680400"/>
                  <a:chOff x="6743520" y="77760"/>
                  <a:chExt cx="1988280" cy="680400"/>
                </a:xfrm>
              </p:grpSpPr>
              <p:sp>
                <p:nvSpPr>
                  <p:cNvPr id="64" name="Freeform 69"/>
                  <p:cNvSpPr/>
                  <p:nvPr/>
                </p:nvSpPr>
                <p:spPr>
                  <a:xfrm>
                    <a:off x="8662320" y="67428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70"/>
                  <p:cNvSpPr/>
                  <p:nvPr/>
                </p:nvSpPr>
                <p:spPr>
                  <a:xfrm>
                    <a:off x="8394840" y="695160"/>
                    <a:ext cx="190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Freeform 71"/>
                  <p:cNvSpPr/>
                  <p:nvPr/>
                </p:nvSpPr>
                <p:spPr>
                  <a:xfrm>
                    <a:off x="8314560" y="70452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72"/>
                  <p:cNvSpPr/>
                  <p:nvPr/>
                </p:nvSpPr>
                <p:spPr>
                  <a:xfrm>
                    <a:off x="8264160" y="703080"/>
                    <a:ext cx="5004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3"/>
                  <p:cNvSpPr/>
                  <p:nvPr/>
                </p:nvSpPr>
                <p:spPr>
                  <a:xfrm>
                    <a:off x="7989840" y="56484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74"/>
                  <p:cNvSpPr/>
                  <p:nvPr/>
                </p:nvSpPr>
                <p:spPr>
                  <a:xfrm>
                    <a:off x="8150760" y="55548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75"/>
                  <p:cNvSpPr/>
                  <p:nvPr/>
                </p:nvSpPr>
                <p:spPr>
                  <a:xfrm>
                    <a:off x="8264160" y="60444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6"/>
                  <p:cNvSpPr/>
                  <p:nvPr/>
                </p:nvSpPr>
                <p:spPr>
                  <a:xfrm>
                    <a:off x="8260560" y="63000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77"/>
                  <p:cNvSpPr/>
                  <p:nvPr/>
                </p:nvSpPr>
                <p:spPr>
                  <a:xfrm>
                    <a:off x="8354880" y="59976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78"/>
                  <p:cNvSpPr/>
                  <p:nvPr/>
                </p:nvSpPr>
                <p:spPr>
                  <a:xfrm>
                    <a:off x="8361720" y="649080"/>
                    <a:ext cx="349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9"/>
                  <p:cNvSpPr/>
                  <p:nvPr/>
                </p:nvSpPr>
                <p:spPr>
                  <a:xfrm>
                    <a:off x="8398440" y="625320"/>
                    <a:ext cx="453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80"/>
                  <p:cNvSpPr/>
                  <p:nvPr/>
                </p:nvSpPr>
                <p:spPr>
                  <a:xfrm>
                    <a:off x="8410680" y="63792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81"/>
                  <p:cNvSpPr/>
                  <p:nvPr/>
                </p:nvSpPr>
                <p:spPr>
                  <a:xfrm>
                    <a:off x="8595720" y="64728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82"/>
                  <p:cNvSpPr/>
                  <p:nvPr/>
                </p:nvSpPr>
                <p:spPr>
                  <a:xfrm>
                    <a:off x="8718120" y="56016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83"/>
                  <p:cNvSpPr/>
                  <p:nvPr/>
                </p:nvSpPr>
                <p:spPr>
                  <a:xfrm>
                    <a:off x="8555760" y="4806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84"/>
                  <p:cNvSpPr/>
                  <p:nvPr/>
                </p:nvSpPr>
                <p:spPr>
                  <a:xfrm>
                    <a:off x="8431920" y="54756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Freeform 85"/>
                  <p:cNvSpPr/>
                  <p:nvPr/>
                </p:nvSpPr>
                <p:spPr>
                  <a:xfrm>
                    <a:off x="8295480" y="52668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Freeform 86"/>
                  <p:cNvSpPr/>
                  <p:nvPr/>
                </p:nvSpPr>
                <p:spPr>
                  <a:xfrm>
                    <a:off x="8276040" y="436320"/>
                    <a:ext cx="6984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7"/>
                  <p:cNvSpPr/>
                  <p:nvPr/>
                </p:nvSpPr>
                <p:spPr>
                  <a:xfrm>
                    <a:off x="8293680" y="50292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Freeform 88"/>
                  <p:cNvSpPr/>
                  <p:nvPr/>
                </p:nvSpPr>
                <p:spPr>
                  <a:xfrm>
                    <a:off x="8244720" y="509400"/>
                    <a:ext cx="331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89"/>
                  <p:cNvSpPr/>
                  <p:nvPr/>
                </p:nvSpPr>
                <p:spPr>
                  <a:xfrm>
                    <a:off x="8620200" y="13320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90"/>
                  <p:cNvSpPr/>
                  <p:nvPr/>
                </p:nvSpPr>
                <p:spPr>
                  <a:xfrm>
                    <a:off x="7763040" y="87120"/>
                    <a:ext cx="764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Freeform 91"/>
                  <p:cNvSpPr/>
                  <p:nvPr/>
                </p:nvSpPr>
                <p:spPr>
                  <a:xfrm>
                    <a:off x="8527680" y="77760"/>
                    <a:ext cx="3492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Freeform 92"/>
                  <p:cNvSpPr/>
                  <p:nvPr/>
                </p:nvSpPr>
                <p:spPr>
                  <a:xfrm>
                    <a:off x="8506800" y="152280"/>
                    <a:ext cx="10332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3"/>
                  <p:cNvSpPr/>
                  <p:nvPr/>
                </p:nvSpPr>
                <p:spPr>
                  <a:xfrm>
                    <a:off x="8397000" y="203040"/>
                    <a:ext cx="1393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4"/>
                  <p:cNvSpPr/>
                  <p:nvPr/>
                </p:nvSpPr>
                <p:spPr>
                  <a:xfrm>
                    <a:off x="8489160" y="23616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95"/>
                  <p:cNvSpPr/>
                  <p:nvPr/>
                </p:nvSpPr>
                <p:spPr>
                  <a:xfrm>
                    <a:off x="7707240" y="313920"/>
                    <a:ext cx="60552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6"/>
                  <p:cNvSpPr/>
                  <p:nvPr/>
                </p:nvSpPr>
                <p:spPr>
                  <a:xfrm>
                    <a:off x="7813800" y="52056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Freeform 97"/>
                  <p:cNvSpPr/>
                  <p:nvPr/>
                </p:nvSpPr>
                <p:spPr>
                  <a:xfrm>
                    <a:off x="8278200" y="364680"/>
                    <a:ext cx="3096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98"/>
                  <p:cNvSpPr/>
                  <p:nvPr/>
                </p:nvSpPr>
                <p:spPr>
                  <a:xfrm>
                    <a:off x="8367120" y="345960"/>
                    <a:ext cx="15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9"/>
                  <p:cNvSpPr/>
                  <p:nvPr/>
                </p:nvSpPr>
                <p:spPr>
                  <a:xfrm>
                    <a:off x="6743520" y="196560"/>
                    <a:ext cx="7556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100"/>
                  <p:cNvSpPr/>
                  <p:nvPr/>
                </p:nvSpPr>
                <p:spPr>
                  <a:xfrm>
                    <a:off x="7036200" y="407880"/>
                    <a:ext cx="28440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Freeform 101"/>
                  <p:cNvSpPr/>
                  <p:nvPr/>
                </p:nvSpPr>
                <p:spPr>
                  <a:xfrm>
                    <a:off x="7537680" y="66636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102"/>
                  <p:cNvSpPr/>
                  <p:nvPr/>
                </p:nvSpPr>
                <p:spPr>
                  <a:xfrm>
                    <a:off x="7521840" y="48564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103"/>
                  <p:cNvSpPr/>
                  <p:nvPr/>
                </p:nvSpPr>
                <p:spPr>
                  <a:xfrm>
                    <a:off x="6832440" y="26316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104"/>
                  <p:cNvSpPr/>
                  <p:nvPr/>
                </p:nvSpPr>
                <p:spPr>
                  <a:xfrm>
                    <a:off x="7359480" y="117360"/>
                    <a:ext cx="5151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5"/>
                  <p:cNvSpPr/>
                  <p:nvPr/>
                </p:nvSpPr>
                <p:spPr>
                  <a:xfrm>
                    <a:off x="7008480" y="8856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106"/>
                  <p:cNvSpPr/>
                  <p:nvPr/>
                </p:nvSpPr>
                <p:spPr>
                  <a:xfrm>
                    <a:off x="7218000" y="14436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107"/>
                  <p:cNvSpPr/>
                  <p:nvPr/>
                </p:nvSpPr>
                <p:spPr>
                  <a:xfrm>
                    <a:off x="7192080" y="166320"/>
                    <a:ext cx="3312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8"/>
                  <p:cNvSpPr/>
                  <p:nvPr/>
                </p:nvSpPr>
                <p:spPr>
                  <a:xfrm>
                    <a:off x="7300080" y="23148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Freeform 109"/>
                  <p:cNvSpPr/>
                  <p:nvPr/>
                </p:nvSpPr>
                <p:spPr>
                  <a:xfrm>
                    <a:off x="7396200" y="23004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110"/>
                  <p:cNvSpPr/>
                  <p:nvPr/>
                </p:nvSpPr>
                <p:spPr>
                  <a:xfrm>
                    <a:off x="7139880" y="164880"/>
                    <a:ext cx="24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" name="Group 111"/>
              <p:cNvGrpSpPr/>
              <p:nvPr/>
            </p:nvGrpSpPr>
            <p:grpSpPr>
              <a:xfrm>
                <a:off x="1356120" y="88560"/>
                <a:ext cx="8210520" cy="663840"/>
                <a:chOff x="1356120" y="88560"/>
                <a:chExt cx="8210520" cy="663840"/>
              </a:xfrm>
            </p:grpSpPr>
            <p:sp>
              <p:nvSpPr>
                <p:cNvPr id="107" name="Line 112"/>
                <p:cNvSpPr/>
                <p:nvPr/>
              </p:nvSpPr>
              <p:spPr>
                <a:xfrm>
                  <a:off x="1356120" y="439560"/>
                  <a:ext cx="821052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113"/>
                <p:cNvSpPr/>
                <p:nvPr/>
              </p:nvSpPr>
              <p:spPr>
                <a:xfrm>
                  <a:off x="17539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114"/>
                <p:cNvSpPr/>
                <p:nvPr/>
              </p:nvSpPr>
              <p:spPr>
                <a:xfrm>
                  <a:off x="2152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15"/>
                <p:cNvSpPr/>
                <p:nvPr/>
              </p:nvSpPr>
              <p:spPr>
                <a:xfrm>
                  <a:off x="2550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116"/>
                <p:cNvSpPr/>
                <p:nvPr/>
              </p:nvSpPr>
              <p:spPr>
                <a:xfrm>
                  <a:off x="2948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17"/>
                <p:cNvSpPr/>
                <p:nvPr/>
              </p:nvSpPr>
              <p:spPr>
                <a:xfrm>
                  <a:off x="3346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18"/>
                <p:cNvSpPr/>
                <p:nvPr/>
              </p:nvSpPr>
              <p:spPr>
                <a:xfrm>
                  <a:off x="3744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119"/>
                <p:cNvSpPr/>
                <p:nvPr/>
              </p:nvSpPr>
              <p:spPr>
                <a:xfrm>
                  <a:off x="4142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20"/>
                <p:cNvSpPr/>
                <p:nvPr/>
              </p:nvSpPr>
              <p:spPr>
                <a:xfrm>
                  <a:off x="4541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121"/>
                <p:cNvSpPr/>
                <p:nvPr/>
              </p:nvSpPr>
              <p:spPr>
                <a:xfrm>
                  <a:off x="4939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22"/>
                <p:cNvSpPr/>
                <p:nvPr/>
              </p:nvSpPr>
              <p:spPr>
                <a:xfrm>
                  <a:off x="53373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23"/>
                <p:cNvSpPr/>
                <p:nvPr/>
              </p:nvSpPr>
              <p:spPr>
                <a:xfrm>
                  <a:off x="5735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24"/>
                <p:cNvSpPr/>
                <p:nvPr/>
              </p:nvSpPr>
              <p:spPr>
                <a:xfrm>
                  <a:off x="6133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25"/>
                <p:cNvSpPr/>
                <p:nvPr/>
              </p:nvSpPr>
              <p:spPr>
                <a:xfrm>
                  <a:off x="6531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26"/>
                <p:cNvSpPr/>
                <p:nvPr/>
              </p:nvSpPr>
              <p:spPr>
                <a:xfrm>
                  <a:off x="6930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127"/>
                <p:cNvSpPr/>
                <p:nvPr/>
              </p:nvSpPr>
              <p:spPr>
                <a:xfrm>
                  <a:off x="7328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128"/>
                <p:cNvSpPr/>
                <p:nvPr/>
              </p:nvSpPr>
              <p:spPr>
                <a:xfrm>
                  <a:off x="7726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129"/>
                <p:cNvSpPr/>
                <p:nvPr/>
              </p:nvSpPr>
              <p:spPr>
                <a:xfrm>
                  <a:off x="8124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130"/>
                <p:cNvSpPr/>
                <p:nvPr/>
              </p:nvSpPr>
              <p:spPr>
                <a:xfrm>
                  <a:off x="85226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131"/>
                <p:cNvSpPr/>
                <p:nvPr/>
              </p:nvSpPr>
              <p:spPr>
                <a:xfrm>
                  <a:off x="8920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132"/>
                <p:cNvSpPr/>
                <p:nvPr/>
              </p:nvSpPr>
              <p:spPr>
                <a:xfrm>
                  <a:off x="9318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33"/>
              <p:cNvGrpSpPr/>
              <p:nvPr/>
            </p:nvGrpSpPr>
            <p:grpSpPr>
              <a:xfrm>
                <a:off x="2072160" y="85680"/>
                <a:ext cx="6450120" cy="671040"/>
                <a:chOff x="2072160" y="85680"/>
                <a:chExt cx="6450120" cy="671040"/>
              </a:xfrm>
            </p:grpSpPr>
            <p:sp>
              <p:nvSpPr>
                <p:cNvPr id="129" name="Line 134"/>
                <p:cNvSpPr/>
                <p:nvPr/>
              </p:nvSpPr>
              <p:spPr>
                <a:xfrm>
                  <a:off x="493920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135"/>
                <p:cNvSpPr/>
                <p:nvPr/>
              </p:nvSpPr>
              <p:spPr>
                <a:xfrm>
                  <a:off x="5151960" y="439560"/>
                  <a:ext cx="122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136"/>
                <p:cNvSpPr/>
                <p:nvPr/>
              </p:nvSpPr>
              <p:spPr>
                <a:xfrm>
                  <a:off x="533736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137"/>
                <p:cNvSpPr/>
                <p:nvPr/>
              </p:nvSpPr>
              <p:spPr>
                <a:xfrm>
                  <a:off x="573552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138"/>
                <p:cNvSpPr/>
                <p:nvPr/>
              </p:nvSpPr>
              <p:spPr>
                <a:xfrm>
                  <a:off x="693000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39"/>
                <p:cNvSpPr/>
                <p:nvPr/>
              </p:nvSpPr>
              <p:spPr>
                <a:xfrm>
                  <a:off x="6765840" y="439560"/>
                  <a:ext cx="607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40"/>
                <p:cNvSpPr/>
                <p:nvPr/>
              </p:nvSpPr>
              <p:spPr>
                <a:xfrm>
                  <a:off x="732816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141"/>
                <p:cNvSpPr/>
                <p:nvPr/>
              </p:nvSpPr>
              <p:spPr>
                <a:xfrm flipV="1">
                  <a:off x="7331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142"/>
                <p:cNvSpPr/>
                <p:nvPr/>
              </p:nvSpPr>
              <p:spPr>
                <a:xfrm flipV="1">
                  <a:off x="772596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143"/>
                <p:cNvSpPr/>
                <p:nvPr/>
              </p:nvSpPr>
              <p:spPr>
                <a:xfrm flipH="1">
                  <a:off x="7988400" y="439560"/>
                  <a:ext cx="136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144"/>
                <p:cNvSpPr/>
                <p:nvPr/>
              </p:nvSpPr>
              <p:spPr>
                <a:xfrm flipH="1">
                  <a:off x="775764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145"/>
                <p:cNvSpPr/>
                <p:nvPr/>
              </p:nvSpPr>
              <p:spPr>
                <a:xfrm flipV="1">
                  <a:off x="8124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146"/>
                <p:cNvSpPr/>
                <p:nvPr/>
              </p:nvSpPr>
              <p:spPr>
                <a:xfrm>
                  <a:off x="8522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147"/>
                <p:cNvSpPr/>
                <p:nvPr/>
              </p:nvSpPr>
              <p:spPr>
                <a:xfrm>
                  <a:off x="374472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148"/>
                <p:cNvSpPr/>
                <p:nvPr/>
              </p:nvSpPr>
              <p:spPr>
                <a:xfrm>
                  <a:off x="334656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149"/>
                <p:cNvSpPr/>
                <p:nvPr/>
              </p:nvSpPr>
              <p:spPr>
                <a:xfrm flipH="1">
                  <a:off x="3301200" y="439560"/>
                  <a:ext cx="1188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50"/>
                <p:cNvSpPr/>
                <p:nvPr/>
              </p:nvSpPr>
              <p:spPr>
                <a:xfrm>
                  <a:off x="3067200" y="439560"/>
                  <a:ext cx="1047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151"/>
                <p:cNvSpPr/>
                <p:nvPr/>
              </p:nvSpPr>
              <p:spPr>
                <a:xfrm flipH="1">
                  <a:off x="2718000" y="439560"/>
                  <a:ext cx="143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152"/>
                <p:cNvSpPr/>
                <p:nvPr/>
              </p:nvSpPr>
              <p:spPr>
                <a:xfrm>
                  <a:off x="2072160" y="439560"/>
                  <a:ext cx="607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53"/>
                <p:cNvSpPr/>
                <p:nvPr/>
              </p:nvSpPr>
              <p:spPr>
                <a:xfrm>
                  <a:off x="254664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154"/>
                <p:cNvSpPr/>
                <p:nvPr/>
              </p:nvSpPr>
              <p:spPr>
                <a:xfrm>
                  <a:off x="215244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155"/>
                <p:cNvSpPr/>
                <p:nvPr/>
              </p:nvSpPr>
              <p:spPr>
                <a:xfrm flipV="1">
                  <a:off x="255024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156"/>
                <p:cNvSpPr/>
                <p:nvPr/>
              </p:nvSpPr>
              <p:spPr>
                <a:xfrm>
                  <a:off x="294840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57"/>
                <p:cNvSpPr/>
                <p:nvPr/>
              </p:nvSpPr>
              <p:spPr>
                <a:xfrm flipV="1">
                  <a:off x="294840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158"/>
                <p:cNvSpPr/>
                <p:nvPr/>
              </p:nvSpPr>
              <p:spPr>
                <a:xfrm>
                  <a:off x="7417080" y="437760"/>
                  <a:ext cx="139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4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98136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250920" y="0"/>
            <a:ext cx="9336960" cy="831600"/>
            <a:chOff x="250920" y="0"/>
            <a:chExt cx="9336960" cy="831600"/>
          </a:xfrm>
        </p:grpSpPr>
        <p:grpSp>
          <p:nvGrpSpPr>
            <p:cNvPr id="194" name="Group 8"/>
            <p:cNvGrpSpPr/>
            <p:nvPr/>
          </p:nvGrpSpPr>
          <p:grpSpPr>
            <a:xfrm>
              <a:off x="1122120" y="77760"/>
              <a:ext cx="8465760" cy="685800"/>
              <a:chOff x="1122120" y="77760"/>
              <a:chExt cx="8465760" cy="685800"/>
            </a:xfrm>
          </p:grpSpPr>
          <p:sp>
            <p:nvSpPr>
              <p:cNvPr id="195" name="Freeform 9"/>
              <p:cNvSpPr/>
              <p:nvPr/>
            </p:nvSpPr>
            <p:spPr>
              <a:xfrm>
                <a:off x="1122120" y="77760"/>
                <a:ext cx="846576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10"/>
              <p:cNvGrpSpPr/>
              <p:nvPr/>
            </p:nvGrpSpPr>
            <p:grpSpPr>
              <a:xfrm>
                <a:off x="2049480" y="77760"/>
                <a:ext cx="6682320" cy="680400"/>
                <a:chOff x="2049480" y="77760"/>
                <a:chExt cx="6682320" cy="680400"/>
              </a:xfrm>
            </p:grpSpPr>
            <p:grpSp>
              <p:nvGrpSpPr>
                <p:cNvPr id="197" name="Group 11"/>
                <p:cNvGrpSpPr/>
                <p:nvPr/>
              </p:nvGrpSpPr>
              <p:grpSpPr>
                <a:xfrm>
                  <a:off x="2049480" y="79200"/>
                  <a:ext cx="3855240" cy="677160"/>
                  <a:chOff x="2049480" y="79200"/>
                  <a:chExt cx="3855240" cy="677160"/>
                </a:xfrm>
              </p:grpSpPr>
              <p:sp>
                <p:nvSpPr>
                  <p:cNvPr id="198" name="Freeform 12"/>
                  <p:cNvSpPr/>
                  <p:nvPr/>
                </p:nvSpPr>
                <p:spPr>
                  <a:xfrm>
                    <a:off x="4207680" y="700920"/>
                    <a:ext cx="1224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13"/>
                  <p:cNvSpPr/>
                  <p:nvPr/>
                </p:nvSpPr>
                <p:spPr>
                  <a:xfrm>
                    <a:off x="4338360" y="743760"/>
                    <a:ext cx="154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14"/>
                  <p:cNvSpPr/>
                  <p:nvPr/>
                </p:nvSpPr>
                <p:spPr>
                  <a:xfrm>
                    <a:off x="3968640" y="67392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15"/>
                  <p:cNvSpPr/>
                  <p:nvPr/>
                </p:nvSpPr>
                <p:spPr>
                  <a:xfrm>
                    <a:off x="3701160" y="694800"/>
                    <a:ext cx="1872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16"/>
                  <p:cNvSpPr/>
                  <p:nvPr/>
                </p:nvSpPr>
                <p:spPr>
                  <a:xfrm>
                    <a:off x="3620880" y="70416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7"/>
                  <p:cNvSpPr/>
                  <p:nvPr/>
                </p:nvSpPr>
                <p:spPr>
                  <a:xfrm>
                    <a:off x="3570120" y="702720"/>
                    <a:ext cx="5040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8"/>
                  <p:cNvSpPr/>
                  <p:nvPr/>
                </p:nvSpPr>
                <p:spPr>
                  <a:xfrm>
                    <a:off x="3296160" y="56448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9"/>
                  <p:cNvSpPr/>
                  <p:nvPr/>
                </p:nvSpPr>
                <p:spPr>
                  <a:xfrm>
                    <a:off x="3457080" y="55512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20"/>
                  <p:cNvSpPr/>
                  <p:nvPr/>
                </p:nvSpPr>
                <p:spPr>
                  <a:xfrm>
                    <a:off x="3570120" y="60408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21"/>
                  <p:cNvSpPr/>
                  <p:nvPr/>
                </p:nvSpPr>
                <p:spPr>
                  <a:xfrm>
                    <a:off x="3566520" y="62964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22"/>
                  <p:cNvSpPr/>
                  <p:nvPr/>
                </p:nvSpPr>
                <p:spPr>
                  <a:xfrm>
                    <a:off x="3661200" y="59940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23"/>
                  <p:cNvSpPr/>
                  <p:nvPr/>
                </p:nvSpPr>
                <p:spPr>
                  <a:xfrm>
                    <a:off x="3668040" y="648720"/>
                    <a:ext cx="345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24"/>
                  <p:cNvSpPr/>
                  <p:nvPr/>
                </p:nvSpPr>
                <p:spPr>
                  <a:xfrm>
                    <a:off x="3704760" y="624960"/>
                    <a:ext cx="450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25"/>
                  <p:cNvSpPr/>
                  <p:nvPr/>
                </p:nvSpPr>
                <p:spPr>
                  <a:xfrm>
                    <a:off x="3717000" y="63756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26"/>
                  <p:cNvSpPr/>
                  <p:nvPr/>
                </p:nvSpPr>
                <p:spPr>
                  <a:xfrm>
                    <a:off x="3902040" y="64692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27"/>
                  <p:cNvSpPr/>
                  <p:nvPr/>
                </p:nvSpPr>
                <p:spPr>
                  <a:xfrm>
                    <a:off x="4024440" y="55980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28"/>
                  <p:cNvSpPr/>
                  <p:nvPr/>
                </p:nvSpPr>
                <p:spPr>
                  <a:xfrm>
                    <a:off x="4097520" y="623160"/>
                    <a:ext cx="1872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29"/>
                  <p:cNvSpPr/>
                  <p:nvPr/>
                </p:nvSpPr>
                <p:spPr>
                  <a:xfrm>
                    <a:off x="3862080" y="48024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30"/>
                  <p:cNvSpPr/>
                  <p:nvPr/>
                </p:nvSpPr>
                <p:spPr>
                  <a:xfrm>
                    <a:off x="3738240" y="5472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31"/>
                  <p:cNvSpPr/>
                  <p:nvPr/>
                </p:nvSpPr>
                <p:spPr>
                  <a:xfrm>
                    <a:off x="3601800" y="52632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32"/>
                  <p:cNvSpPr/>
                  <p:nvPr/>
                </p:nvSpPr>
                <p:spPr>
                  <a:xfrm>
                    <a:off x="3582360" y="435960"/>
                    <a:ext cx="6948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33"/>
                  <p:cNvSpPr/>
                  <p:nvPr/>
                </p:nvSpPr>
                <p:spPr>
                  <a:xfrm>
                    <a:off x="3600000" y="50256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34"/>
                  <p:cNvSpPr/>
                  <p:nvPr/>
                </p:nvSpPr>
                <p:spPr>
                  <a:xfrm>
                    <a:off x="3551040" y="509040"/>
                    <a:ext cx="327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35"/>
                  <p:cNvSpPr/>
                  <p:nvPr/>
                </p:nvSpPr>
                <p:spPr>
                  <a:xfrm>
                    <a:off x="5382720" y="472320"/>
                    <a:ext cx="52200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36"/>
                  <p:cNvSpPr/>
                  <p:nvPr/>
                </p:nvSpPr>
                <p:spPr>
                  <a:xfrm>
                    <a:off x="4691160" y="80280"/>
                    <a:ext cx="7333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37"/>
                  <p:cNvSpPr/>
                  <p:nvPr/>
                </p:nvSpPr>
                <p:spPr>
                  <a:xfrm>
                    <a:off x="4465800" y="402480"/>
                    <a:ext cx="2628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38"/>
                  <p:cNvSpPr/>
                  <p:nvPr/>
                </p:nvSpPr>
                <p:spPr>
                  <a:xfrm>
                    <a:off x="4444920" y="393120"/>
                    <a:ext cx="2808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39"/>
                  <p:cNvSpPr/>
                  <p:nvPr/>
                </p:nvSpPr>
                <p:spPr>
                  <a:xfrm>
                    <a:off x="5292000" y="340560"/>
                    <a:ext cx="12744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40"/>
                  <p:cNvSpPr/>
                  <p:nvPr/>
                </p:nvSpPr>
                <p:spPr>
                  <a:xfrm>
                    <a:off x="5426640" y="383400"/>
                    <a:ext cx="102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41"/>
                  <p:cNvSpPr/>
                  <p:nvPr/>
                </p:nvSpPr>
                <p:spPr>
                  <a:xfrm>
                    <a:off x="5372280" y="396360"/>
                    <a:ext cx="417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42"/>
                  <p:cNvSpPr/>
                  <p:nvPr/>
                </p:nvSpPr>
                <p:spPr>
                  <a:xfrm>
                    <a:off x="5344200" y="327960"/>
                    <a:ext cx="2808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43"/>
                  <p:cNvSpPr/>
                  <p:nvPr/>
                </p:nvSpPr>
                <p:spPr>
                  <a:xfrm>
                    <a:off x="5566320" y="413640"/>
                    <a:ext cx="3276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44"/>
                  <p:cNvSpPr/>
                  <p:nvPr/>
                </p:nvSpPr>
                <p:spPr>
                  <a:xfrm>
                    <a:off x="4974480" y="88200"/>
                    <a:ext cx="3578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45"/>
                  <p:cNvSpPr/>
                  <p:nvPr/>
                </p:nvSpPr>
                <p:spPr>
                  <a:xfrm>
                    <a:off x="4658040" y="86760"/>
                    <a:ext cx="3315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Freeform 46"/>
                  <p:cNvSpPr/>
                  <p:nvPr/>
                </p:nvSpPr>
                <p:spPr>
                  <a:xfrm>
                    <a:off x="3926520" y="13284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47"/>
                  <p:cNvSpPr/>
                  <p:nvPr/>
                </p:nvSpPr>
                <p:spPr>
                  <a:xfrm>
                    <a:off x="3070800" y="86760"/>
                    <a:ext cx="76140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48"/>
                  <p:cNvSpPr/>
                  <p:nvPr/>
                </p:nvSpPr>
                <p:spPr>
                  <a:xfrm>
                    <a:off x="3834000" y="79200"/>
                    <a:ext cx="3456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Freeform 49"/>
                  <p:cNvSpPr/>
                  <p:nvPr/>
                </p:nvSpPr>
                <p:spPr>
                  <a:xfrm>
                    <a:off x="3813120" y="151920"/>
                    <a:ext cx="102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50"/>
                  <p:cNvSpPr/>
                  <p:nvPr/>
                </p:nvSpPr>
                <p:spPr>
                  <a:xfrm>
                    <a:off x="3702960" y="202680"/>
                    <a:ext cx="1396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51"/>
                  <p:cNvSpPr/>
                  <p:nvPr/>
                </p:nvSpPr>
                <p:spPr>
                  <a:xfrm>
                    <a:off x="3795480" y="23580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52"/>
                  <p:cNvSpPr/>
                  <p:nvPr/>
                </p:nvSpPr>
                <p:spPr>
                  <a:xfrm>
                    <a:off x="3013200" y="313560"/>
                    <a:ext cx="60588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Freeform 53"/>
                  <p:cNvSpPr/>
                  <p:nvPr/>
                </p:nvSpPr>
                <p:spPr>
                  <a:xfrm>
                    <a:off x="3119760" y="52020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54"/>
                  <p:cNvSpPr/>
                  <p:nvPr/>
                </p:nvSpPr>
                <p:spPr>
                  <a:xfrm>
                    <a:off x="3584160" y="364320"/>
                    <a:ext cx="3132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Freeform 55"/>
                  <p:cNvSpPr/>
                  <p:nvPr/>
                </p:nvSpPr>
                <p:spPr>
                  <a:xfrm>
                    <a:off x="3673080" y="345600"/>
                    <a:ext cx="15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56"/>
                  <p:cNvSpPr/>
                  <p:nvPr/>
                </p:nvSpPr>
                <p:spPr>
                  <a:xfrm>
                    <a:off x="2049480" y="194760"/>
                    <a:ext cx="7560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57"/>
                  <p:cNvSpPr/>
                  <p:nvPr/>
                </p:nvSpPr>
                <p:spPr>
                  <a:xfrm>
                    <a:off x="2342880" y="405720"/>
                    <a:ext cx="28440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58"/>
                  <p:cNvSpPr/>
                  <p:nvPr/>
                </p:nvSpPr>
                <p:spPr>
                  <a:xfrm>
                    <a:off x="2844000" y="66600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59"/>
                  <p:cNvSpPr/>
                  <p:nvPr/>
                </p:nvSpPr>
                <p:spPr>
                  <a:xfrm>
                    <a:off x="2828160" y="48528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60"/>
                  <p:cNvSpPr/>
                  <p:nvPr/>
                </p:nvSpPr>
                <p:spPr>
                  <a:xfrm>
                    <a:off x="2138400" y="26280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61"/>
                  <p:cNvSpPr/>
                  <p:nvPr/>
                </p:nvSpPr>
                <p:spPr>
                  <a:xfrm>
                    <a:off x="2665800" y="117000"/>
                    <a:ext cx="51480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62"/>
                  <p:cNvSpPr/>
                  <p:nvPr/>
                </p:nvSpPr>
                <p:spPr>
                  <a:xfrm>
                    <a:off x="2315160" y="8820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63"/>
                  <p:cNvSpPr/>
                  <p:nvPr/>
                </p:nvSpPr>
                <p:spPr>
                  <a:xfrm>
                    <a:off x="2524320" y="144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4"/>
                  <p:cNvSpPr/>
                  <p:nvPr/>
                </p:nvSpPr>
                <p:spPr>
                  <a:xfrm>
                    <a:off x="2498400" y="165960"/>
                    <a:ext cx="3276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Freeform 65"/>
                  <p:cNvSpPr/>
                  <p:nvPr/>
                </p:nvSpPr>
                <p:spPr>
                  <a:xfrm>
                    <a:off x="2606400" y="23112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66"/>
                  <p:cNvSpPr/>
                  <p:nvPr/>
                </p:nvSpPr>
                <p:spPr>
                  <a:xfrm>
                    <a:off x="2702520" y="22968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67"/>
                  <p:cNvSpPr/>
                  <p:nvPr/>
                </p:nvSpPr>
                <p:spPr>
                  <a:xfrm>
                    <a:off x="2445840" y="164520"/>
                    <a:ext cx="24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Group 68"/>
                <p:cNvGrpSpPr/>
                <p:nvPr/>
              </p:nvGrpSpPr>
              <p:grpSpPr>
                <a:xfrm>
                  <a:off x="6743520" y="77760"/>
                  <a:ext cx="1988280" cy="680400"/>
                  <a:chOff x="6743520" y="77760"/>
                  <a:chExt cx="1988280" cy="680400"/>
                </a:xfrm>
              </p:grpSpPr>
              <p:sp>
                <p:nvSpPr>
                  <p:cNvPr id="255" name="Freeform 69"/>
                  <p:cNvSpPr/>
                  <p:nvPr/>
                </p:nvSpPr>
                <p:spPr>
                  <a:xfrm>
                    <a:off x="8662320" y="67428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70"/>
                  <p:cNvSpPr/>
                  <p:nvPr/>
                </p:nvSpPr>
                <p:spPr>
                  <a:xfrm>
                    <a:off x="8394840" y="695160"/>
                    <a:ext cx="190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Freeform 71"/>
                  <p:cNvSpPr/>
                  <p:nvPr/>
                </p:nvSpPr>
                <p:spPr>
                  <a:xfrm>
                    <a:off x="8314560" y="70452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72"/>
                  <p:cNvSpPr/>
                  <p:nvPr/>
                </p:nvSpPr>
                <p:spPr>
                  <a:xfrm>
                    <a:off x="8264160" y="703080"/>
                    <a:ext cx="5004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73"/>
                  <p:cNvSpPr/>
                  <p:nvPr/>
                </p:nvSpPr>
                <p:spPr>
                  <a:xfrm>
                    <a:off x="7989840" y="56484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74"/>
                  <p:cNvSpPr/>
                  <p:nvPr/>
                </p:nvSpPr>
                <p:spPr>
                  <a:xfrm>
                    <a:off x="8150760" y="55548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75"/>
                  <p:cNvSpPr/>
                  <p:nvPr/>
                </p:nvSpPr>
                <p:spPr>
                  <a:xfrm>
                    <a:off x="8264160" y="60444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76"/>
                  <p:cNvSpPr/>
                  <p:nvPr/>
                </p:nvSpPr>
                <p:spPr>
                  <a:xfrm>
                    <a:off x="8260560" y="63000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Freeform 77"/>
                  <p:cNvSpPr/>
                  <p:nvPr/>
                </p:nvSpPr>
                <p:spPr>
                  <a:xfrm>
                    <a:off x="8354880" y="59976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78"/>
                  <p:cNvSpPr/>
                  <p:nvPr/>
                </p:nvSpPr>
                <p:spPr>
                  <a:xfrm>
                    <a:off x="8361720" y="649080"/>
                    <a:ext cx="349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79"/>
                  <p:cNvSpPr/>
                  <p:nvPr/>
                </p:nvSpPr>
                <p:spPr>
                  <a:xfrm>
                    <a:off x="8398440" y="625320"/>
                    <a:ext cx="453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Freeform 80"/>
                  <p:cNvSpPr/>
                  <p:nvPr/>
                </p:nvSpPr>
                <p:spPr>
                  <a:xfrm>
                    <a:off x="8410680" y="63792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81"/>
                  <p:cNvSpPr/>
                  <p:nvPr/>
                </p:nvSpPr>
                <p:spPr>
                  <a:xfrm>
                    <a:off x="8595720" y="64728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82"/>
                  <p:cNvSpPr/>
                  <p:nvPr/>
                </p:nvSpPr>
                <p:spPr>
                  <a:xfrm>
                    <a:off x="8718120" y="56016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Freeform 83"/>
                  <p:cNvSpPr/>
                  <p:nvPr/>
                </p:nvSpPr>
                <p:spPr>
                  <a:xfrm>
                    <a:off x="8555760" y="4806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84"/>
                  <p:cNvSpPr/>
                  <p:nvPr/>
                </p:nvSpPr>
                <p:spPr>
                  <a:xfrm>
                    <a:off x="8431920" y="54756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Freeform 85"/>
                  <p:cNvSpPr/>
                  <p:nvPr/>
                </p:nvSpPr>
                <p:spPr>
                  <a:xfrm>
                    <a:off x="8295480" y="52668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86"/>
                  <p:cNvSpPr/>
                  <p:nvPr/>
                </p:nvSpPr>
                <p:spPr>
                  <a:xfrm>
                    <a:off x="8276040" y="436320"/>
                    <a:ext cx="6984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87"/>
                  <p:cNvSpPr/>
                  <p:nvPr/>
                </p:nvSpPr>
                <p:spPr>
                  <a:xfrm>
                    <a:off x="8293680" y="50292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Freeform 88"/>
                  <p:cNvSpPr/>
                  <p:nvPr/>
                </p:nvSpPr>
                <p:spPr>
                  <a:xfrm>
                    <a:off x="8244720" y="509400"/>
                    <a:ext cx="331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89"/>
                  <p:cNvSpPr/>
                  <p:nvPr/>
                </p:nvSpPr>
                <p:spPr>
                  <a:xfrm>
                    <a:off x="8620200" y="13320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90"/>
                  <p:cNvSpPr/>
                  <p:nvPr/>
                </p:nvSpPr>
                <p:spPr>
                  <a:xfrm>
                    <a:off x="7763040" y="87120"/>
                    <a:ext cx="764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Freeform 91"/>
                  <p:cNvSpPr/>
                  <p:nvPr/>
                </p:nvSpPr>
                <p:spPr>
                  <a:xfrm>
                    <a:off x="8527680" y="77760"/>
                    <a:ext cx="3492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92"/>
                  <p:cNvSpPr/>
                  <p:nvPr/>
                </p:nvSpPr>
                <p:spPr>
                  <a:xfrm>
                    <a:off x="8506800" y="152280"/>
                    <a:ext cx="10332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93"/>
                  <p:cNvSpPr/>
                  <p:nvPr/>
                </p:nvSpPr>
                <p:spPr>
                  <a:xfrm>
                    <a:off x="8397000" y="203040"/>
                    <a:ext cx="1393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94"/>
                  <p:cNvSpPr/>
                  <p:nvPr/>
                </p:nvSpPr>
                <p:spPr>
                  <a:xfrm>
                    <a:off x="8489160" y="23616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95"/>
                  <p:cNvSpPr/>
                  <p:nvPr/>
                </p:nvSpPr>
                <p:spPr>
                  <a:xfrm>
                    <a:off x="7707240" y="313920"/>
                    <a:ext cx="60552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96"/>
                  <p:cNvSpPr/>
                  <p:nvPr/>
                </p:nvSpPr>
                <p:spPr>
                  <a:xfrm>
                    <a:off x="7813800" y="52056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97"/>
                  <p:cNvSpPr/>
                  <p:nvPr/>
                </p:nvSpPr>
                <p:spPr>
                  <a:xfrm>
                    <a:off x="8278200" y="364680"/>
                    <a:ext cx="3096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98"/>
                  <p:cNvSpPr/>
                  <p:nvPr/>
                </p:nvSpPr>
                <p:spPr>
                  <a:xfrm>
                    <a:off x="8367120" y="345960"/>
                    <a:ext cx="15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9"/>
                  <p:cNvSpPr/>
                  <p:nvPr/>
                </p:nvSpPr>
                <p:spPr>
                  <a:xfrm>
                    <a:off x="6743520" y="196560"/>
                    <a:ext cx="7556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Freeform 100"/>
                  <p:cNvSpPr/>
                  <p:nvPr/>
                </p:nvSpPr>
                <p:spPr>
                  <a:xfrm>
                    <a:off x="7036200" y="407880"/>
                    <a:ext cx="28440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101"/>
                  <p:cNvSpPr/>
                  <p:nvPr/>
                </p:nvSpPr>
                <p:spPr>
                  <a:xfrm>
                    <a:off x="7537680" y="66636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102"/>
                  <p:cNvSpPr/>
                  <p:nvPr/>
                </p:nvSpPr>
                <p:spPr>
                  <a:xfrm>
                    <a:off x="7521840" y="48564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103"/>
                  <p:cNvSpPr/>
                  <p:nvPr/>
                </p:nvSpPr>
                <p:spPr>
                  <a:xfrm>
                    <a:off x="6832440" y="26316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Freeform 104"/>
                  <p:cNvSpPr/>
                  <p:nvPr/>
                </p:nvSpPr>
                <p:spPr>
                  <a:xfrm>
                    <a:off x="7359480" y="117360"/>
                    <a:ext cx="5151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105"/>
                  <p:cNvSpPr/>
                  <p:nvPr/>
                </p:nvSpPr>
                <p:spPr>
                  <a:xfrm>
                    <a:off x="7008480" y="8856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06"/>
                  <p:cNvSpPr/>
                  <p:nvPr/>
                </p:nvSpPr>
                <p:spPr>
                  <a:xfrm>
                    <a:off x="7218000" y="14436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107"/>
                  <p:cNvSpPr/>
                  <p:nvPr/>
                </p:nvSpPr>
                <p:spPr>
                  <a:xfrm>
                    <a:off x="7192080" y="166320"/>
                    <a:ext cx="3312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108"/>
                  <p:cNvSpPr/>
                  <p:nvPr/>
                </p:nvSpPr>
                <p:spPr>
                  <a:xfrm>
                    <a:off x="7300080" y="23148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Freeform 109"/>
                  <p:cNvSpPr/>
                  <p:nvPr/>
                </p:nvSpPr>
                <p:spPr>
                  <a:xfrm>
                    <a:off x="7396200" y="23004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110"/>
                  <p:cNvSpPr/>
                  <p:nvPr/>
                </p:nvSpPr>
                <p:spPr>
                  <a:xfrm>
                    <a:off x="7139880" y="164880"/>
                    <a:ext cx="24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7" name="Group 111"/>
              <p:cNvGrpSpPr/>
              <p:nvPr/>
            </p:nvGrpSpPr>
            <p:grpSpPr>
              <a:xfrm>
                <a:off x="1356120" y="88560"/>
                <a:ext cx="8210520" cy="663840"/>
                <a:chOff x="1356120" y="88560"/>
                <a:chExt cx="8210520" cy="663840"/>
              </a:xfrm>
            </p:grpSpPr>
            <p:sp>
              <p:nvSpPr>
                <p:cNvPr id="298" name="Line 112"/>
                <p:cNvSpPr/>
                <p:nvPr/>
              </p:nvSpPr>
              <p:spPr>
                <a:xfrm>
                  <a:off x="1356120" y="439560"/>
                  <a:ext cx="821052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3"/>
                <p:cNvSpPr/>
                <p:nvPr/>
              </p:nvSpPr>
              <p:spPr>
                <a:xfrm>
                  <a:off x="17539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14"/>
                <p:cNvSpPr/>
                <p:nvPr/>
              </p:nvSpPr>
              <p:spPr>
                <a:xfrm>
                  <a:off x="2152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15"/>
                <p:cNvSpPr/>
                <p:nvPr/>
              </p:nvSpPr>
              <p:spPr>
                <a:xfrm>
                  <a:off x="2550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16"/>
                <p:cNvSpPr/>
                <p:nvPr/>
              </p:nvSpPr>
              <p:spPr>
                <a:xfrm>
                  <a:off x="2948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17"/>
                <p:cNvSpPr/>
                <p:nvPr/>
              </p:nvSpPr>
              <p:spPr>
                <a:xfrm>
                  <a:off x="3346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18"/>
                <p:cNvSpPr/>
                <p:nvPr/>
              </p:nvSpPr>
              <p:spPr>
                <a:xfrm>
                  <a:off x="3744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19"/>
                <p:cNvSpPr/>
                <p:nvPr/>
              </p:nvSpPr>
              <p:spPr>
                <a:xfrm>
                  <a:off x="4142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0"/>
                <p:cNvSpPr/>
                <p:nvPr/>
              </p:nvSpPr>
              <p:spPr>
                <a:xfrm>
                  <a:off x="4541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1"/>
                <p:cNvSpPr/>
                <p:nvPr/>
              </p:nvSpPr>
              <p:spPr>
                <a:xfrm>
                  <a:off x="4939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2"/>
                <p:cNvSpPr/>
                <p:nvPr/>
              </p:nvSpPr>
              <p:spPr>
                <a:xfrm>
                  <a:off x="53373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3"/>
                <p:cNvSpPr/>
                <p:nvPr/>
              </p:nvSpPr>
              <p:spPr>
                <a:xfrm>
                  <a:off x="5735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24"/>
                <p:cNvSpPr/>
                <p:nvPr/>
              </p:nvSpPr>
              <p:spPr>
                <a:xfrm>
                  <a:off x="6133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25"/>
                <p:cNvSpPr/>
                <p:nvPr/>
              </p:nvSpPr>
              <p:spPr>
                <a:xfrm>
                  <a:off x="6531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26"/>
                <p:cNvSpPr/>
                <p:nvPr/>
              </p:nvSpPr>
              <p:spPr>
                <a:xfrm>
                  <a:off x="6930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27"/>
                <p:cNvSpPr/>
                <p:nvPr/>
              </p:nvSpPr>
              <p:spPr>
                <a:xfrm>
                  <a:off x="7328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28"/>
                <p:cNvSpPr/>
                <p:nvPr/>
              </p:nvSpPr>
              <p:spPr>
                <a:xfrm>
                  <a:off x="7726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29"/>
                <p:cNvSpPr/>
                <p:nvPr/>
              </p:nvSpPr>
              <p:spPr>
                <a:xfrm>
                  <a:off x="8124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0"/>
                <p:cNvSpPr/>
                <p:nvPr/>
              </p:nvSpPr>
              <p:spPr>
                <a:xfrm>
                  <a:off x="85226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1"/>
                <p:cNvSpPr/>
                <p:nvPr/>
              </p:nvSpPr>
              <p:spPr>
                <a:xfrm>
                  <a:off x="8920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2"/>
                <p:cNvSpPr/>
                <p:nvPr/>
              </p:nvSpPr>
              <p:spPr>
                <a:xfrm>
                  <a:off x="9318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33"/>
              <p:cNvGrpSpPr/>
              <p:nvPr/>
            </p:nvGrpSpPr>
            <p:grpSpPr>
              <a:xfrm>
                <a:off x="2072160" y="85680"/>
                <a:ext cx="6450120" cy="671040"/>
                <a:chOff x="2072160" y="85680"/>
                <a:chExt cx="6450120" cy="671040"/>
              </a:xfrm>
            </p:grpSpPr>
            <p:sp>
              <p:nvSpPr>
                <p:cNvPr id="320" name="Line 134"/>
                <p:cNvSpPr/>
                <p:nvPr/>
              </p:nvSpPr>
              <p:spPr>
                <a:xfrm>
                  <a:off x="493920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35"/>
                <p:cNvSpPr/>
                <p:nvPr/>
              </p:nvSpPr>
              <p:spPr>
                <a:xfrm>
                  <a:off x="5151960" y="439560"/>
                  <a:ext cx="122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36"/>
                <p:cNvSpPr/>
                <p:nvPr/>
              </p:nvSpPr>
              <p:spPr>
                <a:xfrm>
                  <a:off x="533736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37"/>
                <p:cNvSpPr/>
                <p:nvPr/>
              </p:nvSpPr>
              <p:spPr>
                <a:xfrm>
                  <a:off x="573552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38"/>
                <p:cNvSpPr/>
                <p:nvPr/>
              </p:nvSpPr>
              <p:spPr>
                <a:xfrm>
                  <a:off x="693000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39"/>
                <p:cNvSpPr/>
                <p:nvPr/>
              </p:nvSpPr>
              <p:spPr>
                <a:xfrm>
                  <a:off x="6765840" y="439560"/>
                  <a:ext cx="607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0"/>
                <p:cNvSpPr/>
                <p:nvPr/>
              </p:nvSpPr>
              <p:spPr>
                <a:xfrm>
                  <a:off x="732816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1"/>
                <p:cNvSpPr/>
                <p:nvPr/>
              </p:nvSpPr>
              <p:spPr>
                <a:xfrm flipV="1">
                  <a:off x="7331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2"/>
                <p:cNvSpPr/>
                <p:nvPr/>
              </p:nvSpPr>
              <p:spPr>
                <a:xfrm flipV="1">
                  <a:off x="772596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3"/>
                <p:cNvSpPr/>
                <p:nvPr/>
              </p:nvSpPr>
              <p:spPr>
                <a:xfrm flipH="1">
                  <a:off x="7988400" y="439560"/>
                  <a:ext cx="136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44"/>
                <p:cNvSpPr/>
                <p:nvPr/>
              </p:nvSpPr>
              <p:spPr>
                <a:xfrm flipH="1">
                  <a:off x="775764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45"/>
                <p:cNvSpPr/>
                <p:nvPr/>
              </p:nvSpPr>
              <p:spPr>
                <a:xfrm flipV="1">
                  <a:off x="8124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46"/>
                <p:cNvSpPr/>
                <p:nvPr/>
              </p:nvSpPr>
              <p:spPr>
                <a:xfrm>
                  <a:off x="8522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47"/>
                <p:cNvSpPr/>
                <p:nvPr/>
              </p:nvSpPr>
              <p:spPr>
                <a:xfrm>
                  <a:off x="374472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48"/>
                <p:cNvSpPr/>
                <p:nvPr/>
              </p:nvSpPr>
              <p:spPr>
                <a:xfrm>
                  <a:off x="334656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49"/>
                <p:cNvSpPr/>
                <p:nvPr/>
              </p:nvSpPr>
              <p:spPr>
                <a:xfrm flipH="1">
                  <a:off x="3301200" y="439560"/>
                  <a:ext cx="1188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0"/>
                <p:cNvSpPr/>
                <p:nvPr/>
              </p:nvSpPr>
              <p:spPr>
                <a:xfrm>
                  <a:off x="3067200" y="439560"/>
                  <a:ext cx="1047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1"/>
                <p:cNvSpPr/>
                <p:nvPr/>
              </p:nvSpPr>
              <p:spPr>
                <a:xfrm flipH="1">
                  <a:off x="2718000" y="439560"/>
                  <a:ext cx="143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2"/>
                <p:cNvSpPr/>
                <p:nvPr/>
              </p:nvSpPr>
              <p:spPr>
                <a:xfrm>
                  <a:off x="2072160" y="439560"/>
                  <a:ext cx="607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3"/>
                <p:cNvSpPr/>
                <p:nvPr/>
              </p:nvSpPr>
              <p:spPr>
                <a:xfrm>
                  <a:off x="254664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54"/>
                <p:cNvSpPr/>
                <p:nvPr/>
              </p:nvSpPr>
              <p:spPr>
                <a:xfrm>
                  <a:off x="215244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55"/>
                <p:cNvSpPr/>
                <p:nvPr/>
              </p:nvSpPr>
              <p:spPr>
                <a:xfrm flipV="1">
                  <a:off x="255024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56"/>
                <p:cNvSpPr/>
                <p:nvPr/>
              </p:nvSpPr>
              <p:spPr>
                <a:xfrm>
                  <a:off x="294840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57"/>
                <p:cNvSpPr/>
                <p:nvPr/>
              </p:nvSpPr>
              <p:spPr>
                <a:xfrm flipV="1">
                  <a:off x="294840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58"/>
                <p:cNvSpPr/>
                <p:nvPr/>
              </p:nvSpPr>
              <p:spPr>
                <a:xfrm>
                  <a:off x="7417080" y="437760"/>
                  <a:ext cx="139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45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98136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2920" y="1604520"/>
            <a:ext cx="9052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0" y="-19080"/>
            <a:ext cx="10058040" cy="6876720"/>
            <a:chOff x="0" y="-19080"/>
            <a:chExt cx="10058040" cy="6876720"/>
          </a:xfrm>
        </p:grpSpPr>
        <p:sp>
          <p:nvSpPr>
            <p:cNvPr id="385" name="Rectangle 3"/>
            <p:cNvSpPr/>
            <p:nvPr/>
          </p:nvSpPr>
          <p:spPr>
            <a:xfrm>
              <a:off x="3387960" y="1770120"/>
              <a:ext cx="667008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4"/>
            <p:cNvGrpSpPr/>
            <p:nvPr/>
          </p:nvGrpSpPr>
          <p:grpSpPr>
            <a:xfrm>
              <a:off x="0" y="-19080"/>
              <a:ext cx="10058040" cy="1827360"/>
              <a:chOff x="0" y="-19080"/>
              <a:chExt cx="10058040" cy="1827360"/>
            </a:xfrm>
          </p:grpSpPr>
          <p:sp>
            <p:nvSpPr>
              <p:cNvPr id="387" name="Freeform 5"/>
              <p:cNvSpPr/>
              <p:nvPr/>
            </p:nvSpPr>
            <p:spPr>
              <a:xfrm>
                <a:off x="1806480" y="223560"/>
                <a:ext cx="825156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8" name="Group 6"/>
              <p:cNvGrpSpPr/>
              <p:nvPr/>
            </p:nvGrpSpPr>
            <p:grpSpPr>
              <a:xfrm>
                <a:off x="2283480" y="203400"/>
                <a:ext cx="7414560" cy="1603080"/>
                <a:chOff x="2283480" y="203400"/>
                <a:chExt cx="7414560" cy="1603080"/>
              </a:xfrm>
            </p:grpSpPr>
            <p:sp>
              <p:nvSpPr>
                <p:cNvPr id="389" name="Freeform 7"/>
                <p:cNvSpPr/>
                <p:nvPr/>
              </p:nvSpPr>
              <p:spPr>
                <a:xfrm>
                  <a:off x="6433560" y="1674720"/>
                  <a:ext cx="2412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8"/>
                <p:cNvSpPr/>
                <p:nvPr/>
              </p:nvSpPr>
              <p:spPr>
                <a:xfrm>
                  <a:off x="6685920" y="1775880"/>
                  <a:ext cx="2988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9"/>
                <p:cNvSpPr/>
                <p:nvPr/>
              </p:nvSpPr>
              <p:spPr>
                <a:xfrm>
                  <a:off x="5973840" y="1611720"/>
                  <a:ext cx="4428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10"/>
                <p:cNvSpPr/>
                <p:nvPr/>
              </p:nvSpPr>
              <p:spPr>
                <a:xfrm>
                  <a:off x="5460840" y="1660680"/>
                  <a:ext cx="3564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11"/>
                <p:cNvSpPr/>
                <p:nvPr/>
              </p:nvSpPr>
              <p:spPr>
                <a:xfrm>
                  <a:off x="5306040" y="1682280"/>
                  <a:ext cx="9288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12"/>
                <p:cNvSpPr/>
                <p:nvPr/>
              </p:nvSpPr>
              <p:spPr>
                <a:xfrm>
                  <a:off x="5208840" y="1679040"/>
                  <a:ext cx="972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13"/>
                <p:cNvSpPr/>
                <p:nvPr/>
              </p:nvSpPr>
              <p:spPr>
                <a:xfrm>
                  <a:off x="4681440" y="1352160"/>
                  <a:ext cx="50688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14"/>
                <p:cNvSpPr/>
                <p:nvPr/>
              </p:nvSpPr>
              <p:spPr>
                <a:xfrm>
                  <a:off x="4989240" y="1329120"/>
                  <a:ext cx="22500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15"/>
                <p:cNvSpPr/>
                <p:nvPr/>
              </p:nvSpPr>
              <p:spPr>
                <a:xfrm>
                  <a:off x="5208840" y="1445760"/>
                  <a:ext cx="1573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16"/>
                <p:cNvSpPr/>
                <p:nvPr/>
              </p:nvSpPr>
              <p:spPr>
                <a:xfrm>
                  <a:off x="5201640" y="1505880"/>
                  <a:ext cx="10728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17"/>
                <p:cNvSpPr/>
                <p:nvPr/>
              </p:nvSpPr>
              <p:spPr>
                <a:xfrm>
                  <a:off x="5383440" y="1434960"/>
                  <a:ext cx="5292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18"/>
                <p:cNvSpPr/>
                <p:nvPr/>
              </p:nvSpPr>
              <p:spPr>
                <a:xfrm>
                  <a:off x="5396400" y="1551600"/>
                  <a:ext cx="6696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19"/>
                <p:cNvSpPr/>
                <p:nvPr/>
              </p:nvSpPr>
              <p:spPr>
                <a:xfrm>
                  <a:off x="5466600" y="1495080"/>
                  <a:ext cx="8712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20"/>
                <p:cNvSpPr/>
                <p:nvPr/>
              </p:nvSpPr>
              <p:spPr>
                <a:xfrm>
                  <a:off x="5491080" y="1525680"/>
                  <a:ext cx="40932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21"/>
                <p:cNvSpPr/>
                <p:nvPr/>
              </p:nvSpPr>
              <p:spPr>
                <a:xfrm>
                  <a:off x="5846040" y="1547280"/>
                  <a:ext cx="11160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22"/>
                <p:cNvSpPr/>
                <p:nvPr/>
              </p:nvSpPr>
              <p:spPr>
                <a:xfrm>
                  <a:off x="6081120" y="1341360"/>
                  <a:ext cx="2664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23"/>
                <p:cNvSpPr/>
                <p:nvPr/>
              </p:nvSpPr>
              <p:spPr>
                <a:xfrm>
                  <a:off x="6222960" y="1491840"/>
                  <a:ext cx="3708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24"/>
                <p:cNvSpPr/>
                <p:nvPr/>
              </p:nvSpPr>
              <p:spPr>
                <a:xfrm>
                  <a:off x="5768640" y="1154160"/>
                  <a:ext cx="270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25"/>
                <p:cNvSpPr/>
                <p:nvPr/>
              </p:nvSpPr>
              <p:spPr>
                <a:xfrm>
                  <a:off x="5531040" y="1310760"/>
                  <a:ext cx="270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6"/>
                <p:cNvSpPr/>
                <p:nvPr/>
              </p:nvSpPr>
              <p:spPr>
                <a:xfrm>
                  <a:off x="5268600" y="1261800"/>
                  <a:ext cx="11448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27"/>
                <p:cNvSpPr/>
                <p:nvPr/>
              </p:nvSpPr>
              <p:spPr>
                <a:xfrm>
                  <a:off x="5231880" y="1047960"/>
                  <a:ext cx="13428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28"/>
                <p:cNvSpPr/>
                <p:nvPr/>
              </p:nvSpPr>
              <p:spPr>
                <a:xfrm>
                  <a:off x="5265720" y="1206360"/>
                  <a:ext cx="460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9"/>
                <p:cNvSpPr/>
                <p:nvPr/>
              </p:nvSpPr>
              <p:spPr>
                <a:xfrm>
                  <a:off x="5171400" y="1221480"/>
                  <a:ext cx="6444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0"/>
                <p:cNvSpPr/>
                <p:nvPr/>
              </p:nvSpPr>
              <p:spPr>
                <a:xfrm>
                  <a:off x="8694000" y="1134000"/>
                  <a:ext cx="100404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1"/>
                <p:cNvSpPr/>
                <p:nvPr/>
              </p:nvSpPr>
              <p:spPr>
                <a:xfrm>
                  <a:off x="7364880" y="206280"/>
                  <a:ext cx="140940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2"/>
                <p:cNvSpPr/>
                <p:nvPr/>
              </p:nvSpPr>
              <p:spPr>
                <a:xfrm>
                  <a:off x="6930720" y="969840"/>
                  <a:ext cx="5112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3"/>
                <p:cNvSpPr/>
                <p:nvPr/>
              </p:nvSpPr>
              <p:spPr>
                <a:xfrm>
                  <a:off x="6890400" y="946800"/>
                  <a:ext cx="5436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34"/>
                <p:cNvSpPr/>
                <p:nvPr/>
              </p:nvSpPr>
              <p:spPr>
                <a:xfrm>
                  <a:off x="8519400" y="822240"/>
                  <a:ext cx="24480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35"/>
                <p:cNvSpPr/>
                <p:nvPr/>
              </p:nvSpPr>
              <p:spPr>
                <a:xfrm>
                  <a:off x="8778600" y="923400"/>
                  <a:ext cx="197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6"/>
                <p:cNvSpPr/>
                <p:nvPr/>
              </p:nvSpPr>
              <p:spPr>
                <a:xfrm>
                  <a:off x="8673840" y="954360"/>
                  <a:ext cx="799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7"/>
                <p:cNvSpPr/>
                <p:nvPr/>
              </p:nvSpPr>
              <p:spPr>
                <a:xfrm>
                  <a:off x="8620920" y="793080"/>
                  <a:ext cx="5292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8"/>
                <p:cNvSpPr/>
                <p:nvPr/>
              </p:nvSpPr>
              <p:spPr>
                <a:xfrm>
                  <a:off x="9046440" y="995760"/>
                  <a:ext cx="6408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9"/>
                <p:cNvSpPr/>
                <p:nvPr/>
              </p:nvSpPr>
              <p:spPr>
                <a:xfrm>
                  <a:off x="7908840" y="226080"/>
                  <a:ext cx="68760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40"/>
                <p:cNvSpPr/>
                <p:nvPr/>
              </p:nvSpPr>
              <p:spPr>
                <a:xfrm>
                  <a:off x="7300080" y="221760"/>
                  <a:ext cx="63900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41"/>
                <p:cNvSpPr/>
                <p:nvPr/>
              </p:nvSpPr>
              <p:spPr>
                <a:xfrm>
                  <a:off x="5893560" y="330840"/>
                  <a:ext cx="597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42"/>
                <p:cNvSpPr/>
                <p:nvPr/>
              </p:nvSpPr>
              <p:spPr>
                <a:xfrm>
                  <a:off x="4247280" y="221760"/>
                  <a:ext cx="14641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43"/>
                <p:cNvSpPr/>
                <p:nvPr/>
              </p:nvSpPr>
              <p:spPr>
                <a:xfrm>
                  <a:off x="5715720" y="203400"/>
                  <a:ext cx="6696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44"/>
                <p:cNvSpPr/>
                <p:nvPr/>
              </p:nvSpPr>
              <p:spPr>
                <a:xfrm>
                  <a:off x="5675760" y="375120"/>
                  <a:ext cx="197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45"/>
                <p:cNvSpPr/>
                <p:nvPr/>
              </p:nvSpPr>
              <p:spPr>
                <a:xfrm>
                  <a:off x="5463720" y="496800"/>
                  <a:ext cx="26784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46"/>
                <p:cNvSpPr/>
                <p:nvPr/>
              </p:nvSpPr>
              <p:spPr>
                <a:xfrm>
                  <a:off x="5641560" y="574920"/>
                  <a:ext cx="198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47"/>
                <p:cNvSpPr/>
                <p:nvPr/>
              </p:nvSpPr>
              <p:spPr>
                <a:xfrm>
                  <a:off x="4137120" y="759240"/>
                  <a:ext cx="116460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48"/>
                <p:cNvSpPr/>
                <p:nvPr/>
              </p:nvSpPr>
              <p:spPr>
                <a:xfrm>
                  <a:off x="4341960" y="1247760"/>
                  <a:ext cx="6444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49"/>
                <p:cNvSpPr/>
                <p:nvPr/>
              </p:nvSpPr>
              <p:spPr>
                <a:xfrm>
                  <a:off x="5235840" y="879120"/>
                  <a:ext cx="597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50"/>
                <p:cNvSpPr/>
                <p:nvPr/>
              </p:nvSpPr>
              <p:spPr>
                <a:xfrm>
                  <a:off x="5406480" y="834480"/>
                  <a:ext cx="2988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51"/>
                <p:cNvSpPr/>
                <p:nvPr/>
              </p:nvSpPr>
              <p:spPr>
                <a:xfrm>
                  <a:off x="2283480" y="476640"/>
                  <a:ext cx="145404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52"/>
                <p:cNvSpPr/>
                <p:nvPr/>
              </p:nvSpPr>
              <p:spPr>
                <a:xfrm>
                  <a:off x="2847960" y="977400"/>
                  <a:ext cx="54684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53"/>
                <p:cNvSpPr/>
                <p:nvPr/>
              </p:nvSpPr>
              <p:spPr>
                <a:xfrm>
                  <a:off x="3812040" y="1593360"/>
                  <a:ext cx="2268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54"/>
                <p:cNvSpPr/>
                <p:nvPr/>
              </p:nvSpPr>
              <p:spPr>
                <a:xfrm>
                  <a:off x="3781800" y="1164960"/>
                  <a:ext cx="2988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55"/>
                <p:cNvSpPr/>
                <p:nvPr/>
              </p:nvSpPr>
              <p:spPr>
                <a:xfrm>
                  <a:off x="2455560" y="639720"/>
                  <a:ext cx="828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6"/>
                <p:cNvSpPr/>
                <p:nvPr/>
              </p:nvSpPr>
              <p:spPr>
                <a:xfrm>
                  <a:off x="3469680" y="293760"/>
                  <a:ext cx="98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7"/>
                <p:cNvSpPr/>
                <p:nvPr/>
              </p:nvSpPr>
              <p:spPr>
                <a:xfrm>
                  <a:off x="2793240" y="226080"/>
                  <a:ext cx="198540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58"/>
                <p:cNvSpPr/>
                <p:nvPr/>
              </p:nvSpPr>
              <p:spPr>
                <a:xfrm>
                  <a:off x="3197520" y="356760"/>
                  <a:ext cx="4284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59"/>
                <p:cNvSpPr/>
                <p:nvPr/>
              </p:nvSpPr>
              <p:spPr>
                <a:xfrm>
                  <a:off x="3145680" y="408960"/>
                  <a:ext cx="6444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60"/>
                <p:cNvSpPr/>
                <p:nvPr/>
              </p:nvSpPr>
              <p:spPr>
                <a:xfrm>
                  <a:off x="3354840" y="564480"/>
                  <a:ext cx="1072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61"/>
                <p:cNvSpPr/>
                <p:nvPr/>
              </p:nvSpPr>
              <p:spPr>
                <a:xfrm>
                  <a:off x="3539880" y="559440"/>
                  <a:ext cx="597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62"/>
                <p:cNvSpPr/>
                <p:nvPr/>
              </p:nvSpPr>
              <p:spPr>
                <a:xfrm>
                  <a:off x="3045600" y="406080"/>
                  <a:ext cx="4716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Group 63"/>
              <p:cNvGrpSpPr/>
              <p:nvPr/>
            </p:nvGrpSpPr>
            <p:grpSpPr>
              <a:xfrm>
                <a:off x="1816560" y="-19080"/>
                <a:ext cx="8220600" cy="641880"/>
                <a:chOff x="1816560" y="-19080"/>
                <a:chExt cx="8220600" cy="641880"/>
              </a:xfrm>
            </p:grpSpPr>
            <p:sp>
              <p:nvSpPr>
                <p:cNvPr id="446" name="Line 64"/>
                <p:cNvSpPr/>
                <p:nvPr/>
              </p:nvSpPr>
              <p:spPr>
                <a:xfrm>
                  <a:off x="1816560" y="320040"/>
                  <a:ext cx="8220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65"/>
                <p:cNvSpPr/>
                <p:nvPr/>
              </p:nvSpPr>
              <p:spPr>
                <a:xfrm>
                  <a:off x="24811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66"/>
                <p:cNvSpPr/>
                <p:nvPr/>
              </p:nvSpPr>
              <p:spPr>
                <a:xfrm>
                  <a:off x="3246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67"/>
                <p:cNvSpPr/>
                <p:nvPr/>
              </p:nvSpPr>
              <p:spPr>
                <a:xfrm>
                  <a:off x="40125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68"/>
                <p:cNvSpPr/>
                <p:nvPr/>
              </p:nvSpPr>
              <p:spPr>
                <a:xfrm>
                  <a:off x="47779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69"/>
                <p:cNvSpPr/>
                <p:nvPr/>
              </p:nvSpPr>
              <p:spPr>
                <a:xfrm>
                  <a:off x="5543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70"/>
                <p:cNvSpPr/>
                <p:nvPr/>
              </p:nvSpPr>
              <p:spPr>
                <a:xfrm>
                  <a:off x="63093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71"/>
                <p:cNvSpPr/>
                <p:nvPr/>
              </p:nvSpPr>
              <p:spPr>
                <a:xfrm>
                  <a:off x="70747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72"/>
                <p:cNvSpPr/>
                <p:nvPr/>
              </p:nvSpPr>
              <p:spPr>
                <a:xfrm>
                  <a:off x="78411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73"/>
                <p:cNvSpPr/>
                <p:nvPr/>
              </p:nvSpPr>
              <p:spPr>
                <a:xfrm>
                  <a:off x="86065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74"/>
                <p:cNvSpPr/>
                <p:nvPr/>
              </p:nvSpPr>
              <p:spPr>
                <a:xfrm>
                  <a:off x="93726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75"/>
              <p:cNvGrpSpPr/>
              <p:nvPr/>
            </p:nvGrpSpPr>
            <p:grpSpPr>
              <a:xfrm>
                <a:off x="0" y="217440"/>
                <a:ext cx="3005640" cy="1582200"/>
                <a:chOff x="0" y="217440"/>
                <a:chExt cx="3005640" cy="1582200"/>
              </a:xfrm>
            </p:grpSpPr>
            <p:sp>
              <p:nvSpPr>
                <p:cNvPr id="458" name="Line 76"/>
                <p:cNvSpPr/>
                <p:nvPr/>
              </p:nvSpPr>
              <p:spPr>
                <a:xfrm>
                  <a:off x="235224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77"/>
                <p:cNvSpPr/>
                <p:nvPr/>
              </p:nvSpPr>
              <p:spPr>
                <a:xfrm>
                  <a:off x="2526840" y="1051560"/>
                  <a:ext cx="99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78"/>
                <p:cNvSpPr/>
                <p:nvPr/>
              </p:nvSpPr>
              <p:spPr>
                <a:xfrm>
                  <a:off x="267876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79"/>
                <p:cNvSpPr/>
                <p:nvPr/>
              </p:nvSpPr>
              <p:spPr>
                <a:xfrm>
                  <a:off x="300564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0"/>
                <p:cNvSpPr/>
                <p:nvPr/>
              </p:nvSpPr>
              <p:spPr>
                <a:xfrm>
                  <a:off x="137196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81"/>
                <p:cNvSpPr/>
                <p:nvPr/>
              </p:nvSpPr>
              <p:spPr>
                <a:xfrm>
                  <a:off x="104544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82"/>
                <p:cNvSpPr/>
                <p:nvPr/>
              </p:nvSpPr>
              <p:spPr>
                <a:xfrm flipH="1">
                  <a:off x="1008360" y="1051560"/>
                  <a:ext cx="972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3"/>
                <p:cNvSpPr/>
                <p:nvPr/>
              </p:nvSpPr>
              <p:spPr>
                <a:xfrm>
                  <a:off x="816120" y="1051560"/>
                  <a:ext cx="86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4"/>
                <p:cNvSpPr/>
                <p:nvPr/>
              </p:nvSpPr>
              <p:spPr>
                <a:xfrm flipH="1">
                  <a:off x="529560" y="1051560"/>
                  <a:ext cx="117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85"/>
                <p:cNvSpPr/>
                <p:nvPr/>
              </p:nvSpPr>
              <p:spPr>
                <a:xfrm>
                  <a:off x="0" y="1051560"/>
                  <a:ext cx="498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86"/>
                <p:cNvSpPr/>
                <p:nvPr/>
              </p:nvSpPr>
              <p:spPr>
                <a:xfrm>
                  <a:off x="38916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87"/>
                <p:cNvSpPr/>
                <p:nvPr/>
              </p:nvSpPr>
              <p:spPr>
                <a:xfrm>
                  <a:off x="6588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88"/>
                <p:cNvSpPr/>
                <p:nvPr/>
              </p:nvSpPr>
              <p:spPr>
                <a:xfrm flipV="1">
                  <a:off x="39240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9"/>
                <p:cNvSpPr/>
                <p:nvPr/>
              </p:nvSpPr>
              <p:spPr>
                <a:xfrm>
                  <a:off x="71892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0"/>
                <p:cNvSpPr/>
                <p:nvPr/>
              </p:nvSpPr>
              <p:spPr>
                <a:xfrm flipV="1">
                  <a:off x="71892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7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287800" y="2627640"/>
              <a:ext cx="988200" cy="98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4" name="Picture 98" descr="rda_lgo_rgb"/>
          <p:cNvPicPr/>
          <p:nvPr/>
        </p:nvPicPr>
        <p:blipFill>
          <a:blip r:embed="rId3"/>
          <a:stretch/>
        </p:blipFill>
        <p:spPr>
          <a:xfrm>
            <a:off x="3687840" y="762120"/>
            <a:ext cx="2682720" cy="1190520"/>
          </a:xfrm>
          <a:prstGeom prst="rect">
            <a:avLst/>
          </a:prstGeom>
          <a:ln w="0">
            <a:noFill/>
          </a:ln>
        </p:spPr>
      </p:pic>
      <p:sp>
        <p:nvSpPr>
          <p:cNvPr id="475" name="Oval 99"/>
          <p:cNvSpPr/>
          <p:nvPr/>
        </p:nvSpPr>
        <p:spPr>
          <a:xfrm>
            <a:off x="587520" y="2438280"/>
            <a:ext cx="1172880" cy="106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714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"/>
          </p:nvPr>
        </p:nvSpPr>
        <p:spPr>
          <a:xfrm>
            <a:off x="587520" y="6324480"/>
            <a:ext cx="209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"/>
          </p:nvPr>
        </p:nvSpPr>
        <p:spPr>
          <a:xfrm>
            <a:off x="3521160" y="632448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A March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"/>
          </p:nvPr>
        </p:nvSpPr>
        <p:spPr>
          <a:xfrm>
            <a:off x="7543440" y="6324480"/>
            <a:ext cx="209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FD08-F68E-45C5-A0D9-54C1406AB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collectionscanada.ca/jsc/rda.html" TargetMode="External"/><Relationship Id="rId2" Type="http://schemas.openxmlformats.org/officeDocument/2006/relationships/hyperlink" Target="http://www.collectionscanada.ca/jsc/rd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2010960" y="4572000"/>
            <a:ext cx="7628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hristine Oliver et Daniel Parad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Avril 200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609120" y="19047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RDA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Ressources : Description et Accès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006560" y="1066680"/>
            <a:ext cx="1554120" cy="1828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2"/>
          <a:stretch/>
        </p:blipFill>
        <p:spPr>
          <a:xfrm>
            <a:off x="2179800" y="2133720"/>
            <a:ext cx="1336680" cy="16761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3"/>
          <a:stretch/>
        </p:blipFill>
        <p:spPr>
          <a:xfrm>
            <a:off x="3352680" y="2895480"/>
            <a:ext cx="1467000" cy="1828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5791320" y="1447560"/>
            <a:ext cx="351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visions d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6" name="Picture 6" descr="aacr"/>
          <p:cNvPicPr/>
          <p:nvPr/>
        </p:nvPicPr>
        <p:blipFill>
          <a:blip r:embed="rId4"/>
          <a:stretch/>
        </p:blipFill>
        <p:spPr>
          <a:xfrm>
            <a:off x="4610160" y="4114800"/>
            <a:ext cx="19270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Les révisions sont insuffisante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u vs support toujours non résol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é d’adapter les règles aux nouveaux supports et types de pub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hérence logique dé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évisions apportent solutions partielles uniqu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. ex. révision de la règle 0.2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CAA2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CAA3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2004, planification d’une nouvelle édi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AACR3 : resource description and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f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r la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jouter cadre théor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ir le contenu des règl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4495680" y="1295280"/>
            <a:ext cx="1276560" cy="486000"/>
          </a:xfrm>
          <a:prstGeom prst="rightArrow">
            <a:avLst>
              <a:gd name="adj1" fmla="val 50000"/>
              <a:gd name="adj2" fmla="val 65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00"/>
                </a:solidFill>
                <a:latin typeface="Times New Roman"/>
              </a:rPr>
              <a:t>RCAA2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993300"/>
                </a:solidFill>
                <a:latin typeface="Times New Roman"/>
              </a:rPr>
              <a:t>RCAA3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5 :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décision d’aller plus loin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nt qu’à changer, autant le faire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omplètement!</a:t>
            </a:r>
            <a:r>
              <a:rPr b="0" lang="en-US" sz="31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8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005800"/>
                </a:solidFill>
                <a:latin typeface="Tahoma"/>
              </a:rPr>
              <a:t>a new standard for resource description and access, designed for the digital worl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3200400" y="1295280"/>
            <a:ext cx="1074600" cy="486000"/>
          </a:xfrm>
          <a:prstGeom prst="rightArrow">
            <a:avLst>
              <a:gd name="adj1" fmla="val 50000"/>
              <a:gd name="adj2" fmla="val 55278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6477120" y="1295280"/>
            <a:ext cx="1074600" cy="486000"/>
          </a:xfrm>
          <a:prstGeom prst="rightArrow">
            <a:avLst>
              <a:gd name="adj1" fmla="val 50000"/>
              <a:gd name="adj2" fmla="val 55278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7" descr="rda_lgo_rgb"/>
          <p:cNvPicPr/>
          <p:nvPr/>
        </p:nvPicPr>
        <p:blipFill>
          <a:blip r:embed="rId1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rda_lgo_rgb"/>
          <p:cNvPicPr/>
          <p:nvPr/>
        </p:nvPicPr>
        <p:blipFill>
          <a:blip r:embed="rId2"/>
          <a:stretch/>
        </p:blipFill>
        <p:spPr>
          <a:xfrm>
            <a:off x="3276720" y="3581280"/>
            <a:ext cx="35733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remplace RCAA2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2005 : dernières modifications d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utilisé partout à travers le mo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traduit en 24 lan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RDA conserve les meilleurs aspects des RCAA2 mais va au-del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continue de :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refléter l’usag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permettre l’échange de notic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être étroitement relié aux usages et conventions concernant la citation des 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œuvres et l’identification des auteur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aborder les problèmes de description et d’accès rencontrés dans des situations concrèt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Qui développe et finance RDA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563" name="Organization Chart 3"/>
          <p:cNvGrpSpPr/>
          <p:nvPr/>
        </p:nvGrpSpPr>
        <p:grpSpPr>
          <a:xfrm>
            <a:off x="749160" y="2147760"/>
            <a:ext cx="8550360" cy="3184920"/>
            <a:chOff x="749160" y="2147760"/>
            <a:chExt cx="8550360" cy="3184920"/>
          </a:xfrm>
        </p:grpSpPr>
        <p:cxnSp>
          <p:nvCxnSpPr>
            <p:cNvPr id="564" name="_s1028"/>
            <p:cNvCxnSpPr>
              <a:stCxn id="565" idx="0"/>
              <a:endCxn id="566" idx="2"/>
            </p:cNvCxnSpPr>
            <p:nvPr/>
          </p:nvCxnSpPr>
          <p:spPr>
            <a:xfrm flipV="1" rot="16200000">
              <a:off x="6670440" y="2490120"/>
              <a:ext cx="415080" cy="35917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7" name="_s1029"/>
            <p:cNvCxnSpPr>
              <a:stCxn id="568" idx="0"/>
              <a:endCxn id="566" idx="2"/>
            </p:cNvCxnSpPr>
            <p:nvPr/>
          </p:nvCxnSpPr>
          <p:spPr>
            <a:xfrm flipV="1" rot="16200000">
              <a:off x="5941440" y="3219840"/>
              <a:ext cx="415080" cy="213228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9" name="_s1030"/>
            <p:cNvCxnSpPr>
              <a:stCxn id="570" idx="0"/>
              <a:endCxn id="566" idx="2"/>
            </p:cNvCxnSpPr>
            <p:nvPr/>
          </p:nvCxnSpPr>
          <p:spPr>
            <a:xfrm flipV="1" rot="16200000">
              <a:off x="5210280" y="3950280"/>
              <a:ext cx="415080" cy="67140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1" name="_s1031"/>
            <p:cNvCxnSpPr>
              <a:stCxn id="572" idx="0"/>
              <a:endCxn id="566" idx="2"/>
            </p:cNvCxnSpPr>
            <p:nvPr/>
          </p:nvCxnSpPr>
          <p:spPr>
            <a:xfrm flipH="1" flipV="1" rot="5400000">
              <a:off x="4481280" y="3891960"/>
              <a:ext cx="415080" cy="78840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3" name="_s1032"/>
            <p:cNvCxnSpPr>
              <a:stCxn id="574" idx="0"/>
              <a:endCxn id="566" idx="2"/>
            </p:cNvCxnSpPr>
            <p:nvPr/>
          </p:nvCxnSpPr>
          <p:spPr>
            <a:xfrm flipH="1" flipV="1" rot="5400000">
              <a:off x="3752280" y="3162600"/>
              <a:ext cx="415080" cy="22471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5" name="_s1033"/>
            <p:cNvCxnSpPr>
              <a:stCxn id="576" idx="0"/>
              <a:endCxn id="566" idx="2"/>
            </p:cNvCxnSpPr>
            <p:nvPr/>
          </p:nvCxnSpPr>
          <p:spPr>
            <a:xfrm flipH="1" flipV="1" rot="5400000">
              <a:off x="3021480" y="2431800"/>
              <a:ext cx="415080" cy="37087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7" name="_s1034"/>
            <p:cNvCxnSpPr>
              <a:stCxn id="566" idx="0"/>
              <a:endCxn id="578" idx="2"/>
            </p:cNvCxnSpPr>
            <p:nvPr/>
          </p:nvCxnSpPr>
          <p:spPr>
            <a:xfrm flipV="1" rot="16200000">
              <a:off x="3875040" y="2067480"/>
              <a:ext cx="304200" cy="2112120"/>
            </a:xfrm>
            <a:prstGeom prst="bentConnector3">
              <a:avLst>
                <a:gd name="adj1" fmla="val 376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9" name="_s1035"/>
            <p:cNvCxnSpPr>
              <a:stCxn id="580" idx="0"/>
              <a:endCxn id="578" idx="2"/>
            </p:cNvCxnSpPr>
            <p:nvPr/>
          </p:nvCxnSpPr>
          <p:spPr>
            <a:xfrm flipH="1" flipV="1" rot="5400000">
              <a:off x="2440440" y="2744640"/>
              <a:ext cx="304200" cy="758160"/>
            </a:xfrm>
            <a:prstGeom prst="bentConnector3">
              <a:avLst>
                <a:gd name="adj1" fmla="val 376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8" name="_s1036"/>
            <p:cNvSpPr/>
            <p:nvPr/>
          </p:nvSpPr>
          <p:spPr>
            <a:xfrm>
              <a:off x="1980360" y="2147760"/>
              <a:ext cx="1981080" cy="8244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ittee of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incipal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_s1037"/>
            <p:cNvSpPr/>
            <p:nvPr/>
          </p:nvSpPr>
          <p:spPr>
            <a:xfrm>
              <a:off x="760680" y="3275640"/>
              <a:ext cx="2904120" cy="803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ACR Fund Trustees/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ublisher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_s1038"/>
            <p:cNvSpPr/>
            <p:nvPr/>
          </p:nvSpPr>
          <p:spPr>
            <a:xfrm>
              <a:off x="4114080" y="3275640"/>
              <a:ext cx="1936440" cy="8031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Joint Steerin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itte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_s1039"/>
            <p:cNvSpPr/>
            <p:nvPr/>
          </p:nvSpPr>
          <p:spPr>
            <a:xfrm>
              <a:off x="749160" y="4493880"/>
              <a:ext cx="124992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_s1040"/>
            <p:cNvSpPr/>
            <p:nvPr/>
          </p:nvSpPr>
          <p:spPr>
            <a:xfrm>
              <a:off x="2208960" y="4493880"/>
              <a:ext cx="12531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CO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_s1041"/>
            <p:cNvSpPr/>
            <p:nvPr/>
          </p:nvSpPr>
          <p:spPr>
            <a:xfrm>
              <a:off x="3668040" y="4493880"/>
              <a:ext cx="125280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_s1042"/>
            <p:cNvSpPr/>
            <p:nvPr/>
          </p:nvSpPr>
          <p:spPr>
            <a:xfrm>
              <a:off x="5127840" y="4493880"/>
              <a:ext cx="12513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C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_s1043"/>
            <p:cNvSpPr/>
            <p:nvPr/>
          </p:nvSpPr>
          <p:spPr>
            <a:xfrm>
              <a:off x="6589440" y="4493880"/>
              <a:ext cx="124884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ILIP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_s1044"/>
            <p:cNvSpPr/>
            <p:nvPr/>
          </p:nvSpPr>
          <p:spPr>
            <a:xfrm>
              <a:off x="8048160" y="4493880"/>
              <a:ext cx="12513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1" name=""/>
            <p:cNvCxnSpPr>
              <a:endCxn id="570" idx="2"/>
            </p:cNvCxnSpPr>
            <p:nvPr/>
          </p:nvCxnSpPr>
          <p:spPr>
            <a:xfrm flipH="1" flipV="1" rot="5400000">
              <a:off x="5271480" y="4850640"/>
              <a:ext cx="257400" cy="707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82" name="_s1041"/>
          <p:cNvSpPr/>
          <p:nvPr/>
        </p:nvSpPr>
        <p:spPr>
          <a:xfrm>
            <a:off x="2895480" y="5334120"/>
            <a:ext cx="12528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_s1042"/>
          <p:cNvSpPr/>
          <p:nvPr/>
        </p:nvSpPr>
        <p:spPr>
          <a:xfrm>
            <a:off x="4419720" y="5334120"/>
            <a:ext cx="125244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_s1043"/>
          <p:cNvSpPr/>
          <p:nvPr/>
        </p:nvSpPr>
        <p:spPr>
          <a:xfrm>
            <a:off x="5943600" y="5334120"/>
            <a:ext cx="12492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_s1044"/>
          <p:cNvSpPr/>
          <p:nvPr/>
        </p:nvSpPr>
        <p:spPr>
          <a:xfrm>
            <a:off x="7467480" y="5334120"/>
            <a:ext cx="12510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8 autr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ganis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_s1035"/>
          <p:cNvCxnSpPr>
            <a:stCxn id="582" idx="0"/>
          </p:cNvCxnSpPr>
          <p:nvPr/>
        </p:nvCxnSpPr>
        <p:spPr>
          <a:xfrm flipH="1" flipV="1" rot="5400000">
            <a:off x="4509720" y="4088880"/>
            <a:ext cx="258120" cy="2232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7" name="_s1035"/>
          <p:cNvCxnSpPr>
            <a:endCxn id="585" idx="0"/>
          </p:cNvCxnSpPr>
          <p:nvPr/>
        </p:nvCxnSpPr>
        <p:spPr>
          <a:xfrm flipH="1" rot="16200000">
            <a:off x="6795000" y="4035600"/>
            <a:ext cx="258120" cy="2339280"/>
          </a:xfrm>
          <a:prstGeom prst="bentConnector3">
            <a:avLst>
              <a:gd name="adj1" fmla="val 49301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8" name="_s1035"/>
          <p:cNvCxnSpPr>
            <a:stCxn id="584" idx="0"/>
          </p:cNvCxnSpPr>
          <p:nvPr/>
        </p:nvCxnSpPr>
        <p:spPr>
          <a:xfrm flipV="1" rot="16200000">
            <a:off x="6032520" y="4797360"/>
            <a:ext cx="258120" cy="81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Objectifs de 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55640" y="83772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directives fondées sur des princip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notices capables de répondre aux besoins des usager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Tahoma"/>
              </a:rPr>
              <a:t>compatible avec les principes, modèles et normes établis au plan international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alignement avec modèles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fournir un cadre théorique pour développer le “</a:t>
            </a:r>
            <a:r>
              <a:rPr b="0" lang="en-US" sz="3100" spc="-1" strike="noStrike">
                <a:solidFill>
                  <a:srgbClr val="0000ff"/>
                </a:solidFill>
                <a:latin typeface="Tahoma"/>
              </a:rPr>
              <a:t>jugement du catalogueur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55640" y="930240"/>
            <a:ext cx="854856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7720" y="1903320"/>
            <a:ext cx="855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mpatible avec les données RCAA2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mpatible avec l’environnement du Web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ntrôle bibliographique efficace des tous les types de ressources ou de contenu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accent sur l’enregistrement des données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PAS</a:t>
            </a:r>
            <a:r>
              <a:rPr b="0" i="1" lang="en-US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sur leur présenta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5280" y="912600"/>
            <a:ext cx="85503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lan de la présenta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967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Qu’est-ce que RD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d’où vient R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pourquoi une nouvelle nor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qui développe et finance R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Objectifs de R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Alignement sur FRBR/FR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Structure de R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con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Qu’y a-t-il de neuf dans RD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Mise en 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  <a:ea typeface="Tahoma"/>
              </a:rPr>
              <a:t>œuv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55640" y="930240"/>
            <a:ext cx="854856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7720" y="1903320"/>
            <a:ext cx="855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utilisation par d’autres communautés que celle des bibliothèqu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utilisation partout à travers le mond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facilité et efficacité d’utilisa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Alignement avec FRBR/FRAD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Alignement de RDA avec 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FRBR +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62120" y="251784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èles entités-rel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es de travail de l’IF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ultation à l’échelle internation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és sur l’analyse des notices bibliographiques et d’autorit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èles ne font pas qu’influencer RDA; ils constituent la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lé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comprendre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1" name="Picture 4" descr=""/>
          <p:cNvPicPr/>
          <p:nvPr/>
        </p:nvPicPr>
        <p:blipFill>
          <a:blip r:embed="rId1"/>
          <a:stretch/>
        </p:blipFill>
        <p:spPr>
          <a:xfrm>
            <a:off x="7315200" y="2743200"/>
            <a:ext cx="2403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Modèles FRBR et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s les notices bibliographiques et d’autorit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es pour l’us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D est une extension du modèle FRBR sur lequel il se ba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ributs des entité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-- entre les entité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Opérations effectuées par les usagers selon FRBR</a:t>
            </a:r>
            <a:br>
              <a:rPr sz="4400"/>
            </a:b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u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is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en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vigu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ntités FRBR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productions artistiques ou intellectuel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œuvre, expression, manifestation, exempla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abstraites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         </a:t>
            </a:r>
            <a:r>
              <a:rPr b="0" i="1" lang="en-US" sz="2400" spc="-1" strike="noStrike">
                <a:solidFill>
                  <a:srgbClr val="669900"/>
                </a:solidFill>
                <a:latin typeface="Bookman Old Style"/>
              </a:rPr>
              <a:t>phys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esponsables des entités du group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ne, collectivité (+ famil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uj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pt, objet, événement, lieu (+ entités des groupes 1 et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AutoShape 6"/>
          <p:cNvSpPr/>
          <p:nvPr/>
        </p:nvSpPr>
        <p:spPr>
          <a:xfrm rot="5400000">
            <a:off x="2742840" y="2743200"/>
            <a:ext cx="190440" cy="1714680"/>
          </a:xfrm>
          <a:custGeom>
            <a:avLst/>
            <a:gdLst>
              <a:gd name="textAreaLeft" fmla="*/ 0 w 190440"/>
              <a:gd name="textAreaRight" fmla="*/ 68760 w 19044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8"/>
          <p:cNvSpPr/>
          <p:nvPr/>
        </p:nvSpPr>
        <p:spPr>
          <a:xfrm rot="5400000">
            <a:off x="5943240" y="2743200"/>
            <a:ext cx="190440" cy="1714680"/>
          </a:xfrm>
          <a:custGeom>
            <a:avLst/>
            <a:gdLst>
              <a:gd name="textAreaLeft" fmla="*/ 0 w 190440"/>
              <a:gd name="textAreaRight" fmla="*/ 68760 w 19044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xemples d’entités du Groupe 1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762120" y="2133720"/>
            <a:ext cx="220968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dée pou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l’histoi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Kamourask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2743200" y="3200400"/>
            <a:ext cx="220968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 texte frança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original tel qu’écr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ar Anne Hébe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4724280" y="4267080"/>
            <a:ext cx="221004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Montréal, Art global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6781680" y="5334120"/>
            <a:ext cx="221004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exemplaire 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BAn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AutoShape 11"/>
          <p:cNvCxnSpPr>
            <a:stCxn id="612" idx="2"/>
            <a:endCxn id="613" idx="1"/>
          </p:cNvCxnSpPr>
          <p:nvPr/>
        </p:nvCxnSpPr>
        <p:spPr>
          <a:xfrm flipH="1" rot="16200000">
            <a:off x="2019240" y="2971440"/>
            <a:ext cx="57240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7" name="AutoShape 12"/>
          <p:cNvCxnSpPr>
            <a:stCxn id="613" idx="2"/>
            <a:endCxn id="614" idx="1"/>
          </p:cNvCxnSpPr>
          <p:nvPr/>
        </p:nvCxnSpPr>
        <p:spPr>
          <a:xfrm flipH="1" rot="16200000">
            <a:off x="4000320" y="4038120"/>
            <a:ext cx="57204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8" name="AutoShape 13"/>
          <p:cNvCxnSpPr>
            <a:stCxn id="614" idx="2"/>
            <a:endCxn id="615" idx="1"/>
          </p:cNvCxnSpPr>
          <p:nvPr/>
        </p:nvCxnSpPr>
        <p:spPr>
          <a:xfrm flipH="1" rot="16200000">
            <a:off x="6018840" y="5067360"/>
            <a:ext cx="572400" cy="9529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9" name="Text Box 15"/>
          <p:cNvSpPr/>
          <p:nvPr/>
        </p:nvSpPr>
        <p:spPr>
          <a:xfrm>
            <a:off x="762120" y="358128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822240" y="3571920"/>
            <a:ext cx="176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7"/>
          <p:cNvSpPr/>
          <p:nvPr/>
        </p:nvSpPr>
        <p:spPr>
          <a:xfrm>
            <a:off x="2819520" y="4800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se concrétise d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838080" y="3733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trouve sa réalisation d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4800600" y="5867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est représentée p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Exemples d’attributs </a:t>
            </a:r>
            <a:r>
              <a:rPr b="0" lang="fr-CA" sz="2800" spc="-1" strike="noStrike">
                <a:solidFill>
                  <a:srgbClr val="993300"/>
                </a:solidFill>
                <a:latin typeface="Times New Roman"/>
              </a:rPr>
              <a:t>(groupes 1,2 et 3)</a:t>
            </a:r>
            <a:endParaRPr b="0" i="1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762120" y="2036880"/>
          <a:ext cx="8550000" cy="4532040"/>
        </p:xfrm>
        <a:graphic>
          <a:graphicData uri="http://schemas.openxmlformats.org/drawingml/2006/table">
            <a:tbl>
              <a:tblPr/>
              <a:tblGrid>
                <a:gridCol w="2324160"/>
                <a:gridCol w="6225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œ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, forme ou genre, date, distribution d’exécution, coordonnées (carte)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 de l’expression, forme de l’expression, langue de l’express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 de la manifestation, éditeur, date de publication, genre de support, dimension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emplai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e, code à barres, provenanc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s, dates, titres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, numéro, lieu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. ex. économ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55280" y="912960"/>
            <a:ext cx="855036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69600" y="182880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crivent les liens entre les ent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entités de groupes différ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entités du même groupe (particulièrement entre entités du groupe 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dent l’usager à naviguer dans le catalogue ou la base de donné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et la co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Exemples de 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754200" y="2147760"/>
          <a:ext cx="8550000" cy="4122720"/>
        </p:xfrm>
        <a:graphic>
          <a:graphicData uri="http://schemas.openxmlformats.org/drawingml/2006/table">
            <a:tbl>
              <a:tblPr/>
              <a:tblGrid>
                <a:gridCol w="2598480"/>
                <a:gridCol w="3102120"/>
                <a:gridCol w="28494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réé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nterprété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oduit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emplai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opriété 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ujet d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traduction 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oncrétisée da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Qu’est-ce que RDA?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CA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xemples de 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991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ébert, Anne, 1916-2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mouras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j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Remémoration et commémoration dans Kamouraska 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d'Anne Hébe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 par Robert Harv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aduc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amouraska : a nov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 by Anne Hébert ; translated b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n Shapiro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ans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amourask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un film de Claude Jutra ; une coproduction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Les Productions Pierre Lamy ltée, Parc Film, Société de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radiodiffusion du Québe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e les données d’autorité qui appuient le contrôle d’autor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 et développement du modèle FRB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œuvre d’un groupe de l’IFLA appel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ANAR : Working Group on Functional Requirements and Numbering of Authority Recor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Opérations effectuées par les usagers selon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u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xtualis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ifie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ntités FRAD</a:t>
            </a:r>
            <a:br>
              <a:rPr sz="4400"/>
            </a:b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extension de FRBR </a:t>
            </a:r>
            <a:endParaRPr b="0" i="1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 d’accès contrôl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é sur le nom ou l’identifi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tion soumise à des rè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èg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que les rè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ée ou modifie le point d’accè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Accolade fermante 4"/>
          <p:cNvSpPr/>
          <p:nvPr/>
        </p:nvSpPr>
        <p:spPr>
          <a:xfrm>
            <a:off x="3200400" y="23623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685800"/>
              <a:gd name="textAreaBottom" fmla="*/ 6800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ZoneTexte 6"/>
          <p:cNvSpPr/>
          <p:nvPr/>
        </p:nvSpPr>
        <p:spPr>
          <a:xfrm flipH="1">
            <a:off x="3504600" y="2362320"/>
            <a:ext cx="3276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000000"/>
                </a:solidFill>
                <a:latin typeface="Tahoma"/>
              </a:rPr>
              <a:t>de l’entité FRB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Impact des modèles FRBR + FRAD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rige l’attention vers les aspects des codes de catalogage qui ont besoin d’être amélior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réer des notices qui vont répondre aux besoins des usa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’assurer que l’information contenue dans les notices a de la valeur pour l’us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méliorer la collocation (en particulier des vedet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méliorer la navigation dans une grosse base de donné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Structure de RDA 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936756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Plan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54200" y="21337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génér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ording attribut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ording relationshi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nex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u nombre de 1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uscules, abréviations, articles initiaux, présentation des données, désignations des relations (vocabulaire contrôl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ss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9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tribu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manifestations et des exempl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œuvres et d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personnes, familles et collectivité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concepts, objets, événements et lieu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[place réservé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73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primaires entre œuvre, expression, manifestation et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avec des personnes, des familles et des collectivités associées à une res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7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avec des concepts, des objets, des événements et des lieux associés à une œuv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29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8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œuvres, expressions, manifestations et exempl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personnes, familles et collectivité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concepts, objets, événements et lieux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[place réservé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Qu’est-ce que RDA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54200" y="23623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velle nor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l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çu pour être utilisé dans un environnement numé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çu pour être utilisé dans tous les contextes linguist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0920" y="914400"/>
            <a:ext cx="955656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1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Attributs des manifestations et des exemplair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54200" y="2817720"/>
            <a:ext cx="855000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manifestations et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mplaire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escription des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4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nformation sur l’acquisition et l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0920" y="91404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2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Attributs des 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œuvres et des expression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5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6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œuvres et d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7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escription des attributs additionnels des œuvres et des express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0920" y="912960"/>
            <a:ext cx="9556560" cy="16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3</a:t>
            </a:r>
            <a:br>
              <a:rPr sz="4000"/>
            </a:b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tributs des personnes, familles et collectivité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54200" y="2819160"/>
            <a:ext cx="8550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8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 les attributs des personnes, familles et collectivit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9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0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mil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1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collectivité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50920" y="912960"/>
            <a:ext cx="9556560" cy="16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5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</a:rPr>
              <a:t>Relations primaires entre œuvre, expression, manifestation et exemplair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54200" y="2819160"/>
            <a:ext cx="8550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156348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56348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7.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 les relations primaires entre œuvre, expression, manifestation et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0920" y="91404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6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avec des personnes, des familles et des collectivités associées à une ressourc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0664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8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9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œuv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0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1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manife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2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0920" y="99036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8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entre œuvres, expressions, manifestations et exemplair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4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5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Œ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uvr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6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ression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7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Manifestation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8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mplaires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920" y="99036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9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entre personnes, familles et collectivité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9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0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ersonn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1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Famill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2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llectivité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Concep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 de la de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ision à propos du type de res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en une seule partie, en plusieurs parties, en cours de parution, ressource intégratric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ision à propos du type de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e ou analyt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vision par chapitre puis par élément et sous-élé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élément=attribut ou re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les éléments sont optionnels ou obligato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Concep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éments de donné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 et porté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prendre l’information à cons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la cons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rendre compte des changements apportés à l’élé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s les aspects de l’élément sont regroupés au même endro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Qu’y a-t-il de neuf dans RDA?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’environnement chang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sources électro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des types de suppor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uveaux genres de pub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-utilisation des métadonnées bibliograph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sieurs nouvelles communautés reconnaissent le besoin de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des types de formats de communication des métadonnées bibliograph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lupart des directives ne sont pas différ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rimées dans un vocabulaire mis à j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-ordonnées selon une structure plus log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ées aux cadres conceptuels de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ées dans le contexte des opérations effectuées par les usagers telles qu’identifiées dans les modèles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sur le contenu compatible ave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fférentes options d’affich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fférents schémas d’encodage des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les formats communication traditionnels (p. ex. MARC21) et les options d’affichage traditionnelles (p. ex. ISB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plus grande conscience des usa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de points d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 les données qui remplissent les tâches utilisat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licite les relations entre entités pour les us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 les données qui permetten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concevoir de meilleurs affichages dans les catalog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’améliorer le regroupement des résultats de recher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scription des ressources facilité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irectives cohér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cessus de prise de décision plus log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adre conceptuel extensible : s’adaptera aux nouveaux supports, médias et types de cont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raitement intégré du mode de par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ravail entrepris avec d’autres communautés pour encourager la ré-utilisation des donné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ournit un cadre théorique permettant aux catalogueurs de développer leur ju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internationali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upprime le biais anglo-améric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’adapte aux langues, écritures, chiffres et  systèmes de dates autres que ceux utilisés en anglais ou en Occi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e à supprimer les biais religieux et cultur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53840" y="1905120"/>
            <a:ext cx="8885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pour le monde numé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comme 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pour les ressources tangibles autant qu’électro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permet la capture automatique et la ré-utilisation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transcription de ce que le catalogueur voit, tel qu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rrection des erreurs ou inexactitudes aille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facilite la capture automatique de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53840" y="1905120"/>
            <a:ext cx="8885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pour le monde numérique (sui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élimine les limitations imposées par les catalogues sur fi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d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ègle de tro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éduit les abrév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élimine le vocabulaire hérité des fiches, p. ex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vedet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emplace l’IGGD par de nouveaux termes décrivant le contenu, le médium et le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pas juste pour les bibliothè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pour s’appliquer à un large éventail de res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ocuments d’arch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mmunautés de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ublin 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EEE L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ialogue étendu à d’autres communautés de métadonnées après la première par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Mise en œuvre de 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facile à utiliser et à ense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cessus de décision log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basé sur des princi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adre théorique cohé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recherche par mots-clés et pa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able des matières et textes déroulants (table des matières comme encadr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auvegarde des recher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ig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utilise d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lux de travau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qui servent de guides pas à p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blèmes avec l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écrites à l’origine pour des catalogues sur fi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 du concept de “classe de supports” lorsqu’on décrit des documents appartenant à plus d’une classe de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hérences entre les règles des différents chapitres de la Parti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vues personnalisées dans l’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u niveau d’une institution, d’un département, d’un consort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lux de travau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différents selon le type de res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ntégration possible avec le module de catalogage du SIG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ordance avec l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0" i="1" lang="en-CA" sz="2800" spc="-1" strike="noStrike">
                <a:solidFill>
                  <a:srgbClr val="333399"/>
                </a:solidFill>
                <a:latin typeface="Tahoma"/>
              </a:rPr>
              <a:t> où est passée cette règle?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mpatibilité avec les notices exist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’intention est de maintenir la compatibilité des points d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RDA + scénarios de mise en 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œ</a:t>
            </a: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uvre dans les bases de donné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DA conçu pour satisfaire 3 scénario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cénarios 2 et 3 : données stockées dans des structures de bases de données communes et cour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cénario 1 : scénario possible dans l’aven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notices pour les entités </a:t>
            </a:r>
            <a:r>
              <a:rPr b="0" i="1" lang="en-CA" sz="2400" spc="-1" strike="noStrike">
                <a:solidFill>
                  <a:srgbClr val="000000"/>
                </a:solidFill>
                <a:latin typeface="Tahoma"/>
              </a:rPr>
              <a:t>œuvre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et </a:t>
            </a:r>
            <a:r>
              <a:rPr b="0" i="1" lang="en-CA" sz="24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tructure reflète les modèles FRBR et FR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e en œuvre initiale de RDA : en fonction du scénario 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ices bibliographiques et d’autorité relié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et MARC21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ance entre éléments de données RDA et MARC21 (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BI discussion paper no. 2008-DP04 (publié en déc. 200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dage de RDA avec MARC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ications aux formats MARC21 (bibliographique et autorités) possiblement nécessaires en vue d’une mise en œuvre de RDA selon le scénario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DA/MARC Working Group (annoncé en mars 200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et Dublin Cor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il d’application DC pour les données de R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’un vocabulaire d’éléments RD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semblables aux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mp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des vocabulaires de valeurs RDA sur le Web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contenu d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mp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ndre les métadonnées RDA interopérables avec d’autres initiatives du Web sémant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54200" y="91404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rôle des bibliothèques nationales et d’autres organismes, p. ex. OCLC, Program for Cooperative Cataloging, consortiums comme la CREPU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formation coordonn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ouveau vocabulaire à apprend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ouvelles directives (peu nombre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avigation dans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Échéancier projeté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illet 2008 : sortie de l’ébauche complè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but 2009 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ution en tant qu’outil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e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e en œuvre avant la fin de 2009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55280" y="912960"/>
            <a:ext cx="8550360" cy="5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55280" y="214776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Web du JSC : </a:t>
            </a:r>
            <a:r>
              <a:rPr b="0" lang="en-US" sz="2800" spc="-1" strike="noStrike" u="sng">
                <a:solidFill>
                  <a:srgbClr val="e5d093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e5d093"/>
                </a:solidFill>
                <a:uFillTx/>
                <a:latin typeface="Tahoma"/>
                <a:hlinkClick r:id="rId2"/>
              </a:rPr>
              <a:t>www.collectionscanada.ca/jsc/rda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ébau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géné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s de trav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uvelles et résultats des réun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 de discussion RDA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ent faire parvenir des commentai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sentation basée sur de l’information provenant d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t Steering Committ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ité canadien de catalog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DA Outreach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ésentations sur le site Web de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blèmes avec les RCAA2 (sui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ègles inadéquates pour décri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 ressources contin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 ressources électro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 imposées pour sauver de l’espace, p. ex. règle de 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ence de cadre théorique pour guider le processus de révision, le développement de nouvelles règl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280" y="912600"/>
            <a:ext cx="85503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onférence de 1997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87520" y="1600200"/>
            <a:ext cx="8550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7 International Conference on the Principles &amp; Future Development of AACR, Toro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 experts identifient 5 problèmes majeurs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u vs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logique des RCAA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érialit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tionalis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adre théorique (IFLA)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9372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e modèles conceptu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RBR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unctional Requirements for Bibliographic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RAD 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999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unctional Requirements for Authority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e principes internationaux de catalogage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2003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IME ICC Statement of International Cataloguing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4:22:48Z</dcterms:created>
  <dc:creator>Christine Oliver</dc:creator>
  <dc:description/>
  <dc:language>en-US</dc:language>
  <cp:lastModifiedBy>Paradis</cp:lastModifiedBy>
  <cp:lastPrinted>2007-04-08T20:28:39Z</cp:lastPrinted>
  <dcterms:modified xsi:type="dcterms:W3CDTF">2008-04-16T18:02:15Z</dcterms:modified>
  <cp:revision>172</cp:revision>
  <dc:subject/>
  <dc:title> </dc:title>
</cp:coreProperties>
</file>