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DFE-2460-49FD-9563-42EA5702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116-9BB2-40FD-B782-1A3E90FE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AB10-B1C1-47DD-AC64-6E9F0A8A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8B00-F719-489D-802A-BD0FE11B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DB4C-7145-4121-A5A5-1A64CE2A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CAA-EB1B-4ADD-841C-291BBF41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0429-75A8-451C-BF0F-50BA5DB4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AC8A-7B5F-4228-8618-B2BA01E7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D8EF-87C8-4D64-9807-6F8DF468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9E2-9E69-4EAF-B1F0-3BD65761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F4B8-FD3B-4D3F-8F9E-556A51F5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13B8-7AF0-4B9F-A193-B06365D9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1379-FD8F-436E-90BA-09E45104C3F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395280" y="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774880"/>
          <a:ext cx="8229600" cy="368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5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3017880"/>
          <a:ext cx="8229600" cy="3270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5/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/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/J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2/J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ZoneTexte 4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8:02:29Z</dcterms:modified>
  <cp:revision>105</cp:revision>
  <dc:subject/>
  <dc:title>Quiz Module 8: les relations RDA</dc:title>
</cp:coreProperties>
</file>