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1A9E-EADF-4C85-A1CF-1F6ED28F6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AC64-720A-4784-B3DA-1DD2A095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D5C6-563F-4003-B83E-17A67AF65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5FA4-DEFD-4897-9AB3-4003D7D4B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2581-8243-4715-89B4-A435505A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0E26-B031-49C1-AED0-001DFA6F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2ADB-6CDC-4810-95D9-9F3A0545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CE3E-4A08-4C77-AC2A-1AFAED84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332E-1B45-4554-A464-011FF0DA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3483-67A6-45C7-85C3-A484661E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9FCF-014D-4742-8A01-BBDA486A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B308-21E8-4A4E-B3DC-2FB7D89A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00F3-EA70-4271-9D73-67986396FCFE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re 1"/>
          <p:cNvSpPr/>
          <p:nvPr/>
        </p:nvSpPr>
        <p:spPr>
          <a:xfrm>
            <a:off x="395280" y="0"/>
            <a:ext cx="8229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68360" y="2774880"/>
          <a:ext cx="8229600" cy="3681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éditeur intellect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thograp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ot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view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aur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éalisateur d’émissions de télé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eur de commentaire ajou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3" name="ZoneTexte 5"/>
          <p:cNvSpPr/>
          <p:nvPr/>
        </p:nvSpPr>
        <p:spPr>
          <a:xfrm>
            <a:off x="468360" y="105264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œuv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ex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manife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 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3017880"/>
          <a:ext cx="8229600" cy="3270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rument de recher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/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2.5/J.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r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épis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te miro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la coll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roduction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/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4.2/J.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phrase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/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2.2/J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ié av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5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6" name="ZoneTexte 4"/>
          <p:cNvSpPr/>
          <p:nvPr/>
        </p:nvSpPr>
        <p:spPr>
          <a:xfrm>
            <a:off x="539640" y="134136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œuv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expre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manifes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i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7:14:56Z</dcterms:created>
  <dc:creator>Tiburon</dc:creator>
  <dc:description/>
  <dc:language>en-US</dc:language>
  <cp:lastModifiedBy>Pat Riva</cp:lastModifiedBy>
  <dcterms:modified xsi:type="dcterms:W3CDTF">2013-04-15T18:02:29Z</dcterms:modified>
  <cp:revision>105</cp:revision>
  <dc:subject/>
  <dc:title>Quiz Module 8: les relations RDA</dc:title>
</cp:coreProperties>
</file>