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6912-4300-4E62-B4F9-BE2D77015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11F0-4182-4241-95FF-A738C90C6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EFC7-F3C5-4D82-9E3F-AC6811256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C209-08B5-452C-9B12-E5CA7152C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045F-67C1-4E59-B27A-F3714BDF5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2A3F-CC32-4312-9136-749F2493C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9921-D548-4826-9035-4CFE08E9B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07AD-3772-44FB-8738-1C62EDDBC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8E46-180E-47EF-AF93-BBD74F12C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2F56-B126-4B7A-9E76-6EEFEF65B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4B67-1DFC-4534-9CA3-C640F61CF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3E19-7631-45E1-B02B-9E69E794D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D354B62-0290-450E-BA3E-12F0D9AE921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AD8D-13F4-4925-A42A-1870067C6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CCF2-253F-4354-AB91-D58C07792E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AAA2-ED07-41FA-A85D-DE26C3B3F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F862-65D6-4638-9C0A-61C78B902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B622-D100-4AEB-A87D-79AB86E89F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2A16-BD29-4046-8E8D-BDF1018A1C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12E311-B6F0-41D2-A4C3-B119B7BA699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EEBC-63A7-4F2B-8C41-7E316B15C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4-01-09T19:54:56Z</dcterms:modified>
  <cp:revision>271</cp:revision>
  <dc:subject/>
  <dc:title>Diapositive 1</dc:title>
</cp:coreProperties>
</file>