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A4C38-2D2A-471A-B319-409E532E5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D646F-F599-484C-A1F3-2E04DF0ED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DF535-03CA-46A5-93A1-D94401171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2FD7D-E58B-468B-8903-C62120E0CC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D4A39-4223-49F9-B8FF-239D024F88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45868-B170-4ABF-8616-E0FF5DEF2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4D265-9819-474A-8DC7-02B02A9CF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3F4CB-A0E2-4880-8A8E-7B2807B01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0CD3E-7973-4D24-A632-B4B597624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5473D-A8DB-47DC-A371-831EA138E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7BFC4-86D2-4341-8199-28D4EC4BB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95301-C6CC-44F5-A00B-F8F6473E3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140EE38-8A34-4529-8874-93B7524526D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C1605-8EC1-4060-82A1-C2EB25B364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bibliographiqu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a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39810-7956-4944-8DAD-845503C5B5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60813-C714-4707-ADC9-5D84E072AD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érivée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ne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2FC70-010B-40F2-AEEF-2EF1087591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uction et implantation de RDA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tenaires à la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rsion imprimée : publication jui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ise en ligne dans RDA Toolkit : 14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C/British Library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début avril 2013 pour les monographies et début juin 2013 pour les périod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rvice québécois de traitement documentaire (SQT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ril 2013 pour les documents publiés au Qué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uillet 2013 pour les documents imprimés traités par 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BF18C-D812-46A1-9E1A-00BE5D1C73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annuel de modifications a commencé 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s de notices RCAA2 dans les 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6A12E-A9D7-4191-A8B8-1C2EF21D37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983F43A-6299-4E07-911F-624CFA12620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9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7E0B9-1E55-4D73-B8D6-F3C403E73E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4-01-09T19:54:56Z</dcterms:modified>
  <cp:revision>271</cp:revision>
  <dc:subject/>
  <dc:title>Diapositive 1</dc:title>
</cp:coreProperties>
</file>