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17FFC-DD75-466E-9556-D889C4FBF7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7603B-754D-42B7-BA65-A79C9A5753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4611A-16B7-4A6F-93B0-8B8148CE84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30778-FAF4-4625-9D70-830F04FC4A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D061F-D136-4730-A153-29E85BC249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9AB8F-A864-429C-94F8-4064984B20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E4878-0507-4380-881C-93DA3C4A6D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DD252-14E8-455D-B291-B928F3148F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F2BED-DB52-405C-871F-3A3258253A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6B081-4527-4E9D-95FB-70B8AF8A0A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0502A-9762-448E-93BD-CA73F26D9D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3BFBF-C98B-4802-8CA3-831D62DCC1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5E70E44-B2C2-4710-BEB8-A6435A0B05A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nement hybr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es de donné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ices RCAA2 et notices RDA vont cohabiter dans la même base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ut comme les notices RCAA1 avec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suit le principe de continu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base de données collective définira des pol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exemple, OCLC World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1 seule notice par ressource par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ransformer RCAA2 en RDA, jamais l'in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2B4C2-2872-4396-8622-958FA0E481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bibliographiqu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résultat d'ajouts d'éléments RDA à une notice bibliographique RCAA2 existan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scription n'est pas modifiée (transcription dans le 245, etc.) et reste selon les RCAA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/18 = a (RCAA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, avec des points d'accès formulés selon RD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, avec des éléments techniques RDA (exemple, 336/337/338 ajoutés en lo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EF7FA-A155-4533-9903-D974318517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'autorité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'accès formulé selon les 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d'autorité bonifiée avec les nouvelles zones 046, 37x ou 38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jamais, un point d'accès partiellement RDA et partiellement RCA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49655-A52B-4F9D-9F12-9CC1550242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érivées ou mises à jo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éliorer l'accès à la ressour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iger les erreurs de contenu, ne pas changer d'un style à un autre, d'un code à l'aut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de l'information, ne pas en enlever (sauf si erroné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r de RCAA2 à RDA seulement avec la ressource en main pour en faire une nouvell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75CC3-E9C0-4BC3-8AA5-4EBFB5D8E4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endri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uction et implantation de RDA en frança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tenaires à la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STED, BAC, BAnQ, B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ersion imprimée : publication jui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ise en ligne dans RDA Toolkit : 14 mai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C/British Library : transition terminée le 31 mars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AnQ : début avril 2013 pour les monographies et début juin 2013 pour les périod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ervice québécois de traitement documentaire (SQTD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vril 2013 pour les documents publiés au Qué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juillet 2013 pour les documents imprimés traités par S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0C573-7618-4742-AD72-5EC86904B9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sus conti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 annuel de modifications a commencé 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uction des mises à 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cations de notices RCAA2 dans les catalo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volution des SI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7C436-B41C-47F7-B5CC-CAD1166F81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B83EE1B-DBC9-4CE8-9466-0CD3303E120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690480" y="1882800"/>
            <a:ext cx="391968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égion de Montréal : 514 873-110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ns frais, d’ailleurs au Québec : 1 800 363-902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RANDE BIBLIOTHÈQU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475, boulevard De Maisonneuve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5C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 DE CONSERVATIO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75, rue Ho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G 3H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S D’ARCHIVE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bitibi-Témiscamingue et Nord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7, rue du Terminus Ou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uyn-Noranda (Québec)  J9X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as-Saint-Laurent et 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aspésie–Îles-de-la-Madelein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337, rue More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imouski (Québec)  G5L 1P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000000"/>
                </a:solidFill>
                <a:latin typeface="Arial"/>
              </a:rPr>
              <a:t>Point de service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0, boulevard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spé (Québec)  G4X 1A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ôte-Nord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700, boulevard Laure, bureau 19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pt-Îles (Québec)  G4R 1Y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262480" y="2336760"/>
            <a:ext cx="359892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stri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Frontenac, bureau 40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herbrooke (Québec)  J1H 1K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uricie et Centre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des Forges, bureau 20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ois-Rivières (Québec)  G9A 2G7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ontré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535, avenue Viger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utaouai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55, boulevard de la Gapp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tineau (Québec)  J8T 8H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villon Louis-Jacques-Cas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ampus de l’Université Lava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055, avenue du Séminair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Québec (Québec)  G1V 4N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guenay–Lac-Saint-Jea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930, rue Jacques-Cartier Est, bureau C-10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aguenay (Québec)  G7H 7K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0" name="Image 9" descr="bandeauux ppt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98A90-1E1F-4947-8800-4BF337E316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12-06T17:01:06Z</dcterms:modified>
  <cp:revision>270</cp:revision>
  <dc:subject/>
  <dc:title>Diapositive 1</dc:title>
</cp:coreProperties>
</file>