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23F9-F0D2-4B3E-81E7-074EF3CC8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B7CF-B30A-4B28-A08B-565D39658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6DE9E-A38E-4EEC-8BB9-6E1968A36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6049-D88D-42F1-932A-B96EB92589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51436-35CD-4A97-B7C9-A079A18C04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A938-C8FB-45E1-B33A-E8F997050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4310-F71E-43E8-8E8C-4D9A457E3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A7BF-D09A-424A-AC6F-1E8385FEB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7602-80B8-4AAD-8565-C143ACDF6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2264-515B-482C-A3FA-F8DB5690C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27A3-EF66-4C2E-B0AA-CA399E7A3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EC16-0C34-4D77-A0FB-FC8C27813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07265CC-75EB-4A60-9983-169ABBD9C0B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0979-6A52-4B61-8140-78598C5180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EB36-A945-4DF9-AD4E-A61E55A622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6112C-8F0C-40A1-B547-532A50783E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CDC52-C86A-4215-9A93-F0CD12DD25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8A23-77B6-44AE-8389-9FF60BE2D2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1A6F-700D-4146-B243-A378673C76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4271C0E-7C80-4DC3-A6D6-1AA1FA32AD1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CFA0-3951-4091-863C-230A149E0E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1:06Z</dcterms:modified>
  <cp:revision>270</cp:revision>
  <dc:subject/>
  <dc:title>Diapositive 1</dc:title>
</cp:coreProperties>
</file>