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6520" cy="34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E8085E-C99A-4237-BD3D-6FED4D0F0D2F}" type="slidenum">
              <a: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C8B6D3-A6BE-4AE7-962F-4D3FE47DD414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9DFA-7E97-491C-9919-515FA8A0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FCAE-CA53-4EA7-AF2D-4F805CB0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D7F-B11C-4AC0-A1BC-03E8620B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4DF5-4C4C-4BD6-8F46-9BD628E7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FD56-B91B-4263-9968-A32DF4BD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0845-E6AB-4E24-BB19-A8397385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CD4E-ED28-48BA-84DB-A186501E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68BE-028F-48F1-9CEB-B6567DFE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99BF-3E7C-4127-85AF-1F63ACFE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CAD8-DA85-4D15-B71C-00D5F00C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29A1-04A0-4B7C-B6BD-9391CDC6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D57B-3803-4912-BBDC-B0B448CE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43C0-F27E-4CAE-9B2A-769830D3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A752-124F-4839-9C83-09FBAF5D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7A1B-1446-4647-883E-AFD3F631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36E9-8215-411D-96B3-BA6D309E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F4F6-3D4D-4D53-8D8A-4A4863E2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FC02-BAD4-45AC-94B0-2E3DAA9F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62ED-9C96-4CE2-8033-F180C14F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AE14-846E-46AB-9704-1AD7EF40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A216-2FDB-435F-B80D-94588EE5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4DCE-C6D6-495A-9EB5-FF88F469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1D00-1559-40DB-899D-607F1854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E803-121B-4E3C-A4A3-A840BA7D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91B80F-B437-4593-A7AE-5D3C5C41E7A9}" type="slidenum">
              <a: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6C0FCCC-9EA6-4C8F-B3C1-03ABCB9A17E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CA" sz="4000" spc="-1" strike="noStrike">
                <a:solidFill>
                  <a:srgbClr val="333399"/>
                </a:solidFill>
                <a:latin typeface="Arial"/>
                <a:ea typeface="Arial"/>
              </a:rPr>
              <a:t>Quiz</a:t>
            </a:r>
            <a:br>
              <a:rPr sz="4000"/>
            </a:br>
            <a:r>
              <a:rPr b="1" i="1" lang="en-CA" sz="3600" spc="-1" strike="noStrike">
                <a:solidFill>
                  <a:srgbClr val="333399"/>
                </a:solidFill>
                <a:latin typeface="Arial"/>
                <a:ea typeface="Arial"/>
              </a:rPr>
              <a:t>Les relations R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4000" spc="-1" strike="noStrike">
                <a:solidFill>
                  <a:srgbClr val="333399"/>
                </a:solidFill>
                <a:latin typeface="Calibri"/>
              </a:rPr>
              <a:t>RDA fournit des instructions pour quels types de rel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es relations entre les ressources et les personnes/collectivités/fam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es relations entre les œuvres, les expressions, les manifestations et les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es relations entre les personnes, les collectivités et les fam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es relations entre les concepts, les objets, les événements et les lieu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" dur="indefinite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" dur="indefinite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287280"/>
            <a:ext cx="822960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Que retrouve-t-on dans les </a:t>
            </a:r>
            <a:br>
              <a:rPr sz="3600"/>
            </a:b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annexes I, J et K?</a:t>
            </a:r>
            <a:r>
              <a:rPr b="1" lang="fr-CA" sz="40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133720"/>
            <a:ext cx="82296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Des listes fermées de termes relatifs aux types de médias, de contenus et de supports matériels R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Des listes ouvertes d’indicateurs de relation pour qualifier les différents types de relations existant entre les entité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263520"/>
            <a:ext cx="82296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Parmi les énoncés ci-dessous, lesquels expriment une relation entre une œuvre et une person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9120" y="2575080"/>
            <a:ext cx="8085240" cy="33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uteur du roma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rtiste qui a créé le tableau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e compositeur du concerto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nnotateur de la version manuscrite de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3" dur="indefinite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4" dur="indefinite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Arial"/>
                <a:ea typeface="Arial"/>
              </a:rPr>
              <a:t>Les indicateurs de relatio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413000"/>
            <a:ext cx="82296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xpriment la nature précise d’une re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ont codés en $e à la </a:t>
            </a:r>
            <a:r>
              <a:rPr b="0" i="1" lang="fr-FR" sz="3000" spc="-1" strike="noStrike">
                <a:solidFill>
                  <a:srgbClr val="000000"/>
                </a:solidFill>
                <a:latin typeface="Calibri"/>
              </a:rPr>
              <a:t>fin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s zones 100 ou 700 pour exprimer le rôle de la person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ont codés en $i au </a:t>
            </a:r>
            <a:r>
              <a:rPr b="0" i="1" lang="fr-FR" sz="3000" spc="-1" strike="noStrike">
                <a:solidFill>
                  <a:srgbClr val="000000"/>
                </a:solidFill>
                <a:latin typeface="Calibri"/>
              </a:rPr>
              <a:t>début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 zones 700, 775, etc. pour exprimer une relation entre res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’accordent avec le genre de la person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1" dur="indefinite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2" dur="indefinite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5" dur="indefinite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6" dur="indefinite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9" dur="indefinite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0" dur="indefinite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50003" t="26393" r="26745" b="16639"/>
          <a:stretch/>
        </p:blipFill>
        <p:spPr>
          <a:xfrm>
            <a:off x="2700360" y="326880"/>
            <a:ext cx="4535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Lesquelles des options suivantes sont conformes à RD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Quatre zones 700 pour Gariépy, Gauthier, Paulhiac Scherrer et Scherrer, sans $e auteu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Une seule zone 700 pour Garié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Aucune zone 7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L’indicateur de relation «auteur», saisi en $e dans quatre zones 700 pour Gariépy, Gauthier, Paulhiac Scherrer et Scherr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1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2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3" dur="indefinite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Daniel Paradis</cp:lastModifiedBy>
  <dcterms:modified xsi:type="dcterms:W3CDTF">2013-12-20T19:09:57Z</dcterms:modified>
  <cp:revision>120</cp:revision>
  <dc:subject/>
  <dc:title>Quiz Module 8: les relations RDA</dc:title>
</cp:coreProperties>
</file>