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3EEBAE-275B-4E0C-AB32-6723DAC041BC}" type="slidenum"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ABE0E0-C065-4433-872C-68A13775B33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280-5580-458C-A929-7D6AC2FC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F36-40F1-45BC-86BB-81FDBEFB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63F-DF79-4035-AAA1-0F2427CC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C08-25D8-4235-9B5B-2D968731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27DF-7E93-4CB2-B32D-17D702A7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7EFC-ABE7-40CD-BE4A-C2ABC43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EB3B-7E00-4D94-87C8-E2F95E10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0611-6E38-4CE3-86C2-B8DC77F8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0AB2-A7D9-4708-8AE0-C3F72EB9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02AB-7EA3-4303-B9AD-A527FC92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7581-2A26-42F8-AA69-5949DFF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B78-612C-47CC-AAE8-C53B6575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DFF1-5935-4124-B653-1EF3BC59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E772-5042-4472-8052-E906EB1A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8E54-A70D-4A69-8EBC-2DD57480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57C9-BEF1-4E5D-A2E8-4A78BF6C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FAAC-45FE-407C-96DB-22672E35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789-8940-4097-85A4-52CE34B8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9E4-6ED8-46CA-B88F-C052CE5B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C2B-5C79-4FA2-9D69-721E5CB3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08A-776E-4746-8866-03E29442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864-80ED-450B-B319-83AD791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01A-E627-4177-8248-95B4087F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291-4D26-42FF-9615-CD6F6A8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40AF68-053F-4E4F-B9D8-D7A7F047027F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43BF8F-7CCA-4EE7-9D24-51E959A8A2F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87280"/>
            <a:ext cx="82296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CA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13372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635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2575080"/>
            <a:ext cx="80852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Daniel Paradis</cp:lastModifiedBy>
  <dcterms:modified xsi:type="dcterms:W3CDTF">2013-12-20T19:09:57Z</dcterms:modified>
  <cp:revision>120</cp:revision>
  <dc:subject/>
  <dc:title>Quiz Module 8: les relations RDA</dc:title>
</cp:coreProperties>
</file>