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27C80BF-C2BE-4F84-8939-7BE44542C748}" type="datetime">
              <a:rPr b="1" lang="fr-CA" sz="1200" spc="-1" strike="noStrike">
                <a:solidFill>
                  <a:srgbClr val="000000"/>
                </a:solidFill>
                <a:latin typeface="Arial Unicode MS"/>
                <a:ea typeface="Arial Unicode MS"/>
              </a:rPr>
              <a:t>26-07-30</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FAD09C7-8A8F-4C6C-80E1-91D8A36C458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CBD1973-F3C4-4840-98AF-DB3489FFC89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29D6311-0ADA-4B48-815A-CEE25A2D111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60A34B5-216E-4797-8B84-C761B8566BD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0ABBF76-246A-4D36-8DAE-869995E1981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38E93E4-9B31-4651-B912-1A532E445C0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830D5D6-EFB0-43F1-BB9A-3CED47AA0B1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46B6D35-0AEC-4D50-979F-EE4AA4A41B7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26CFA70-57E9-4A41-AAB8-4B48D91D00F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0784EDD-99F0-4EAC-B1EA-C9E851EC985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9127791-25DD-45E0-810C-FCBE7DA572E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5D76980-346F-4F43-99A3-A9F38EB63D1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BA0079C-DC75-465A-9E0B-3AA62ED9609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481F08E-51B3-4676-8A53-ECBA735500E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658DAB7-C698-4473-851F-07F8A9A24AE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74843A-9199-40B2-A835-7A990474BB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62271C-D830-4B6B-9720-D30FD6FB1C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1B6E55-AD84-4157-8CCE-05F22CBB8A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108168-6982-4345-AEF8-7343BCE8BC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F8C502-8D7B-4C2D-9765-A650CD5102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580838-FBAC-4D74-A5D8-8A347BA239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DCB7D1-3A2F-45D6-A46A-99F370AF59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0F44BD-0496-4C62-ADE0-1C9A31042E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CE2B02-7524-4AD5-9E29-A438959301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2E75E7-086F-4118-8965-D22C1DAEC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7BAEA8-55A2-4345-BFCD-CA24A58C99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7E9723-A2B9-4EF6-9860-D94828AE3E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203E51-5C1D-4F33-9792-9143D3DFD8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E64000-E2C7-4662-9A3F-71D8D57F62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00 $w r $i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optionnelles peuvent être ajoutées dans la zone 5XX $w r $i </a:t>
            </a:r>
            <a:br>
              <a:rPr sz="2800"/>
            </a:br>
            <a:r>
              <a:rPr b="0" lang="fr-CA"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F6E869-AA8F-4032-B014-360ACA6AF3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A79BF1-1B26-4D64-A530-FD17F45323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éateurs</a:t>
            </a:r>
            <a:r>
              <a:rPr b="0" lang="fr-CA"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ntributeurs</a:t>
            </a:r>
            <a:r>
              <a:rPr b="0" lang="fr-CA"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priétaires, annotateurs, signataires autographes, etc. associés aux items </a:t>
            </a:r>
            <a:br>
              <a:rPr sz="2800"/>
            </a:br>
            <a:r>
              <a:rPr b="0" lang="fr-CA"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AD9A9D-46EB-45C9-BCA4-4475512CF5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AFFD06-3725-4EA1-B894-C53AE1034D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a:t>
            </a:r>
            <a:r>
              <a:rPr b="0" lang="fr-CA"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753AED-F43B-4376-A346-8091DB6E529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1XX</a:t>
            </a:r>
            <a:r>
              <a:rPr b="0" lang="fr-CA" sz="2800" spc="-1" strike="noStrike">
                <a:solidFill>
                  <a:srgbClr val="ff0000"/>
                </a:solidFill>
                <a:latin typeface="Arial"/>
              </a:rPr>
              <a:t> </a:t>
            </a:r>
            <a:r>
              <a:rPr b="0" lang="fr-CA"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2</a:t>
            </a:r>
            <a:r>
              <a:rPr b="0" lang="fr-CA"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728B3E-4FC4-487C-8E20-3AF818E658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a:t>
            </a:r>
            <a:r>
              <a:rPr b="1" lang="fr-CA" sz="2400" spc="-1" strike="noStrike">
                <a:solidFill>
                  <a:srgbClr val="008093"/>
                </a:solidFill>
                <a:latin typeface="Arial Unicode MS"/>
                <a:ea typeface="Arial Unicode MS"/>
              </a:rPr>
              <a:t> </a:t>
            </a:r>
            <a:r>
              <a:rPr b="1" lang="fr-CA" sz="2400" spc="-1" strike="noStrike">
                <a:solidFill>
                  <a:srgbClr val="008093"/>
                </a:solidFill>
                <a:latin typeface="Courier New"/>
                <a:ea typeface="Courier New"/>
              </a:rPr>
              <a:t>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10 $a Nouvelle-Écosse, </a:t>
            </a:r>
            <a:r>
              <a:rPr b="1" lang="fr-CA" sz="2400" spc="-1" strike="noStrike">
                <a:solidFill>
                  <a:srgbClr val="008093"/>
                </a:solidFill>
                <a:latin typeface="Courier New"/>
                <a:ea typeface="Courier New"/>
              </a:rPr>
              <a:t>$e juridiction </a:t>
            </a:r>
            <a:r>
              <a:rPr b="1" lang="fr-CA" sz="2400" spc="-1" strike="noStrike">
                <a:solidFill>
                  <a:srgbClr val="008093"/>
                </a:solidFill>
                <a:latin typeface="Courier New"/>
                <a:ea typeface="Courier New"/>
              </a:rPr>
              <a:t>	</a:t>
            </a:r>
            <a:r>
              <a:rPr b="1" lang="fr-CA" sz="2400" spc="-1" strike="noStrike">
                <a:solidFill>
                  <a:srgbClr val="008093"/>
                </a:solidFill>
                <a:latin typeface="Courier New"/>
                <a:ea typeface="Courier New"/>
              </a:rPr>
              <a:t>promulgatrice</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0CCB44-6FC8-4334-B61C-DF801C298A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Institut Aspen France, </a:t>
            </a:r>
            <a:r>
              <a:rPr b="1" lang="fr-CA" sz="2400" spc="-1" strike="noStrike">
                <a:solidFill>
                  <a:srgbClr val="008093"/>
                </a:solidFill>
                <a:latin typeface="Courier New"/>
              </a:rPr>
              <a:t>$e commanditaire</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21990F-6098-412E-A438-F963B8F509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277385-B268-42FD-98B6-9335735EAE9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LC :</a:t>
            </a:r>
            <a:r>
              <a:rPr b="0" lang="fr-CA"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ACEDA3-21DA-4917-9B80-68E9A1B367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FA6527-BB99-484C-B9D7-86FF0053218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C5FC9F-DE72-4048-9A70-946B4E349E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7XX</a:t>
            </a:r>
            <a:r>
              <a:rPr b="0" lang="fr-CA"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3</a:t>
            </a:r>
            <a:r>
              <a:rPr b="0" lang="fr-CA"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747871-D0B6-4C03-8784-95EFCF3979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BCFBCE-1117-415D-8FDD-0AB740825D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2EABBA-99BD-4CD3-B583-3D50B1FCCE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86363E-B9EF-428E-9775-31602AC9D5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BE35C3-5A3A-4DD7-B889-222DA80FFD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fr-CA" sz="2400" spc="-1" strike="noStrike">
                <a:solidFill>
                  <a:srgbClr val="008093"/>
                </a:solidFill>
                <a:latin typeface="Arial"/>
              </a:rPr>
              <a:t>*</a:t>
            </a:r>
            <a:r>
              <a:rPr b="0" lang="fr-CA"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BDA4CD-AE14-443A-831B-B080AEF195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05FFED-7C40-40EF-BFCD-2C46D7002E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6A9FC4D-CE4C-4F30-9C91-2067A46AAB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tributeur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C63AEA-CA27-479E-B0C5-A318110BFE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dans les </a:t>
            </a:r>
            <a:r>
              <a:rPr b="0" lang="fr-CA" sz="2800" spc="-1" strike="noStrike">
                <a:solidFill>
                  <a:srgbClr val="008093"/>
                </a:solidFill>
                <a:latin typeface="Arial"/>
              </a:rPr>
              <a:t>notices bibliographiques</a:t>
            </a:r>
            <a:r>
              <a:rPr b="0" lang="fr-CA" sz="2800" spc="-1" strike="noStrike">
                <a:solidFill>
                  <a:srgbClr val="000000"/>
                </a:solidFill>
                <a:latin typeface="Arial"/>
              </a:rPr>
              <a:t> et/ou les </a:t>
            </a:r>
            <a:r>
              <a:rPr b="0" lang="fr-CA" sz="2800" spc="-1" strike="noStrike">
                <a:solidFill>
                  <a:srgbClr val="008093"/>
                </a:solidFill>
                <a:latin typeface="Arial"/>
              </a:rPr>
              <a:t>notices d’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5D6316-A5FC-4229-9B01-1E78373CCB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a:t>
            </a:r>
            <a:r>
              <a:rPr b="0" lang="fr-CA" sz="2800" spc="-1" strike="noStrike">
                <a:solidFill>
                  <a:srgbClr val="008093"/>
                </a:solidFill>
                <a:latin typeface="Arial"/>
              </a:rPr>
              <a:t>qu’est-ce que c’est</a:t>
            </a:r>
            <a:r>
              <a:rPr b="0" lang="fr-CA"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urquoi</a:t>
            </a:r>
            <a:r>
              <a:rPr b="0" lang="fr-CA"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DFDEC2-7AA8-4F8F-8AD4-4EFD134B33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35241C-33A3-4230-9B4C-C64461AC20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s types de ressources, </a:t>
            </a:r>
            <a:r>
              <a:rPr b="0" lang="fr-CA" sz="2400" spc="-1" strike="noStrike">
                <a:solidFill>
                  <a:srgbClr val="008093"/>
                </a:solidFill>
                <a:latin typeface="Arial"/>
              </a:rPr>
              <a:t>ne pas créer</a:t>
            </a:r>
            <a:r>
              <a:rPr b="0" lang="fr-CA"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9E1771-D6A3-4D5B-A58C-DD59BE2644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t>
            </a:r>
            <a:r>
              <a:rPr b="1" lang="fr-CA" sz="2400" spc="-1" strike="noStrike">
                <a:solidFill>
                  <a:srgbClr val="000000"/>
                </a:solidFill>
                <a:latin typeface="Courier New"/>
              </a:rPr>
              <a:t>	</a:t>
            </a:r>
            <a:r>
              <a:rPr b="1" lang="fr-CA"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a:t>
            </a:r>
            <a:r>
              <a:rPr b="1" lang="fr-CA" sz="2400" spc="-1" strike="noStrike">
                <a:solidFill>
                  <a:srgbClr val="000000"/>
                </a:solidFill>
                <a:latin typeface="Courier New"/>
              </a:rPr>
              <a:t>	</a:t>
            </a:r>
            <a:r>
              <a:rPr b="1" lang="fr-CA"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t>
            </a:r>
            <a:r>
              <a:rPr b="1" lang="fr-CA" sz="2400" spc="-1" strike="noStrike">
                <a:solidFill>
                  <a:srgbClr val="000000"/>
                </a:solidFill>
                <a:latin typeface="Courier New"/>
              </a:rPr>
              <a:t>	</a:t>
            </a:r>
            <a:r>
              <a:rPr b="1" lang="fr-CA"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338359-BDAF-47A2-8CAE-FB619ADE21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B41560-D1E3-4195-B9E5-9151165DA1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091DC7-B05A-4032-8C06-8B42CEA408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000000"/>
                </a:solidFill>
                <a:latin typeface="Arial Unicode MS"/>
                <a:ea typeface="Arial Unicode MS"/>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5E58C3-D601-4CCF-9BE4-7F3F14B5C8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5270A8-F963-44DC-8714-A51BC21488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66B789-DEAF-433D-9AFA-9B6D0E1137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éditions, etc.</a:t>
            </a: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r>
              <a:rPr b="0" lang="fr-CA"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D96414-6023-455E-8FB8-003704F1B1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a:t>
            </a:r>
            <a:r>
              <a:rPr b="0" lang="fr-CA"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 :</a:t>
            </a:r>
            <a:r>
              <a:rPr b="0" lang="fr-CA" sz="2800" spc="-1" strike="noStrike">
                <a:solidFill>
                  <a:srgbClr val="000000"/>
                </a:solidFill>
                <a:latin typeface="Arial"/>
              </a:rPr>
              <a:t> 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4</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EAEE8BB-CDC5-44AF-9F5B-D8DBEA7C0C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ntités</a:t>
            </a:r>
            <a:r>
              <a:rPr b="0" lang="fr-CA"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Types</a:t>
            </a:r>
            <a:r>
              <a:rPr b="0" lang="fr-CA"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6A3DC9-CD0E-4B67-A721-6362A58578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41CFF8-5777-4A01-A07C-4BED20C5FD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A3353A-EFD8-4D9E-BE63-5DB638CF48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qui s’appliquent à une </a:t>
            </a:r>
            <a:r>
              <a:rPr b="0" lang="fr-CA" sz="2800" spc="-1" strike="noStrike">
                <a:solidFill>
                  <a:srgbClr val="008093"/>
                </a:solidFill>
                <a:latin typeface="Arial"/>
              </a:rPr>
              <a:t>copie unique</a:t>
            </a:r>
            <a:r>
              <a:rPr b="0" lang="fr-CA" sz="2800" spc="-1" strike="noStrike">
                <a:solidFill>
                  <a:srgbClr val="000000"/>
                </a:solidFill>
                <a:latin typeface="Arial"/>
              </a:rPr>
              <a:t> de la manifestation – habituellement, information </a:t>
            </a:r>
            <a:r>
              <a:rPr b="0" lang="fr-CA"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A376EA-56FD-4782-B81B-BF06B18298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 pas</a:t>
            </a:r>
            <a:r>
              <a:rPr b="0" lang="fr-CA"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5</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C7016A-B04F-41F8-A299-193A4852084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1 ## </a:t>
            </a:r>
            <a:r>
              <a:rPr b="1" lang="fr-CA" sz="2400" spc="-1" strike="noStrike">
                <a:solidFill>
                  <a:srgbClr val="008093"/>
                </a:solidFill>
                <a:latin typeface="Courier New"/>
              </a:rPr>
              <a:t>$a Relié avec :</a:t>
            </a:r>
            <a:r>
              <a:rPr b="1" lang="fr-CA"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33B4B4B-AEBF-4E80-B816-9DFC13EB08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411751-B9EF-4E2D-B898-6B2E66F3C2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établies dans les notices d’</a:t>
            </a:r>
            <a:r>
              <a:rPr b="0" lang="fr-CA" sz="2800" spc="-1" strike="noStrike">
                <a:solidFill>
                  <a:srgbClr val="008093"/>
                </a:solidFill>
                <a:latin typeface="Arial"/>
              </a:rPr>
              <a:t>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B810D9-4343-4471-AA0F-C32016B782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7A6078-E960-4016-9790-1D5B2A870A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enregistrées dans la zone MARC </a:t>
            </a:r>
            <a:r>
              <a:rPr b="0" lang="fr-CA" sz="2800" spc="-1" strike="noStrike">
                <a:solidFill>
                  <a:srgbClr val="008093"/>
                </a:solidFill>
                <a:latin typeface="Arial"/>
              </a:rPr>
              <a:t>5XX</a:t>
            </a:r>
            <a:r>
              <a:rPr b="0" lang="fr-CA" sz="2800" spc="-1" strike="noStrike">
                <a:solidFill>
                  <a:srgbClr val="000000"/>
                </a:solidFill>
                <a:latin typeface="Arial"/>
              </a:rPr>
              <a:t> de la </a:t>
            </a:r>
            <a:r>
              <a:rPr b="0" lang="fr-CA" sz="2800" spc="-1" strike="noStrike">
                <a:solidFill>
                  <a:srgbClr val="008093"/>
                </a:solidFill>
                <a:latin typeface="Arial"/>
              </a:rPr>
              <a:t>notice d’autorité</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relations sont indiquées, dans le format MARC, par une valeur saisie dans la </a:t>
            </a:r>
            <a:r>
              <a:rPr b="0" lang="fr-CA"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utilise la sous-zone $w pour</a:t>
            </a:r>
            <a:r>
              <a:rPr b="0" lang="fr-CA" sz="2800" spc="-1" strike="noStrike">
                <a:solidFill>
                  <a:srgbClr val="008093"/>
                </a:solidFill>
                <a:latin typeface="Arial"/>
              </a:rPr>
              <a:t> </a:t>
            </a:r>
            <a:r>
              <a:rPr b="0" lang="fr-CA"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85E78C-757C-4828-9577-E63D9CC81E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réelle :</a:t>
            </a:r>
            <a:r>
              <a:rPr b="1" lang="fr-CA" sz="2400" spc="-1" strike="noStrike">
                <a:solidFill>
                  <a:srgbClr val="000000"/>
                </a:solidFill>
                <a:latin typeface="Courier New"/>
              </a:rPr>
              <a:t>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alternativ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BE9D4D-508E-49AF-9F25-E1619BD0D5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6EFA80-26AA-4DE0-823C-F49A5322D4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C6A0C9B-85C6-4F29-9D24-30AA810F1F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5C75E1-67F8-4EEC-8B31-F7D6554A4B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a</a:t>
            </a:r>
            <a:r>
              <a:rPr b="1" lang="fr-CA"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b</a:t>
            </a:r>
            <a:r>
              <a:rPr b="1" lang="fr-CA"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BDFB9F6-6458-4685-B9B0-84E3C4DF45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a:t>
            </a:r>
            <a:r>
              <a:rPr b="0" lang="fr-CA"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catalogueur juge s’il est pertinent de saisir dans la </a:t>
            </a:r>
            <a:r>
              <a:rPr b="0" lang="fr-CA" sz="2400" spc="-1" strike="noStrike">
                <a:solidFill>
                  <a:srgbClr val="008093"/>
                </a:solidFill>
                <a:latin typeface="Arial"/>
              </a:rPr>
              <a:t>sous-zone $i</a:t>
            </a:r>
            <a:r>
              <a:rPr b="0" lang="fr-CA" sz="2400" spc="-1" strike="noStrike">
                <a:solidFill>
                  <a:srgbClr val="000000"/>
                </a:solidFill>
                <a:latin typeface="Arial"/>
              </a:rPr>
              <a:t> un </a:t>
            </a:r>
            <a:r>
              <a:rPr b="0" lang="fr-CA" sz="2400" spc="-1" strike="noStrike">
                <a:solidFill>
                  <a:srgbClr val="008093"/>
                </a:solidFill>
                <a:latin typeface="Arial"/>
              </a:rPr>
              <a:t>indicateur de relation issu de l’annexe K</a:t>
            </a:r>
            <a:r>
              <a:rPr b="0" lang="fr-CA"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 faut utiliser la valeur </a:t>
            </a:r>
            <a:r>
              <a:rPr b="0" lang="fr-CA" sz="2400" spc="-1" strike="noStrike">
                <a:solidFill>
                  <a:srgbClr val="008093"/>
                </a:solidFill>
                <a:latin typeface="Arial"/>
              </a:rPr>
              <a:t>« r » dans la sous-zone $w</a:t>
            </a:r>
            <a:r>
              <a:rPr b="0" lang="fr-CA"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9A9268-18C7-465A-B0DF-DA5D314645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Exemple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Lacombe, Aurèle</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 (Famille : $d 1869-1999 : $c</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Toronto, 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CE26EA-1BBF-440E-B851-252CEA50AC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litique LC </a:t>
            </a:r>
            <a:r>
              <a:rPr b="0" lang="fr-CA"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685800" y="776160"/>
            <a:ext cx="7764480" cy="441972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5D9ED9-B179-4EFA-9F96-02AA0CACB0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423720" y="1600200"/>
            <a:ext cx="8460000" cy="4525920"/>
          </a:xfrm>
          <a:prstGeom prst="rect">
            <a:avLst/>
          </a:prstGeom>
          <a:noFill/>
          <a:ln w="0">
            <a:noFill/>
          </a:ln>
        </p:spPr>
        <p:txBody>
          <a:bodyPr anchor="t">
            <a:normAutofit/>
          </a:bodyPr>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oints d’accès autorisés</a:t>
            </a:r>
            <a:br>
              <a:rPr sz="2200"/>
            </a:br>
            <a:r>
              <a:rPr b="1" lang="fr-CA" sz="2200" spc="-1" strike="noStrike">
                <a:solidFill>
                  <a:srgbClr val="000000"/>
                </a:solidFill>
                <a:latin typeface="Courier New"/>
              </a:rPr>
              <a:t>110 2# </a:t>
            </a:r>
            <a:r>
              <a:rPr b="1" lang="fr-CA" sz="2200" spc="-1" strike="noStrike">
                <a:solidFill>
                  <a:srgbClr val="000000"/>
                </a:solidFill>
                <a:latin typeface="Courier New"/>
              </a:rPr>
              <a:t>	</a:t>
            </a:r>
            <a:r>
              <a:rPr b="1" lang="fr-CA" sz="2200" spc="-1" strike="noStrike">
                <a:solidFill>
                  <a:srgbClr val="000000"/>
                </a:solidFill>
                <a:latin typeface="Courier New"/>
              </a:rPr>
              <a:t>$a Société canadienne d'anthropologie, </a:t>
            </a:r>
            <a:r>
              <a:rPr b="1" lang="fr-CA" sz="2200" spc="-1" strike="noStrike">
                <a:solidFill>
                  <a:srgbClr val="ff0000"/>
                </a:solidFill>
                <a:latin typeface="Courier New"/>
              </a:rPr>
              <a:t>	</a:t>
            </a:r>
            <a:r>
              <a:rPr b="1" lang="fr-CA" sz="2200" spc="-1" strike="noStrike">
                <a:solidFill>
                  <a:srgbClr val="008093"/>
                </a:solidFill>
                <a:latin typeface="Courier New"/>
              </a:rPr>
              <a:t>$e auteur</a:t>
            </a:r>
            <a:r>
              <a:rPr b="1" lang="fr-CA" sz="2200" spc="-1" strike="noStrike">
                <a:solidFill>
                  <a:srgbClr val="000000"/>
                </a:solidFill>
                <a:latin typeface="Courier New"/>
              </a:rPr>
              <a:t>.</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structurée</a:t>
            </a:r>
            <a:br>
              <a:rPr sz="2200"/>
            </a:br>
            <a:r>
              <a:rPr b="1" lang="fr-CA" sz="2200" spc="-1" strike="noStrike">
                <a:solidFill>
                  <a:srgbClr val="008093"/>
                </a:solidFill>
                <a:latin typeface="Courier New"/>
              </a:rPr>
              <a:t>776 08 $i Reproduction de (manifestation): </a:t>
            </a:r>
            <a:r>
              <a:rPr b="1" lang="fr-CA" sz="2200" spc="-1" strike="noStrike">
                <a:solidFill>
                  <a:srgbClr val="000000"/>
                </a:solidFill>
                <a:latin typeface="Courier New"/>
              </a:rPr>
              <a:t>$a</a:t>
            </a:r>
            <a:r>
              <a:rPr b="1" lang="fr-CA" sz="2200" spc="-1" strike="noStrike">
                <a:solidFill>
                  <a:srgbClr val="000000"/>
                </a:solidFill>
                <a:latin typeface="Arial Unicode MS"/>
                <a:ea typeface="Arial Unicode MS"/>
              </a:rPr>
              <a:t> </a:t>
            </a:r>
            <a:r>
              <a:rPr b="1" lang="fr-CA" sz="2200" spc="-1" strike="noStrike">
                <a:solidFill>
                  <a:srgbClr val="000000"/>
                </a:solidFill>
                <a:latin typeface="Courier New"/>
              </a:rPr>
              <a:t> Lemoine, Wilfrid, 1927-2003 $t Les anges dans la ville ; suivi de L'ange gardien ; L'ange de solitude $d Montréal : Éditions d’Orphée, 1959</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non structurée</a:t>
            </a:r>
            <a:br>
              <a:rPr sz="2200"/>
            </a:br>
            <a:r>
              <a:rPr b="1" lang="fr-CA" sz="2200" spc="-1" strike="noStrike">
                <a:solidFill>
                  <a:srgbClr val="008093"/>
                </a:solidFill>
                <a:latin typeface="Courier New"/>
              </a:rPr>
              <a:t>500</a:t>
            </a:r>
            <a:r>
              <a:rPr b="1" lang="fr-CA" sz="2200" spc="-1" strike="noStrike">
                <a:solidFill>
                  <a:srgbClr val="000000"/>
                </a:solidFill>
                <a:latin typeface="Courier New"/>
              </a:rPr>
              <a:t> ## $a Compilation d’essais, entretiens et discussions précédemment publiés dans le webzine Library juice entre 1998 et 20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A68EEF-ABB0-482E-A3BA-6535BC7B08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BANQ</cp:lastModifiedBy>
  <cp:lastPrinted>2014-03-31T19:11:59Z</cp:lastPrinted>
  <dcterms:modified xsi:type="dcterms:W3CDTF">2014-07-03T19:43:59Z</dcterms:modified>
  <cp:revision>352</cp:revision>
  <dc:subject/>
  <dc:title>Diapositive 1</dc:title>
</cp:coreProperties>
</file>