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476CE50-F1FD-4A8A-944A-139875CD3AE1}"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6691A16-D0B6-4E3A-859A-41842C7201F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8024255-22A4-4F58-971B-4549F151EC1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257480" y="719280"/>
            <a:ext cx="4800600" cy="3600360"/>
          </a:xfrm>
          <a:prstGeom prst="rect">
            <a:avLst/>
          </a:prstGeom>
          <a:ln w="0">
            <a:noFill/>
          </a:ln>
        </p:spPr>
      </p:sp>
      <p:sp>
        <p:nvSpPr>
          <p:cNvPr id="2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B19B914-497E-4FD3-A1A7-5BBF692C80E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9450D1E-819B-49EC-A952-01F115C368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E852778-1D8A-4555-B998-996C0DEC9BE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742849C-D305-44D7-B6BC-48E8A16BEFE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F292601-6892-413A-9C86-1E2C09CD65D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1ABB382-AABC-43D3-AC21-EF45B4EF557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346B2E5-E118-476E-9622-4A9A6D15D54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0D09062-E6FF-4785-89C9-EF957654430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CE60F04-3EC9-4BA8-A9CB-8059C0F84E9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257480" y="719280"/>
            <a:ext cx="4800600" cy="3600360"/>
          </a:xfrm>
          <a:prstGeom prst="rect">
            <a:avLst/>
          </a:prstGeom>
          <a:ln w="0">
            <a:noFill/>
          </a:ln>
        </p:spPr>
      </p:sp>
      <p:sp>
        <p:nvSpPr>
          <p:cNvPr id="31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C6269B7-DDD7-4514-988C-3DFD4E995C5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232E132-D34A-4D22-ABE8-55E065F4974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4BB90F7-0FBB-442F-95D8-B3EB1A4B06B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B7B632C-F005-4A36-8C5C-83664978F06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EB3C63-DCBA-4C99-85B9-5B92A303FF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0DAD4-58C7-4F01-A2AB-644A7BE840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3FB266-3D3C-4FD7-B7BB-2A63C14C8B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7697C7-33FF-4E11-8B83-2A7A9D3C26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D8F6A9-D939-4AD0-AF17-6FD6C1A93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D5FB98-84CC-4B00-8DD6-A468D1440E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3BD45D-77A8-475E-9108-D3DBFF7015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327C0C-9782-4D30-8EFA-D14AE3FCF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470659-42D4-4EC5-B2D1-62916B010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6520D-0A78-49A0-9BE1-44F03EAB14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3B33F-ABAB-42F4-8532-3C27487E7E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35C8B-3FF0-49C5-8B4C-9C3801D6B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D8E5FB-F341-4030-90AD-72F8D6112E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71FBAC-D6DF-4522-9196-CB4B727A07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w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433AE2-3A16-4531-AA27-49507DADE3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7925F0-FF30-4806-B457-79A4FCDE24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05E12A-70C4-4E27-879E-5DD7A610D1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725FD0-8E7E-4520-B4BD-CCB7C9B419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E8D014-5E2A-40B5-8CDC-1C3188B96B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87C64E-8E3C-4536-8717-3976E1B199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6F9B59-DEE5-485B-A072-2E18BF5BB3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2ECDA4-F346-4196-BF15-28CC3E3F07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D0A019-AE3E-4132-AA54-F11B3ACFBC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 :</a:t>
            </a:r>
            <a:r>
              <a:rPr b="0" lang="en-US"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376405-12C0-4704-B4A3-23B1D5CD0E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197E07-A6ED-4DEE-B71A-1A565A045E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8811BF-A394-462E-93D2-87C6B59EF7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E4FD4D-1865-4C30-9394-721AC88CE3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403DEF-8987-4429-97CC-70C21B86FE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15F7AF-2847-43C3-9D92-5FBC4B61F6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5F9B2C-786A-42EE-AE9C-FAAD9F4724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AF66C0-1B16-4663-88A4-ADB3B9DD13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62C49C-96EB-4A7D-97E7-31B7174128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9742B3-33E7-4E45-9E60-A1E77CC1A5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1792F1-DB6F-4976-AA97-5C2492A967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A250A6-35A2-4B83-AE36-66D3C9AD3C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E0B7A4-3752-41D6-938C-3C481426ED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32FEDF-9D2D-4C4D-80A0-210DF498B7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76E110-7371-47AE-9D93-C7527F22E6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F9D6A6-64FE-4262-89D6-623C7B69362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159324-2665-4287-8539-7FBC1B71B5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A113A4-FFAB-4A2E-A374-2E684A1BE9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7FB57C-C4E2-481B-BAA5-5B6C5C1216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5B6777-6E95-4B50-A8E0-90A1CA7416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76CA65-9080-4A59-BA72-9A17D1849F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 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FFBC11-2F8A-40AA-84BD-E13D886883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F248C5-A611-49EC-9BF1-51D4A9E5EF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ABA407-A90D-444A-A203-D6D79562BE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BC56F7-96C8-4477-9865-36114D54A9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97A7C9-21CB-4DCF-890D-5EAE4768A9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4BD86A-95C8-4ABD-9249-A5BBB86860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24C09D-4EAC-4E19-B612-9B983AE0D9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227A94-D933-4592-A490-B09ACCD6DD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6EEFE1-C4D5-4FDA-A9C2-7C3BC53BFC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2CAFB8-133E-4DF8-BB53-F40B3AE4A3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82DD1C-8AB4-457C-A22E-B65092AD6E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A11057-66C7-47C2-84C3-45FD87DFA5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a:t>
            </a:r>
            <a:r>
              <a:rPr b="0" lang="en-US" sz="2800" spc="-1" strike="noStrike">
                <a:solidFill>
                  <a:srgbClr val="000000"/>
                </a:solidFill>
                <a:latin typeface="Arial"/>
              </a:rPr>
              <a:t> 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utilise la sous-zone $w pour</a:t>
            </a:r>
            <a:r>
              <a:rPr b="0" lang="en-US" sz="2800" spc="-1" strike="noStrike">
                <a:solidFill>
                  <a:srgbClr val="008093"/>
                </a:solidFill>
                <a:latin typeface="Arial"/>
              </a:rPr>
              <a:t>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D6B2F7-E168-4FA8-B2B4-FA3F4A8D16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4F1872-ACC2-4DBB-9AF2-584D624CFB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DE1A62-AA9E-46F8-B49A-0F479F012A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EA7E45-7850-43A7-A2A9-7ACD1B16F4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ABBE28-78B6-492E-8E38-F918C94009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B82394-0BA5-4045-B55F-720BCD6EDE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a:t>
            </a:r>
            <a:r>
              <a:rPr b="0" lang="en-US"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51296B-49DC-4C53-BCFC-53F4E08BC2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1B3FBB-1633-4F25-8B44-754ACC005F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2779C1-FA9A-4B9E-BC0F-1E68A72825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A0FB89-1C44-4B51-85DC-BC08C0EE70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39Z</dcterms:modified>
  <cp:revision>335</cp:revision>
  <dc:subject/>
  <dc:title>Diapositive 1</dc:title>
</cp:coreProperties>
</file>