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251D55E-E111-42BB-8588-3DF723EAAC47}"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B33502C-D905-48EB-8032-A054B84D815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3965A3C-5CFD-4142-BC6C-9A04D621190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257480" y="719280"/>
            <a:ext cx="4800600" cy="3600360"/>
          </a:xfrm>
          <a:prstGeom prst="rect">
            <a:avLst/>
          </a:prstGeom>
          <a:ln w="0">
            <a:noFill/>
          </a:ln>
        </p:spPr>
      </p:sp>
      <p:sp>
        <p:nvSpPr>
          <p:cNvPr id="2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93FA883-27E3-4470-8D17-CDDAC8D4FEB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F6E0793-0DFC-4623-8A22-19A713D0A1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BAA6F55-C58F-45E7-93CB-778EA1398CA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1B2A881-4D9A-45E5-A6FA-9E0A13E3875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567843C-599D-43A0-AF05-A95462C4660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037D637-BA75-4EF0-BDD2-31180ACB62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BA59BDF-F3C9-4492-8BD1-526AC8CA268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01F7858-CAC7-4033-BA33-9ECB64EE190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BEE4765-CC48-4148-9FCE-F68C61CEBF2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257480" y="719280"/>
            <a:ext cx="4800600" cy="3600360"/>
          </a:xfrm>
          <a:prstGeom prst="rect">
            <a:avLst/>
          </a:prstGeom>
          <a:ln w="0">
            <a:noFill/>
          </a:ln>
        </p:spPr>
      </p:sp>
      <p:sp>
        <p:nvSpPr>
          <p:cNvPr id="31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17CC1B3-E6FD-4260-96DD-88439C1DF2E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1BEFA3D-6ECA-46CC-8160-9B1A5563BBD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2CD4874-531E-4377-8B9C-2BF076A5DAA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157BBA4-DF64-4EC1-8440-E17846B3AAA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44705B-4E96-4E9A-8D12-AA7D25289E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AEBB71-8229-4CA9-9930-CE22E8B2CF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25E0CD-9F1A-48B9-8B9E-A26CA3C5EA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1C5684-4396-49E1-A4F4-0522FA4D2F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930DB6-E7FA-43B6-B6BE-59F2F901D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2DB160-9B90-4681-9B9F-0322FB7087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F5151D-CE50-4BF6-B533-0099B382DF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A633D-0CB9-417C-8E13-9B53C0048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B56605-6A32-4BE5-AE7F-7999F5FDF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B6586-462F-4ECB-8F07-32D45BA3E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A751C6-3232-4859-B811-9FFFC9C0E4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8484B9-C30E-4CDE-8F82-BE616A174F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9967BE-5926-4443-A204-1AC115ECB7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E0EB0A-E23E-48FD-8FB9-9346E746A9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w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4205C1-BF5D-4984-9011-3CBC20C63C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C6CC2E-2BD8-4E13-A5B1-B64364B1A0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00CA33-D084-4297-877C-AED93BB13B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71A2CB-2149-4B7F-8EF6-51584A55A7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3542DC-BE63-4231-B1B2-01C67E16BF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03BEB4-E43C-43C2-8536-12AE49844F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B8C67C-DA6D-4D83-B5F5-BE16D06927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9FDE59-BE4A-478B-BBD2-87EEBF36E6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F7C449-7FCE-4956-ABA5-7145BBC1A1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 :</a:t>
            </a:r>
            <a:r>
              <a:rPr b="0" lang="en-US"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CAAC2D-5185-40DB-A460-A2D6648352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E09656-385E-4933-A770-F7E95AB96F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779F54-1C21-45EB-A75E-56EEC5D79D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6F0876-4819-44E2-9FA3-626A261162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0A71A3-FF83-4441-86F2-059353D340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F353D4-9BAA-4C03-93EC-BD56B27302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93C627-2E61-472E-9599-8E74C7DEB1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65FC82-113F-4A86-AA99-7AF43A7BFD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C5FF41-11F6-49B3-BFC6-94A41017EE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93BF31-5C3B-4376-A078-0375231158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416230-DF9C-44BC-9900-8E495B68CE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1F95C9-8208-4395-AE7C-3C9F934210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273364-6321-430C-A876-000F774FC2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459C65-4E34-4618-96AB-33250DC75B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B91BE0-F882-407C-BEC4-80CC711149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F9D251-AD2E-428A-B06B-FBDA322602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40AC66-9C1F-4100-B9A0-479F68685B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E679A8-E0C2-4104-979D-25B14E8FB8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0ED2F7-013C-4666-9947-85F8691EA0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3441A0-A992-4B1E-8369-84AFB2275F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A72594-050A-417B-8FB4-EF1D36607B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 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4158CD-4195-4971-8A2C-D051A113C8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5DB398-EDA8-4F4A-B18C-734264E4E9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4A7431-3D6C-4C6B-84BC-556B4DEA8C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AFDA46-90FF-46DE-B083-26A594F7DC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4BBFBE-EB0A-44AE-9A00-826071E3CC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C47FE8-9F00-42EE-A012-8DD489C683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5C24A0-FDAE-4201-84DD-8578B141CE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361944-241F-4902-812F-19CF97E6BC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C5AA54-B3DC-4586-8987-EABB6EB605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AB6BE0-BC3A-4329-9AC7-C366CF9654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7A80A2-DDF9-4F8E-B56B-B80221B884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E44D0C-4773-4CE8-B887-BE7138684C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a:t>
            </a:r>
            <a:r>
              <a:rPr b="0" lang="en-US" sz="2800" spc="-1" strike="noStrike">
                <a:solidFill>
                  <a:srgbClr val="000000"/>
                </a:solidFill>
                <a:latin typeface="Arial"/>
              </a:rPr>
              <a:t> 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utilise la sous-zone $w pour</a:t>
            </a:r>
            <a:r>
              <a:rPr b="0" lang="en-US" sz="2800" spc="-1" strike="noStrike">
                <a:solidFill>
                  <a:srgbClr val="008093"/>
                </a:solidFill>
                <a:latin typeface="Arial"/>
              </a:rPr>
              <a:t>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721517-A12C-4725-B954-9987B99966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617FE9-B5B4-4350-BEFF-A616DEA3F8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61120E-7033-44DB-BABF-B8848D853C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24B4B3-68DA-4FA9-BCDF-5607BE89DD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CE24CC-250E-4315-8A46-EEB0B76B37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DF9BEE-42B7-4E86-8968-B66C9600B7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a:t>
            </a:r>
            <a:r>
              <a:rPr b="0" lang="en-US"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CA3431-B719-43D8-A54E-8DF90CF060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7DA266-3B03-4E6A-A83F-02A9AB2B0F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FE1FD4-5E52-4D16-BDA7-FA5FE31867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381B44-9237-411B-981C-AA34CEF4F0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39Z</dcterms:modified>
  <cp:revision>335</cp:revision>
  <dc:subject/>
  <dc:title>Diapositive 1</dc:title>
</cp:coreProperties>
</file>