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5F5DEE15-5160-469B-8BF5-7B46C58EF77F}" type="datetime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-07-30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7 - Identification des expressions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2477912B-E4BC-43AA-9BBC-D9A7BC0DD8A3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7 - Identification des expressions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DBFB26E0-890B-4451-AC6A-FDF20571CA02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E86C0-A630-4210-94BA-D9BC9AF0D8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596EE-A403-4D7B-BE6D-3C75932ACD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759BD-FC3B-4C2E-BF48-1396F739D1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2A973-26C4-4BBF-A0BC-3FED20D4FF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A831D-46B8-4FB2-8682-4CFA136466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5EAA2-8A70-4AEB-9DCA-8F5CF2D0B6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100F3-FEA8-487E-8DAF-443035C0D9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88C2B-F902-426A-8B5A-92A90F4FA1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5A429-944F-45F6-92E2-E4B76C0DEC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DECD2-FF8C-4427-B274-594D19BFDD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73219-1266-4088-997C-ED9F4A6500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86F21-A56C-457C-BA12-26A9BDF35D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FEDE2F2-AEB2-4D3D-8D39-69E3584AE83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Identification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5CA671D-228B-475F-B942-4B6650F9E8A6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-- Date de l’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as un élément fondamenta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eulement pour musique, écritures sacrées, trad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e plus ajouter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$f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 « 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Œuvr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 » et « 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Œuvr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Extrait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a plus ancienne associée à une expression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n peut utiliser la date de la manif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907200" y="5634000"/>
            <a:ext cx="7389360" cy="7642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100 1# $a Bernstein, Leonard, $d 1918-1990.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240 10 $a Œuvr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D3438CE-0548-4661-BE85-37E2F0183426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– Autre caractéristique distinct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caractéristique autre que le type de contenu, la langue de l’expression ou la date de l’expression, servant à distinguer une expression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int d’accès :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à la fin de la dernière sous-zon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auf si une sous-zone particulière est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sous-zone 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$o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pour les 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expressions musicales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(par exemple, « arrangé »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sous-zone 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$s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pour les 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versions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de la Bible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CA39621-9572-4D7A-84F3-396DA97806E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–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 caractéristique distinct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54120" y="2406600"/>
            <a:ext cx="8076960" cy="8254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30 #0 $a Casse-noisette (Œuvre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chorégraphique :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Baryšnikov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54120" y="3778200"/>
            <a:ext cx="8076960" cy="8254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30 #0 $a Bible. $l Français.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$s Dumas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f 1991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7EAEDB2-6066-4DCC-8ABD-36CECAB8E33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-- Langue de l’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i nécessaire pour différenc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langu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ans laquelle une œuvre est exprimé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AnQ : Utiliser un ou des termes provenant du R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int d’accès: dans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ous-zone $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non répé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istinguer entr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une express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ans plus d’une lan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deux ou plusieurs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ABC1057-7AB3-4A0E-A113-122BB3B406F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Si une expression 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Une la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onner $l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eulement si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lusieurs lan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pas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onner $l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sauf si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654120" y="3124080"/>
            <a:ext cx="8109000" cy="119124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00 1# $a Brunhoff, Jean de, $d 1899-1937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0 10 $a Babar en famille.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$l Anglai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245 10 $a Babar and his childre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762120" y="5791320"/>
            <a:ext cx="8076960" cy="45972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45 00 $a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ctionnaire bilingue illustré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7AC9A62-A22C-4558-B1A1-FC0D2D7B281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Si deux ou plusieurs expressions …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ersion originale et une tra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la manifestation est une compilation de la version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origina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t d’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un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traducti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 la même 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r un point d’accès autorisé analytique pour l’expression originale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ans $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 la lang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r un point d’accès autorisé analytique séparé pour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traduc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avec $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 la lang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4B98B72-592A-4AE3-8093-3072CFC1330D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 Deux expressions --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ersion originale et une tra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8093"/>
                </a:solidFill>
                <a:latin typeface="Arial"/>
              </a:rPr>
              <a:t>Version originale + traduction espagnole de la même res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041 1# $a eng $a spa $h eng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00 1# $a Macken, JoAnn Early, $d 195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0 10 $a Mail carrier.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l Espagnol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ngl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5 10 $a Mail carrier = $b El cartero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c JoAnn Early Ma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6 31 $a Car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546 ## $a En anglais et espagn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9758377-6545-4CD6-A319-24DDF6D7A18F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(suite) : Deux expressions --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ersion originale et une tra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8093"/>
                </a:solidFill>
                <a:latin typeface="Arial"/>
              </a:rPr>
              <a:t>Version originale + traduction espagnole de la même res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041 1# $a eng $a spa $h e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00 1# $a Macken, JoAnn Early, $d 195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5 10 $a Mail carrier = $b El cartero 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c JoAnn Early Ma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6 31 $a Car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546 ## $a En anglais et espagn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700 12 $a Macken, JoAnn Early, $d 1953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t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ail carrier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700 12 $a Macken, JoAnn Early, $d 1953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t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ail carrier. $l Espagn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CE7D615-8446-4DE8-85E3-73812D1A95C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Si deux ou plusieurs expressions …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ersion originale et plusieurs traduc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la compilation contient l’expression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origina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plusieurs trad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un point d’accès autorisé pour l’expression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origina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ans $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la langu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un point d’accès autorisé pour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au moins une traducti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vec $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la lang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onner des points d’accès analytiques additionnels selon le 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CE81EDA-EC80-4FC5-AA28-354E4B3B8FB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s de langues multip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Deux ou plusieurs expression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n différentes langues, et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l’expression originale n’est pas prés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u moins un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s expressions dans un p.a.a. analytiqu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vec sous-zone $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la la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FC0AFA1-4E62-4B45-8DA1-A3C777F61FE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Identifier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écisions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onstruction du point d’accès autorisé représentant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jouts aux points d’accès autorisé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Variantes de point d’accè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Zones MARC autorité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BD4076D-4F74-43A4-AC85-39F1E4F525F2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s de langues multiples (suit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Deux ou plusieurs expression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 différentes langues, et </a:t>
            </a:r>
            <a:r>
              <a:rPr b="0" i="1" lang="fr-CA" sz="2400" spc="-1" strike="noStrike">
                <a:solidFill>
                  <a:srgbClr val="008093"/>
                </a:solidFill>
                <a:latin typeface="Arial"/>
              </a:rPr>
              <a:t>on ne peut déterminer la langue origi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Choisir le titre propre nommé en premier sur la source d’information privilégiée comme titre privilégié de l’œuvre (i.e. traiter le premier comme étant celui de l’édition origina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Points d’accès autorisés analytiques: Traiter la manifestation comme une compilation comprenant la version originale et une ou plusieurs traductions (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voir diapo 16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55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Donner un p.a.a. analytique pour l’expression </a:t>
            </a:r>
            <a:r>
              <a:rPr b="0" i="1" lang="fr-CA" sz="2200" spc="-1" strike="noStrike">
                <a:solidFill>
                  <a:srgbClr val="000000"/>
                </a:solidFill>
                <a:latin typeface="Arial"/>
              </a:rPr>
              <a:t>désignée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comme étant l’originale, 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sans sous-zone $l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pour la lan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55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Donner un p.a.a. analytique pour au moins une autre expression, 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avec sous-zone $l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pour la lan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479F3CB-0621-4CB7-9A8B-027FD3F1DC0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 langues multiples sans indication de langue origin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425520" y="1346040"/>
            <a:ext cx="845820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245 00 $a Diplôme international de l'OIV e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du secteur de la vigne et du vi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 $b International diploma of the OIV i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of the vine and wine sector =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nationales Diplom der OIV im Fachberich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im Weinbausektor = Diploma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nazionale dell'OIV in gestione del settore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la vigna e del vino = Diploma internacional de la OIV de management del sector la viña y el vino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730 02 $a Diplôme international de l'OIV e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du secteur de la vigne et du vin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730 02 $a Diplôme international de l'OIV e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du secteur de la vigne et du vin.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  <a:ea typeface="Courier New"/>
              </a:rPr>
              <a:t>$l Anglais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9EF1760-C7E4-4198-884B-8A0E938E2C7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hangements par rapport aux RCAA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Ne plus utiliser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 « Polyglotte »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 « Multilingue »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ans $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Ne plus utiliser une seule sous-zone ave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lusieurs lan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 exemple,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« Anglais &amp; français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haque expression doit être identifiée séparément (si cela est jugé utile pour l’accè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a langue est ajoutée aprè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« Extraits »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orsque ce titre conventionnel collectif est pré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E81F807-5E0C-404B-AAA3-BCADCF11ABF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ariantes de points d’accès pour les expressions -- RDA 6.27.4.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olitique LC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 jugement du catalogueur – considérer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i important pour que l’usager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uisse trouver ou ident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atalogueur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ont aussi des us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eut ê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asée sur une variante de titre de l’œuvre associée avec une expression particul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e forme avec une variante de l’ajout dans le point d’accès 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BF5B2F7-D8C6-4A48-B6B1-68592AB9B68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-- Variantes de points d’accès pour les expression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648000" y="1981080"/>
            <a:ext cx="731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$a Lindgren, Astrid, $d 1907-2002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t Pippi Långstrump.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  <a:ea typeface="Courier New"/>
              </a:rPr>
              <a:t> $l Françai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00 $a Lindgren, Astrid, $d 1907-2002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t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ifi Brindacier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57200" y="388620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$a Hartmann, $c von Aue, $d 12e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siècle. $t Œuvre.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  <a:ea typeface="Courier New"/>
              </a:rPr>
              <a:t> $l Anglai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00 $a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artmann, $c von Aue, $d 12e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siècle. $t Arthurian romances, tales,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and lyric poetry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411D7AF-0018-46A2-BA1D-5C8D450B583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Zones MARC autorité pou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8093"/>
                </a:solidFill>
                <a:latin typeface="Arial"/>
              </a:rPr>
              <a:t>Politique LC : jugement du catalogueu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 inclure ces zones dans les notices d’auto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046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s spéciales cod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Type de contenu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377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Langue associ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38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Autres caractéristiques d’une œuvre ou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382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Médium d’exécution d’une 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384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on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LC-PCC : enregistrer un 336 seulement dans les notices bibliographiq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FE4C019-2E33-434B-8D6C-0B96CD154422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Identifier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s points d’accès autorisés sont utilisés dans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otices bibliographiqu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identifier l’expression qui est cataloguée; aussi dans les 6XX et 7XX pour représenter les relations à d’autres expre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Formés selon l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hapitre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eux étapes (similaires à l’identification de l’œuv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mmer </a:t>
            </a:r>
            <a:r>
              <a:rPr b="0" i="1" lang="fr-CA" sz="24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jouter l’information qui identifie </a:t>
            </a:r>
            <a:r>
              <a:rPr b="0" i="1" lang="fr-CA" sz="2400" spc="-1" strike="noStrike">
                <a:solidFill>
                  <a:srgbClr val="008093"/>
                </a:solidFill>
                <a:latin typeface="Arial"/>
              </a:rPr>
              <a:t>l’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DC3123F-D15D-4431-BCA0-63016B837AA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écision LC sur …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Bibliographique ou autorité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Toujour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identifier l’expression en l’enregistrant dans la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notice bibliograph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8093"/>
                </a:solidFill>
                <a:latin typeface="Arial"/>
              </a:rPr>
              <a:t>parfoi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selon politiques LC) aussi en faisant un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notice autorité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titre ou nom/ti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D7C72C7-C9CA-4332-834F-8628B6C76651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omment identifie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LC-PCC PS 0.6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Identifier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xpressions en ajoutant un attribut au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critur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acré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30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Traduction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t éditions en d’autres langues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27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ocument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musicaux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28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B4F2FB1-6612-4556-B51E-B53B51ABCC1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omment identifie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e pas ajouter une autre caractéristiqu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différencier une expression d’une au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 exemple, ne pas différencier une traduction de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Hamle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 français d’une autre traduction frança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 exemple, ne pas différencier un arrangement du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Corsair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e Berlioz d’un autre arran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EFDA42C-9632-44EB-B1D1-E1977A27959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onstruction du point d’accès autorisé représentant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’élément de base est le point d’accès autorisé pour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>
                <a:solidFill>
                  <a:srgbClr val="008093"/>
                </a:solidFill>
                <a:latin typeface="Arial"/>
              </a:rPr>
              <a:t>Ajout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tels que présentés dans 6.2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961920" y="3962520"/>
            <a:ext cx="6705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600" spc="-1" strike="noStrike">
                <a:solidFill>
                  <a:srgbClr val="006666"/>
                </a:solidFill>
                <a:latin typeface="Courier New"/>
                <a:ea typeface="Courier New"/>
              </a:rPr>
              <a:t>Goncourt, Edmond de, 1822–1896. Frères Zemganno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303800" y="4359240"/>
            <a:ext cx="184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600" spc="-1" strike="noStrike">
                <a:solidFill>
                  <a:srgbClr val="33cccc"/>
                </a:solidFill>
                <a:latin typeface="Courier New"/>
                <a:ea typeface="Courier New"/>
              </a:rPr>
              <a:t>Anglais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74FDAD6-87D4-43FA-9590-8DF115D850C1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jouts aux points d’accès autorisés pou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Type de contenu *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9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10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Langu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11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u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aractéristique distinctiv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12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362320" y="5334120"/>
            <a:ext cx="4876560" cy="45972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A" sz="2400" spc="-1" strike="noStrike">
                <a:solidFill>
                  <a:srgbClr val="006666"/>
                </a:solidFill>
                <a:latin typeface="Arial"/>
              </a:rPr>
              <a:t>*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146240" y="4648320"/>
            <a:ext cx="21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CA" sz="3000" spc="-1" strike="noStrike">
                <a:solidFill>
                  <a:srgbClr val="006666"/>
                </a:solidFill>
                <a:latin typeface="Arial"/>
              </a:rPr>
              <a:t>« et/ou »</a:t>
            </a:r>
            <a:endParaRPr b="1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5FB7CE4-A781-4DB4-8EAC-9809304873DB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– 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forme fondamentale de communicati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sous laquelle le contenu est exprimé et l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ens humai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ar lequel il doit être perçu ...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Vocabulaire contrôl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à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9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oint d’accès: dans l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ous-zone $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219320" y="5638680"/>
            <a:ext cx="6629400" cy="7642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30 $a ____________ $h </a:t>
            </a:r>
            <a:r>
              <a:rPr b="1" lang="fr-CA" sz="2200" spc="-1" strike="noStrike">
                <a:solidFill>
                  <a:srgbClr val="006666"/>
                </a:solidFill>
                <a:latin typeface="Courier New"/>
                <a:ea typeface="Courier New"/>
              </a:rPr>
              <a:t>Parole énoncé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[Pour le livre audio d’un texte imprimé]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Riva Pat</cp:lastModifiedBy>
  <cp:lastPrinted>2010-10-18T15:40:26Z</cp:lastPrinted>
  <dcterms:modified xsi:type="dcterms:W3CDTF">2014-11-05T19:52:31Z</dcterms:modified>
  <cp:revision>296</cp:revision>
  <dc:subject/>
  <dc:title>Diapositive 1</dc:title>
</cp:coreProperties>
</file>