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322EC357-1F34-4E5E-9795-8033DE8B98E2}" type="datetime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-07-29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7 - Identification des expression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9127EDEC-DAB3-4F94-A0BA-21BA1CC0404C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7 - Identification des expression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E53E6B32-DCB6-444F-95F0-79896656526A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857FE-58DF-4EDC-AAB1-7CC6081B68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81B4E-45B4-4A1B-A22D-667842F865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5894C-22B1-4359-938B-725C7EA313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3529E-96B1-47BD-9C55-D8E5457469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15B27-2CF6-4D0F-BE7D-F83BC16C62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99FA7-BA65-4A05-8906-30BE553A8A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81579-E6B3-4F5E-9AA4-E09664BDE7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8D77C-39A5-4CBB-995F-1C92A2D1DC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C1BF2-1825-44EC-A9F7-318EA92E17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F9E54-965E-46F4-A46B-E21E24C420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0C92E-3982-49E7-9BEA-4FBF43D646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956DE-5CB6-4C8A-96E9-74F409E6CE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1C0D584-56D8-4F95-9879-76B413A58FD9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Identification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170EB35-8195-49E0-B281-84736A233A6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-- Date de l’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as un 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eulement pour musique, écritures sacrées, trad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e plus ajouter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$f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« 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 » et « 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Extrait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a plus ancienne associée à une expression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n peut utiliser la date de la manif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907200" y="5634000"/>
            <a:ext cx="7389360" cy="7642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100 1# $a Bernstein, Leonard, $d 1918-1990.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240 10 $a Œuvr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1E63604-6C1D-41D9-A86A-891D8A35074F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– Autre caractéristique distinc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caractéristique autre que le type de contenu, la langue de l’expression ou la date de l’expression, servant à distinguer une expression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int d’accès :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à la fin de la dernière sous-zon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auf si une sous-zone particulière est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sous-zone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$o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pour les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expressions musicales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(par exemple, « arrangé 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sous-zone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$s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pour les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versions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de la Bible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D4313F8-C84F-4542-B6A7-E3A5C42825F1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–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 caractéristique distinc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54120" y="2406600"/>
            <a:ext cx="8076960" cy="8254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30 #0 $a Casse-noisette (Œuvr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horégraphique :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Baryšnikov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54120" y="3778200"/>
            <a:ext cx="8076960" cy="8254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30 #0 $a Bible. $l Français.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$s Duma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f 1991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784592A-FB51-4205-A23D-52551DF5E8B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-- Langue de l’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i nécessaire pour différenc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ans laquelle une œuvre est exprimé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AnQ : Utiliser un ou des termes provenant du R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int d’accès: dans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ous-zone $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non répé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istinguer entr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une express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ans plus d’une lan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748B7AE-7484-4BD8-AAF5-4D0D5A4589A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Si une expression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Une la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onner $l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eulement si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pas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onner $l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sauf si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654120" y="3124080"/>
            <a:ext cx="8109000" cy="119124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Brunhoff, Jean de, $d 1899-1937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0 10 $a Babar en famille.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$l Angl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245 10 $a Babar and his childre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762120" y="5791320"/>
            <a:ext cx="8076960" cy="45972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45 00 $a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ctionnaire bilingue illustré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A4372B0-8467-4CB3-AAD8-2B34AEA6CFD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Si deux ou plusieurs expressions …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la manifestation est une compilation de la vers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d’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un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traducti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 la même 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un point d’accès autorisé analytique pour l’expression originale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ans $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un point d’accès autorisé analytique séparé pour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raduc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avec $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CB42C0D-A663-4E5C-B94C-C54FEC8F00D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 Deux expressions --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8093"/>
                </a:solidFill>
                <a:latin typeface="Arial"/>
              </a:rPr>
              <a:t>Version originale + traduction espagnole de la même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041 1# $a eng $a spa $h eng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Macken, JoAnn Early, $d 195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0 10 $a Mail carrier.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l Espagnol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ngl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5 10 $a Mail carrier = $b El cartero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 JoAnn Early Ma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6 31 $a Car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546 ## $a En anglais et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12F9F6D-BC79-49E7-BC89-35ECC9635F0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(suite) : Deux expressions --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8093"/>
                </a:solidFill>
                <a:latin typeface="Arial"/>
              </a:rPr>
              <a:t>Version originale + traduction espagnole de la même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041 1# $a eng $a spa $h e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Macken, JoAnn Early, $d 195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5 10 $a Mail carrier = $b El cartero 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 JoAnn Early Ma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6 31 $a Car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546 ## $a En anglais et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700 12 $a Macken, JoAnn Early, $d 1953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t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ail carrier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700 12 $a Macken, JoAnn Early, $d 1953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t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ail carrier. $l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881371D-A28F-482C-84C4-4181BBD4EB1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Si deux ou plusieurs expressions …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ersion originale et plusieurs tradu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la compilation contient l’express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plusieurs trad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un point d’accès autorisé pour l’expression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ans $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la langu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un point d’accès autorisé pour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au moins une traducti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vec $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onner des points d’accès analytiques additionnels selon le 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8493A9E-725B-4EC0-8A35-D2D8B566E5B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s de langues multip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n différentes langues, et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l’expression originale n’est pas prés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u moins un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s expressions dans un p.a.a. analytiqu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vec sous-zone $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44FDD8E-D1F1-44C2-A827-75DED8938A9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dentifier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écisions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onstruction du point d’accès autorisé représentant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jouts aux points d’accès autorisé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Variantes de point d’accè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Zones MARC autorité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5D89C6B-6D6F-4A07-B3D8-206EEE025D9B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s de langues multiples (suit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 différentes langues, et </a:t>
            </a:r>
            <a:r>
              <a:rPr b="0" i="1" lang="fr-CA" sz="2400" spc="-1" strike="noStrike">
                <a:solidFill>
                  <a:srgbClr val="008093"/>
                </a:solidFill>
                <a:latin typeface="Arial"/>
              </a:rPr>
              <a:t>on ne peut déterminer la langue origi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Choisir le titre propre nommé en premier sur la source d’information privilégiée comme titre privilégié de l’œuvre (i.e. traiter le premier comme étant celui de l’édition origina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Points d’accès autorisés analytiques: Traiter la manifestation comme une compilation comprenant la version originale et une ou plusieurs traductions (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voir diapo 16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55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Donner un p.a.a. analytique pour l’expression </a:t>
            </a:r>
            <a:r>
              <a:rPr b="0" i="1" lang="fr-CA" sz="2200" spc="-1" strike="noStrike">
                <a:solidFill>
                  <a:srgbClr val="000000"/>
                </a:solidFill>
                <a:latin typeface="Arial"/>
              </a:rPr>
              <a:t>désignée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comme étant l’originale,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sans sous-zone $l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55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Donner un p.a.a. analytique pour au moins une autre expression,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avec sous-zone $l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0B56CE7-E9A3-482E-BC18-4888A3A09AA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 langues multiples sans indication de langue origin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25520" y="1346040"/>
            <a:ext cx="845820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245 00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vi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 $b International diploma of the OIV i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of the vine and wine sector =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nationales Diplom der OIV im Fachberich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im Weinbausektor = Diploma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nazionale dell'OIV in gestione del settore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la vigna e del vino = Diploma internacional de la OIV de management del sector la viña y el vin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730 02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vin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730 02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vin.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  <a:ea typeface="Courier New"/>
              </a:rPr>
              <a:t>$l Anglais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FAA46FF-2DF1-4F21-9D9B-2672218DD3C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hangements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e plus utiliser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« Polyglotte 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« Multilingue 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ans $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e plus utiliser une seule sous-zone ave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 exemple,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« Anglais &amp; françai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que expression doit être identifiée séparément (si cela est jugé utile pour l’accè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a langue est ajoutée aprè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« Extraits 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orsque ce titre conventionnel collectif est pré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E01C5A7-13FE-4CA7-8708-99FF8629CA19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ariantes de points d’accès pour les expressions -- RDA 6.27.4.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olitique LC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 jugement du catalogueur – considérer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 important pour que l’usager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uisse trouver ou ident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atalogueur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ont aussi des us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eut ê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asée sur une variante de titre de l’œuvre associée avec une expression particul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e forme avec une variante de l’ajout dans le point d’accès 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BAEF46B-EE00-4E77-B497-56E8D3A5D501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-- Variantes de points d’accès pour les expression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648000" y="1981080"/>
            <a:ext cx="731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$a Lindgren, Astrid, $d 1907-2002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t Pippi Långstrump.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  <a:ea typeface="Courier New"/>
              </a:rPr>
              <a:t> $l Franç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 $a Lindgren, Astrid, $d 1907-2002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t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ifi Brindacier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57200" y="388620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$a Hartmann, $c von Aue, $d 12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siècle. $t Œuvre.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  <a:ea typeface="Courier New"/>
              </a:rPr>
              <a:t> $l Angl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 $a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artmann, $c von Aue, $d 12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siècle. $t Arthurian romances, tales,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and lyric poetry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64B72FD-AB71-497F-9083-598769DD8C6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Zones MARC autorité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8093"/>
                </a:solidFill>
                <a:latin typeface="Arial"/>
              </a:rPr>
              <a:t>Politique LC : jugement du catalogueu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inclure ces zones dans les notices d’auto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046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s spéciales cod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Type de contenu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377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Langue associ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38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Autres caractéristiques d’une œuvre ou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382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Médium d’exécution d’une 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384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on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LC-PCC : enregistrer un 336 seulement dans les notices bibliographiq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44760B7-CCB2-4323-9164-FBB5786C271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Identifier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s points d’accès autorisés sont utilisés dans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otices bibliographiqu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identifier l’expression qui est cataloguée; aussi dans les 6XX et 7XX pour représenter les relations à d’autr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Formés selon l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hapitr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eux étapes (similaires à l’identification de l’œuv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mmer </a:t>
            </a:r>
            <a:r>
              <a:rPr b="0" i="1" lang="fr-CA" sz="24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jouter l’information qui identifie </a:t>
            </a:r>
            <a:r>
              <a:rPr b="0" i="1" lang="fr-CA" sz="2400" spc="-1" strike="noStrike">
                <a:solidFill>
                  <a:srgbClr val="008093"/>
                </a:solidFill>
                <a:latin typeface="Arial"/>
              </a:rPr>
              <a:t>l’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F4D25CF-97EC-4DCF-A8B3-4FFF6815624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écision LC sur …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Bibliographique ou autorité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identifier l’expression en l’enregistrant dans la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notice bibli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selon politiques LC) aussi en faisant un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notice autorité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titre ou nom/ti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8EFA056-D360-439F-9099-E3E10E7E7FE6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LC-PCC PS 0.6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dentifier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xpressions en ajoutant un attribut au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critur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acré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30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raduction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t éditions en d’autres langues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27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ocument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musicaux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28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70E570B-0F40-441C-A35F-0E2E5F7A33B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e pas ajouter une autre caractéristiqu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différencier une expression d’une au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 exemple, ne pas différencier une traduction de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Hamle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 français d’une autre traduction frança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 exemple, ne pas différencier un arrangement du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Corsair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e Berlioz d’un autre arran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62EAFD8-F093-4BB7-9769-B2FD361B451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onstruction du point d’accès autorisé représentant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’élément de base est le point d’accès autorisé pour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tels que présentés dans 6.2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961920" y="3962520"/>
            <a:ext cx="6705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600" spc="-1" strike="noStrike">
                <a:solidFill>
                  <a:srgbClr val="006666"/>
                </a:solidFill>
                <a:latin typeface="Courier New"/>
                <a:ea typeface="Courier New"/>
              </a:rPr>
              <a:t>Goncourt, Edmond de, 1822–1896. Frères Zemganno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303800" y="4359240"/>
            <a:ext cx="184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600" spc="-1" strike="noStrike">
                <a:solidFill>
                  <a:srgbClr val="33cccc"/>
                </a:solidFill>
                <a:latin typeface="Courier New"/>
                <a:ea typeface="Courier New"/>
              </a:rPr>
              <a:t>Anglais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22FED94-A448-4E7E-8CC3-76BDC3EA8FF9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jouts aux points d’accès autorisés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Type de contenu *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9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10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1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12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362320" y="5334120"/>
            <a:ext cx="4876560" cy="45972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2400" spc="-1" strike="noStrike">
                <a:solidFill>
                  <a:srgbClr val="006666"/>
                </a:solidFill>
                <a:latin typeface="Arial"/>
              </a:rPr>
              <a:t>*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146240" y="4648320"/>
            <a:ext cx="21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CA" sz="3000" spc="-1" strike="noStrike">
                <a:solidFill>
                  <a:srgbClr val="006666"/>
                </a:solidFill>
                <a:latin typeface="Arial"/>
              </a:rPr>
              <a:t>« et/ou »</a:t>
            </a:r>
            <a:endParaRPr b="1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AAD7F1A-AE53-4654-AC1E-D4461F98B21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– 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ar lequel il doit être perçu ...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Vocabulaire contrôl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à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9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oint d’accès: dans l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ous-zone $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219320" y="5638680"/>
            <a:ext cx="6629400" cy="7642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30 $a ____________ $h </a:t>
            </a:r>
            <a:r>
              <a:rPr b="1" lang="fr-CA" sz="2200" spc="-1" strike="noStrike">
                <a:solidFill>
                  <a:srgbClr val="006666"/>
                </a:solidFill>
                <a:latin typeface="Courier New"/>
                <a:ea typeface="Courier New"/>
              </a:rPr>
              <a:t>Parole énoncé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[Pour le livre audio d’un texte imprimé]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Riva Pat</cp:lastModifiedBy>
  <cp:lastPrinted>2010-10-18T15:40:26Z</cp:lastPrinted>
  <dcterms:modified xsi:type="dcterms:W3CDTF">2014-11-05T19:52:31Z</dcterms:modified>
  <cp:revision>296</cp:revision>
  <dc:subject/>
  <dc:title>Diapositive 1</dc:title>
</cp:coreProperties>
</file>