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ECA5-50DB-41AF-BC9C-AA4DE520F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3DDD-7593-4F68-B662-BF63AF2D3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F0DB-7B45-4F6F-8054-D8F399C70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C78E-EC9B-4260-842C-1EDCEF4CCE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2D81-030C-4715-A25F-D60263DD4E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D0A5-302F-450F-99CC-B03B2BCFD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E7D8-50CB-48A5-BFEA-A60ECAE2E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D7FA-D6CA-4202-87A4-8D2976764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E78D-5130-45EA-8A65-546F7D433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97D5-9FE2-451E-A524-6A1E20141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061C-6A3B-431C-A04D-52A753244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9441-E782-44C0-B048-2E9503E19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FC409CF-5C3E-476F-9571-B71B9580647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4F0C-3B59-4949-9869-CCE994DFFD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27BE-1897-4D6F-AB42-CBD37C63E5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DF4A-BF29-4925-84F6-51C8740C0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D97A-B58A-4CC7-82BF-36FA292534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66C4-2868-48F6-B98C-00541B573F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0C34-1992-4E15-9414-31945A9A10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05CD-70AD-4240-85F5-DEB14ECAC4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B142-B381-4700-831B-32D651B5A8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4CFA-D3C3-4964-9BFE-1F92E4CA78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2094-C020-4DCE-A656-BA24B211D1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B990-576F-4977-8785-12E6DFC979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B5BA-D982-4A9C-8944-107F31D4FB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la OIV de management del sector la viña y e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in.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A898-11B3-4B18-82F6-2A5CB40DE5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6CB0-F978-48B2-90CB-6D8E689E85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3167-3798-47D6-A37E-0DC43ACB70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13C3-6B60-4CD7-AA94-990D94A3DC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qu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écider d’inclure ces zones dans les notices d’autorité créée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0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ype d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EAB5-A6EE-4151-BE89-5AAAEFC9B3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4960-C898-4224-964E-C15FE105DB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182E-7906-4D03-9E8B-117C7F42A5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A8F0-2AEC-4B05-8C41-EC4F59A001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E051-4E6C-4437-BA56-3FD5C7481C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A391B-7B7B-44D6-934D-2B1EEDDB2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8749-08E4-44A9-A886-ADA1762885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en-US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DBB7-4AB8-4D0F-9CE2-32B7E32DCC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0:20Z</dcterms:modified>
  <cp:revision>289</cp:revision>
  <dc:subject/>
  <dc:title>Diapositive 1</dc:title>
</cp:coreProperties>
</file>