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8A7E9C-8470-4C37-83D2-3EE9EB7D36B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FCBCB6-9B90-4158-AA1E-D8F7E71E10D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400AC9-B849-4B65-B5F6-9083A02370E2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AEF917-46AA-43BF-AEF3-7E6BAB86CB8E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65E0A9-1768-46D8-9E35-F86E16771C2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24F866-49B6-466D-941D-85D57E4DA48E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9E0-21D4-4527-A8BD-5ECDD1AD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EBB-1796-401E-89AC-BE144B0B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452-03BA-4003-8BA8-9A0A0D04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407-8F27-4B90-974D-852E062A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726-F916-4681-9E65-92FB0BB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1CE-BDED-476F-BD98-3CDBBBEE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FD4-AA67-4443-A262-0B5C339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F8F-6A98-4017-A335-596ACCF4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5C4-3483-4C5E-8BEA-FD8A1A0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B81-284B-48E9-B53B-EA23FA2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418-B60B-4A6D-AD35-A47E3F16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E70-D0EE-4C24-8136-16D7946C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6C19-52C9-4495-B189-80F0DB413EB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  <a:ea typeface="Arial"/>
              </a:rPr>
              <a:t>Exercices sur les œuvres</a:t>
            </a:r>
            <a:br>
              <a:rPr sz="4000"/>
            </a:br>
            <a:br>
              <a:rPr sz="14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Donner le point d’accès autorisé pour chacune des œuvres suivantes en utilisant le codage approprié dans une notice bibliographique 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(1XX + 240, 1XX + 245, 130 ou 245)</a:t>
            </a:r>
            <a:br>
              <a:rPr sz="3200"/>
            </a:br>
            <a:br>
              <a:rPr sz="1400"/>
            </a:br>
            <a:r>
              <a:rPr b="0" lang="fr-CA" sz="2800" spc="-1" strike="noStrike">
                <a:solidFill>
                  <a:srgbClr val="333399"/>
                </a:solidFill>
                <a:latin typeface="Arial"/>
                <a:ea typeface="Arial"/>
              </a:rPr>
              <a:t>(* Suivant la pratique LC qui consiste à ne pas enregistrer le titre privilégié d’une œuvre dans la zone 130 ou 240 s’il est identique au titre propre de la manif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Rev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revue intitulée « Progrès en médeci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revue intitulée « Progrès en médecine » qui a commencé de paraître en 2009 et qui est publiée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640" y="184464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Progrès en méde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035600"/>
            <a:ext cx="80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Paris, France)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br>
              <a:rPr sz="3200"/>
            </a:b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Liv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de Marcel Brouillard intitulé « Espagne et Portuga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7280" y="3219480"/>
            <a:ext cx="65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Brouillard, Marcel, $d 19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</a:rPr>
              <a:t>Livres (suit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57200" y="134136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sans auteurs connus intitulé « Espagne et Portugal » et publié en 2008 par les Éditions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4200" y="2886120"/>
            <a:ext cx="52509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414600"/>
            <a:ext cx="83725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4520" indent="-614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livre sans auteurs connus intitulé « Espagne et Portugal » et publié en 2011 par les Éditions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97052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Éditions DEF)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es œuvres d’Anne Hébert intitulée « Œuvres complèt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1960" y="2932200"/>
            <a:ext cx="66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Hébert, Anne, $d 1916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0 10 $a Œ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Œuvres complè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 (su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contenu 2"/>
          <p:cNvSpPr/>
          <p:nvPr/>
        </p:nvSpPr>
        <p:spPr>
          <a:xfrm>
            <a:off x="457200" y="152388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’œuvres par différents auteurs intitulée « Anthologie de la poésie québécoise » publiée à Montréal e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304308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245 00 $a Anthologie de la poésie québéc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342900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mpilation d’œuvres par différents auteurs intitulée « Anthologie de la poésie québécoise » publiée à Québec 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92240" y="5300640"/>
            <a:ext cx="80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Québec, Québec)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21:00:41Z</dcterms:modified>
  <cp:revision>136</cp:revision>
  <dc:subject/>
  <dc:title>Quiz Module 8: les relations RDA</dc:title>
</cp:coreProperties>
</file>