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63C31EA-27B7-4B21-A437-B75CD8D901E4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7D58D3-AE1C-42DD-8811-759283AE8BFB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96843E-47BD-4C4D-A406-CB6EFF7B9F5E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1459FC1-4B53-4128-9229-4767D0D2B001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B287C2-2E64-4C8B-9AC9-6629CFF81CE0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02190D-3EDD-48C0-8495-D482D1353EE1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F351-52CF-45B4-8199-217F642B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241E-9B66-42F8-9AF3-6A0B359F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B39C-4B4D-45D4-88D9-92C4B80B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1938-C8BA-4226-94FF-8D1B5CE0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5C3C-3F2C-4F14-9B08-8B24EFD5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B6BD-CB04-4286-8261-809D2E85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B9E2-6264-47E4-A450-BC1E5AA1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BD03-DF74-4E39-B2C4-91E399A7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0CE5-20B0-4735-820F-792192E1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714A-5B19-482C-BBAD-A4F49D08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7B3F-7743-4430-BC5B-0837A83F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7F81-BA78-4C34-8C36-54C681E0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C6C6-2391-4FC1-A75F-4E10B314320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99128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333399"/>
                </a:solidFill>
                <a:latin typeface="Arial"/>
                <a:ea typeface="Arial"/>
              </a:rPr>
              <a:t>Exercices sur les œuvres</a:t>
            </a:r>
            <a:br>
              <a:rPr sz="4000"/>
            </a:br>
            <a:br>
              <a:rPr sz="1400"/>
            </a:br>
            <a:r>
              <a:rPr b="0" lang="fr-CA" sz="3200" spc="-1" strike="noStrike">
                <a:solidFill>
                  <a:srgbClr val="333399"/>
                </a:solidFill>
                <a:latin typeface="Arial"/>
                <a:ea typeface="Arial"/>
              </a:rPr>
              <a:t>Donner le point d’accès autorisé pour chacune des œuvres suivantes en utilisant le codage approprié dans une notice bibliographique </a:t>
            </a:r>
            <a:br>
              <a:rPr sz="3200"/>
            </a:br>
            <a:r>
              <a:rPr b="0" lang="fr-CA" sz="3200" spc="-1" strike="noStrike">
                <a:solidFill>
                  <a:srgbClr val="333399"/>
                </a:solidFill>
                <a:latin typeface="Arial"/>
                <a:ea typeface="Arial"/>
              </a:rPr>
              <a:t>(1XX + 240, 1XX + 245, 130 ou 245)</a:t>
            </a:r>
            <a:br>
              <a:rPr sz="3200"/>
            </a:br>
            <a:br>
              <a:rPr sz="1400"/>
            </a:br>
            <a:r>
              <a:rPr b="0" lang="fr-CA" sz="2800" spc="-1" strike="noStrike">
                <a:solidFill>
                  <a:srgbClr val="333399"/>
                </a:solidFill>
                <a:latin typeface="Arial"/>
                <a:ea typeface="Arial"/>
              </a:rPr>
              <a:t>(* Suivant la pratique LC qui consiste à ne pas enregistrer le titre privilégié d’une œuvre dans la zone 130 ou 240 s’il est identique au titre propre de la manifes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Revu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Espace réservé du contenu 2"/>
          <p:cNvSpPr/>
          <p:nvPr/>
        </p:nvSpPr>
        <p:spPr>
          <a:xfrm>
            <a:off x="457200" y="119700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revue intitulée « Progrès en médecin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</a:t>
            </a:r>
            <a:r>
              <a:rPr b="0" i="1" lang="fr-CA" sz="3200" spc="-1" strike="noStrike">
                <a:solidFill>
                  <a:srgbClr val="000000"/>
                </a:solidFill>
                <a:latin typeface="Calibri"/>
              </a:rPr>
              <a:t>autre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revue intitulée « Progrès en médecine » qui a commencé de paraître en 2009 et qui est publiée à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97640" y="1844640"/>
            <a:ext cx="543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00 $a Progrès en méde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95480" y="4035600"/>
            <a:ext cx="80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Progrès en médecine (Paris, France)                  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CA" sz="3200" spc="-1" strike="noStrike">
                <a:solidFill>
                  <a:srgbClr val="000000"/>
                </a:solidFill>
                <a:latin typeface="Calibri"/>
              </a:rPr>
              <a:t>ou</a:t>
            </a:r>
            <a:br>
              <a:rPr sz="3200"/>
            </a:b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Progrès en médecine (20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Liv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space réservé du contenu 2"/>
          <p:cNvSpPr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 livre de Marcel Brouillard intitulé « Espagne et Portuga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97280" y="3219480"/>
            <a:ext cx="659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00 1# $a Brouillard, Marcel, $d 1930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10 $a Espagne et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14716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Calibri"/>
              </a:rPr>
              <a:t>Livres (suite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2"/>
          <p:cNvSpPr/>
          <p:nvPr/>
        </p:nvSpPr>
        <p:spPr>
          <a:xfrm>
            <a:off x="457200" y="1341360"/>
            <a:ext cx="822960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 livre sans auteurs connus intitulé « Espagne et Portugal » et publié en 2008 par les Éditions 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24200" y="2886120"/>
            <a:ext cx="52509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00 $a Espagne et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3414600"/>
            <a:ext cx="837252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4520" indent="-614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Calibri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0" i="1" lang="fr-CA" sz="3200" spc="-1" strike="noStrike">
                <a:solidFill>
                  <a:srgbClr val="000000"/>
                </a:solidFill>
                <a:latin typeface="Calibri"/>
              </a:rPr>
              <a:t>autre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livre sans auteurs connus intitulé « Espagne et Portugal » et publié en 2011 par les Éditions 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4970520"/>
            <a:ext cx="826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Espagne et Portugal (Éditions DEF)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CA" sz="3200" spc="-1" strike="noStrike">
                <a:solidFill>
                  <a:srgbClr val="000000"/>
                </a:solidFill>
                <a:latin typeface="Calibri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Espagne et Portugal (20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ompil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Espace réservé du contenu 2"/>
          <p:cNvSpPr/>
          <p:nvPr/>
        </p:nvSpPr>
        <p:spPr>
          <a:xfrm>
            <a:off x="457200" y="1773360"/>
            <a:ext cx="82296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compilation des œuvres d’Anne Hébert intitulée « Œuvres complètes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1960" y="2932200"/>
            <a:ext cx="662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00 1# $a Hébert, Anne, $d 1916-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0 10 $a Œ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10 $a Œuvres complè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ompilations (suit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contenu 2"/>
          <p:cNvSpPr/>
          <p:nvPr/>
        </p:nvSpPr>
        <p:spPr>
          <a:xfrm>
            <a:off x="457200" y="152388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compilation d’œuvres par différents auteurs intitulée « Anthologie de la poésie québécoise » publiée à Montréal en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7360" y="3043080"/>
            <a:ext cx="68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245 00 $a Anthologie de la poésie québéc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7840" y="3429000"/>
            <a:ext cx="830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buClr>
                <a:srgbClr val="000000"/>
              </a:buClr>
              <a:buFont typeface="Calibri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</a:t>
            </a:r>
            <a:r>
              <a:rPr b="0" i="1" lang="fr-CA" sz="3200" spc="-1" strike="noStrike">
                <a:solidFill>
                  <a:srgbClr val="000000"/>
                </a:solidFill>
                <a:latin typeface="Calibri"/>
              </a:rPr>
              <a:t>autre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compilation d’œuvres par différents auteurs intitulée « Anthologie de la poésie québécoise » publiée à Québec en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92240" y="5300640"/>
            <a:ext cx="805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130 00 $a Anthologie de la poésie québécoise (Québec, Québec) </a:t>
            </a: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CA" sz="2800" spc="-1" strike="noStrike">
                <a:solidFill>
                  <a:srgbClr val="000000"/>
                </a:solidFill>
                <a:latin typeface="Calibri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130 00 $a Anthologie de la poésie québécoise (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21:00:41Z</dcterms:modified>
  <cp:revision>136</cp:revision>
  <dc:subject/>
  <dc:title>Quiz Module 8: les relations RDA</dc:title>
</cp:coreProperties>
</file>