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12B-7826-446A-8B08-5A5D01EF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AB9-4B3C-4A9A-B19F-5BC146E1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57C3-CD61-41E7-A277-D49AC060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20D-D69A-4FE9-9EC9-F74EF9D1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D12-85D5-4FE9-B573-CDB03F56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850-6312-4304-82ED-307DA701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D97-7CB8-4B56-A513-B97D75E0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CD8-3442-46B1-8ABD-85D769EE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1DD-A282-4266-89D9-BACB659C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FA3-A082-46BE-BE85-DC3F4B33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D6E7-360B-41DC-91FD-A5645E34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8C7-1F19-42FA-8F18-15D33753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D299C-4C4E-4BB5-842D-758D4992D9A1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sur 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oints d'accès autor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our les person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1 : Trans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3280" y="1768320"/>
          <a:ext cx="9070920" cy="498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768320"/>
                    <a:ext cx="907092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60360" y="1619280"/>
          <a:ext cx="9340920" cy="5421240"/>
        </p:xfrm>
        <a:graphic>
          <a:graphicData uri="http://schemas.openxmlformats.org/drawingml/2006/table">
            <a:tbl>
              <a:tblPr/>
              <a:tblGrid>
                <a:gridCol w="3692520"/>
                <a:gridCol w="3435480"/>
                <a:gridCol w="2212920"/>
              </a:tblGrid>
              <a:tr h="55548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A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Gille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951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 sept.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Gille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951 septembre 8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16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onacci, Leonardo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170-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40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onacci, Leonardo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viron 1170-environ 1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n, Denis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,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ograp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n, Denis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artograph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6, 9.19.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76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 Françoi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Reim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.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66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 Françoi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Reim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166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.2.18, 9.19.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2 : Homon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0360" y="1619280"/>
          <a:ext cx="9353520" cy="5249880"/>
        </p:xfrm>
        <a:graphic>
          <a:graphicData uri="http://schemas.openxmlformats.org/drawingml/2006/table">
            <a:tbl>
              <a:tblPr/>
              <a:tblGrid>
                <a:gridCol w="9353520"/>
              </a:tblGrid>
              <a:tr h="6048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4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45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76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45 décembre 5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90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-19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23-19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72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q (Charles-Eugèn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 (Dentist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2 : Homonymes (su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800360"/>
          <a:ext cx="8999640" cy="5219280"/>
        </p:xfrm>
        <a:graphic>
          <a:graphicData uri="http://schemas.openxmlformats.org/drawingml/2006/table">
            <a:tbl>
              <a:tblPr/>
              <a:tblGrid>
                <a:gridCol w="8999640"/>
              </a:tblGrid>
              <a:tr h="17514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16-1968</a:t>
                      </a: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p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$q (Charles-Emmanue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66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 (Économist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9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12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p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, $c Ph. 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05:11Z</dcterms:created>
  <dc:creator>Pat Riva</dc:creator>
  <dc:description/>
  <dc:language>en-US</dc:language>
  <cp:lastModifiedBy/>
  <cp:revision>1</cp:revision>
  <dc:subject/>
  <dc:title/>
</cp:coreProperties>
</file>