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D580B3-1C4C-4DF3-989A-5D9DC971A41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12D8FA-1C1B-4F74-984D-F228C65171E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48E-3E31-4352-9DD7-14A94086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09B-2F13-47A2-B424-6C8DC37E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C0B-6EAF-4D3A-9C78-FC78A67B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BB4-407F-4091-AFE6-EBE058A7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BAD-C560-43BF-A1F8-DF78363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610-AEB4-4581-8D91-2E302C49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240-2ABA-4C29-9B16-C938BB8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7C4-0D31-48D3-9C62-20634467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F61-2725-4A2E-9B0A-7A48D738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522-F6CD-45A2-9C21-894D93A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345-686D-41A3-9B12-3919A12F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263-B9BD-4DA9-95D6-2D36518A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784D-20B3-4BE4-B2A7-CDB3B990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750-E9F8-4B78-938A-B21ECF35B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, des famill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3455-904A-4EA4-86D0-E8D50FC2D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Pourquoi ce point d’accès autorisé RDA n’inclut pas une sous-zone $q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(John Town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Williams, John, $d 193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John T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A5AA-FC35-449E-A2CD-016C12D48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5640-103D-4270-AA3F-5E3711D49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1F59-FD6E-451D-A10B-FF50E977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quel des points d’accès autorisés suivants est correctement formaté selon RDA et MARC 21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Daniel Paradis</cp:lastModifiedBy>
  <dcterms:modified xsi:type="dcterms:W3CDTF">2013-05-13T20:47:22Z</dcterms:modified>
  <cp:revision>62</cp:revision>
  <dc:subject/>
  <dc:title>Autorités RDA</dc:title>
</cp:coreProperties>
</file>