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fr-C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fr-C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529CA160-C3C7-4092-98C6-79744A5958E4}" type="slidenum">
              <a:rPr b="0" lang="fr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62647E2B-54B0-44BA-B51B-36A66363567C}" type="slidenum">
              <a:rPr b="0" lang="fr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BBDF8-F797-438E-A975-140E6C470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D2DC2-FACD-4EF0-BCE6-63096101D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2937C-690A-43A3-9E81-FA8862BF5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3073C-54AB-4A41-8F75-CFF2635A1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34F6B-AF5A-4C51-ACC3-389DEBC3D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DDDFF-D307-4424-8076-297AF13D2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9B5A1-A793-4F1D-921F-565708F9E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3C197-F020-483F-81B7-63C4A351A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57ACA-D07C-4F9E-A2B3-329B9EC45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A05BF-1E29-4495-9273-6F239C2C8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14594-FC53-4E74-B125-903CED994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EEC91-8F80-43D0-88D7-A6A27D268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AD1C6-A3EC-4973-8879-8C911CFF89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Espace réservé du numéro de diapositiv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288F6-748F-4431-99C0-632485A87E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itre 1"/>
          <p:cNvSpPr/>
          <p:nvPr/>
        </p:nvSpPr>
        <p:spPr>
          <a:xfrm>
            <a:off x="250920" y="2060640"/>
            <a:ext cx="856908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262080"/>
                <a:tab algn="l" pos="2511360"/>
                <a:tab algn="l" pos="4572000"/>
                <a:tab algn="l" pos="4935600"/>
                <a:tab algn="l" pos="770724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lang="fr-FR" sz="4000" spc="-1" strike="noStrike">
                <a:solidFill>
                  <a:srgbClr val="333399"/>
                </a:solidFill>
                <a:latin typeface="Arial"/>
              </a:rPr>
              <a:t>Quiz</a:t>
            </a:r>
            <a:br>
              <a:rPr sz="3600"/>
            </a:br>
            <a:r>
              <a:rPr b="1" i="1" lang="fr-FR" sz="3600" spc="-1" strike="noStrike">
                <a:solidFill>
                  <a:srgbClr val="333399"/>
                </a:solidFill>
                <a:latin typeface="Arial"/>
              </a:rPr>
              <a:t>Identification des personnes, des familles et des collectivité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Espace réservé du numéro de diapositiv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98B38-A93D-41D3-881C-FF85A8DCC6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64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Est-ce possible d’avoir un point d’accès autorisé RDA pour un nom personnel indifférencié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79480" y="2565360"/>
            <a:ext cx="772488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85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Oui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85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No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indefinite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7" dur="indefinite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" dur="indefinite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333399"/>
                </a:solidFill>
                <a:latin typeface="Arial"/>
              </a:rPr>
              <a:t>Pourquoi ce point d’accès autorisé RDA n’inclut pas une sous-zone $q </a:t>
            </a:r>
            <a:br>
              <a:rPr sz="3200"/>
            </a:br>
            <a:r>
              <a:rPr b="1" lang="fr-CA" sz="3200" spc="-1" strike="noStrike">
                <a:solidFill>
                  <a:srgbClr val="333399"/>
                </a:solidFill>
                <a:latin typeface="Arial"/>
              </a:rPr>
              <a:t>(John Towner)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100 1# $a Williams, John, $d 1932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378      $q John Tow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Une forme développée n’est jamais enregistrée dans la zone 1XX d’un point d’accès autorisé d’un nom de personne R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Il n’y avait pas de conflit, donc la forme développée n’a pas été ajoutée au point d’accès autorisé R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Le catalogueur a utilisé son ju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indefinite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" dur="indefinite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" dur="indefinite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" dur="20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Espace réservé du numéro de diapositiv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E3E22-3128-46A0-8D0F-25155E722C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Quelle norme de catalogage a été utilisée pour créer l’autorité 1XX ci-dessou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55280" y="3112920"/>
            <a:ext cx="758196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5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D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CAA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3"/>
          <p:cNvSpPr/>
          <p:nvPr/>
        </p:nvSpPr>
        <p:spPr>
          <a:xfrm>
            <a:off x="539640" y="1557360"/>
            <a:ext cx="822960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404040"/>
                </a:solidFill>
                <a:latin typeface="Arial"/>
              </a:rPr>
              <a:t>111 2# $a Annual Conference on Development and Change $n (1re : $d 2005 : $c N</a:t>
            </a:r>
            <a:r>
              <a:rPr b="0" lang="fr-CA" sz="2600" spc="-1" strike="noStrike">
                <a:solidFill>
                  <a:srgbClr val="404040"/>
                </a:solidFill>
                <a:latin typeface="Arial"/>
                <a:ea typeface="Arial"/>
              </a:rPr>
              <a:t>ī</a:t>
            </a:r>
            <a:r>
              <a:rPr b="0" lang="fr-CA" sz="2600" spc="-1" strike="noStrike">
                <a:solidFill>
                  <a:srgbClr val="404040"/>
                </a:solidFill>
                <a:latin typeface="Arial"/>
              </a:rPr>
              <a:t>mr</a:t>
            </a:r>
            <a:r>
              <a:rPr b="0" lang="fr-CA" sz="2600" spc="-1" strike="noStrike">
                <a:solidFill>
                  <a:srgbClr val="404040"/>
                </a:solidFill>
                <a:latin typeface="Arial"/>
                <a:ea typeface="Arial"/>
              </a:rPr>
              <a:t>ā</a:t>
            </a:r>
            <a:r>
              <a:rPr b="0" lang="fr-CA" sz="2600" spc="-1" strike="noStrike">
                <a:solidFill>
                  <a:srgbClr val="404040"/>
                </a:solidFill>
                <a:latin typeface="Arial"/>
              </a:rPr>
              <a:t>na, Ind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indefinite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" dur="indefinite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" dur="indefinite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Espace réservé du numéro de diapositiv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557C2-1A99-4F68-9CD4-ED96B22CF0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Choisir le nom privilégié RDA pour le congrès ci-desso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782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404040"/>
                </a:solidFill>
                <a:latin typeface="Arial"/>
              </a:rPr>
              <a:t>Fifth Annual SoFiE Confer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000" spc="-1" strike="noStrike">
                <a:solidFill>
                  <a:srgbClr val="000000"/>
                </a:solidFill>
                <a:latin typeface="Arial"/>
              </a:rPr>
              <a:t>111 2# $a Fifth Annual SoFiE Confere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000" spc="-1" strike="noStrike">
                <a:solidFill>
                  <a:srgbClr val="000000"/>
                </a:solidFill>
                <a:latin typeface="Arial"/>
              </a:rPr>
              <a:t>111 2# $a Annual SoFiE Confere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000" spc="-1" strike="noStrike">
                <a:solidFill>
                  <a:srgbClr val="000000"/>
                </a:solidFill>
                <a:latin typeface="Arial"/>
              </a:rPr>
              <a:t>111 2# $a SoFiE Confere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indefinite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" dur="indefinite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8" dur="indefinite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" dur="5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Espace réservé du numéro de diapositiv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934A0-26F5-497C-8B15-4B9B6E01B6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61600"/>
            <a:ext cx="8229600" cy="229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Vrai ou faux? Le nom privilégié pour une collectivité est un élément fondamental. Les variantes du nom pour une collectivité sont optionnelle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2968200"/>
            <a:ext cx="8229600" cy="168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ra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u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indefinite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47" dur="indefinite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48" dur="indefinite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0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Lequel des points d’accès autorisés suivants est correctement formaté selon RDA et MARC 21?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8360" y="2204640"/>
            <a:ext cx="79200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100 1# $a Carleton (Famill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150      $a Carleton, Famil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110 2# $a Carleton (Famille : $d 1757-1865 : $c Alexandria, Virg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100 3# $a Carleton (Famille : $g Carleton, James, 1757-1827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indefinite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57" dur="indefinite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58" dur="indefinite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0" dur="20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07T18:07:42Z</dcterms:created>
  <dc:creator>BANQ</dc:creator>
  <dc:description/>
  <dc:language>en-US</dc:language>
  <cp:lastModifiedBy>Daniel Paradis</cp:lastModifiedBy>
  <dcterms:modified xsi:type="dcterms:W3CDTF">2013-05-13T20:47:22Z</dcterms:modified>
  <cp:revision>62</cp:revision>
  <dc:subject/>
  <dc:title>Autorités RDA</dc:title>
</cp:coreProperties>
</file>