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9E19702-6EA3-4997-A294-CF8D80AEBB35}"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BCA35E7-6DDC-47E8-B548-8C6A9C473DD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AB5FE00-4546-415C-9E2A-8264F3E644E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393D01A-03E3-4B62-A048-C560F40E6B8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842A432-9123-4925-9BD3-D2D9431693E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0AF6872-2197-4CBE-91EA-9957B142138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8" name="PlaceHolder 1"/>
          <p:cNvSpPr>
            <a:spLocks noGrp="1"/>
          </p:cNvSpPr>
          <p:nvPr>
            <p:ph type="sldImg"/>
          </p:nvPr>
        </p:nvSpPr>
        <p:spPr>
          <a:xfrm>
            <a:off x="1257480" y="719280"/>
            <a:ext cx="4800600" cy="3600360"/>
          </a:xfrm>
          <a:prstGeom prst="rect">
            <a:avLst/>
          </a:prstGeom>
          <a:ln w="0">
            <a:noFill/>
          </a:ln>
        </p:spPr>
      </p:sp>
      <p:sp>
        <p:nvSpPr>
          <p:cNvPr id="2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0B882C-A923-4336-89BF-F63978EF45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0E3FFC-857D-42F6-82B5-02BCCA815A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337AA0-1258-4518-9825-46644BAB58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764736-ECF2-4270-9CC1-E34595D771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422C35-8707-48A9-9DEF-50BCE11FE1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A0D050-2492-4069-8870-19DFEC65E1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6407ED-7930-4787-BFFA-D9D182A99E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D706E6-3B47-49AB-97B1-CF8B33CB7B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063DFB-FF45-4E7E-9EBE-C1B8C7AC57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E0C27F-026C-4F70-BF25-1AAD79510E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585437-83DE-4CCA-A75C-C78DF036CA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1F04E6-03C3-4A58-A8B1-B078B5769F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451EBF-0707-4194-9009-53C38605AB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D6681E-FC31-4072-8763-A0D40140F16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E8F7B2-F08F-49CB-AF34-0A7DFFD572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64A09D-0173-414D-84D3-A3A8097848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3CAFC8-6BFC-4CC0-B62B-14FAD44A99A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B33B09-A9BD-48B3-9697-532A054BCD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7365C3-1A51-47C4-811E-6CD99DB83B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4"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F5BBA4-96D9-470B-9F31-150C7F4B25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abréviations « s. » et « ca » </a:t>
            </a:r>
            <a:r>
              <a:rPr b="0" lang="en-US"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 » devient « </a:t>
            </a:r>
            <a:r>
              <a:rPr b="0" lang="en-US" sz="2400" spc="-1" strike="noStrike">
                <a:solidFill>
                  <a:srgbClr val="008093"/>
                </a:solidFill>
                <a:latin typeface="Arial"/>
              </a:rPr>
              <a:t>siècle</a:t>
            </a:r>
            <a:r>
              <a:rPr b="0" lang="en-US"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environ</a:t>
            </a:r>
            <a:r>
              <a:rPr b="0" lang="en-US"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Mais</a:t>
            </a:r>
            <a:r>
              <a:rPr b="0" lang="en-US"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ode d’activité de la personne : « </a:t>
            </a:r>
            <a:r>
              <a:rPr b="0" lang="en-US" sz="2400" spc="-1" strike="noStrike">
                <a:solidFill>
                  <a:srgbClr val="008093"/>
                </a:solidFill>
                <a:latin typeface="Arial"/>
              </a:rPr>
              <a:t>activité</a:t>
            </a:r>
            <a:r>
              <a:rPr b="0" lang="en-US"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25E531-ACAE-4901-AA26-935AEC4D57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787A43-9D6D-43EA-BE0A-634DF3E566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7"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partie du nom qui n’est pas incluse dans la forme choisie comme nom privilégié (</a:t>
            </a:r>
            <a:r>
              <a:rPr b="0" lang="en-US" sz="2400" spc="-1" strike="noStrike">
                <a:solidFill>
                  <a:srgbClr val="008093"/>
                </a:solidFill>
                <a:latin typeface="Arial"/>
              </a:rPr>
              <a:t>changement de RCAA2</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olitique LC</a:t>
            </a:r>
            <a:r>
              <a:rPr b="0" lang="en-US"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en-US" sz="2400" spc="-1" strike="noStrike">
                <a:solidFill>
                  <a:srgbClr val="008093"/>
                </a:solidFill>
                <a:latin typeface="Arial"/>
              </a:rPr>
              <a:t>LC-PCC PS 9.19.1.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2D8031-B8A2-4A99-8ADE-F81D9FE25B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0EBE87-EF26-4549-A882-E3C87C4F082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123"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4BE097-32BE-4C9D-8A50-A01B679D58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F85E7B-85F1-472C-BCE3-C9083AB4D3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personnes : </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4: Profession</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5: Sexe de la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8: Forme développée du nom de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de l’information biographique*</a:t>
            </a:r>
            <a:endParaRPr b="0" lang="en-US" sz="2400" spc="-1" strike="noStrike">
              <a:solidFill>
                <a:srgbClr val="000000"/>
              </a:solidFill>
              <a:latin typeface="Arial"/>
            </a:endParaRPr>
          </a:p>
        </p:txBody>
      </p:sp>
      <p:sp>
        <p:nvSpPr>
          <p:cNvPr id="132" name="TextBox 4"/>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5FCF59E-4E1D-485B-BDEA-6C85D469159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36"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BBF7EDA-B3E6-4C01-83DF-47D23070E24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et rôle de la </a:t>
            </a:r>
            <a:br>
              <a:rPr sz="2800"/>
            </a:br>
            <a:r>
              <a:rPr b="1" lang="en-US" sz="2800" spc="-1" strike="noStrike">
                <a:solidFill>
                  <a:srgbClr val="ffffff"/>
                </a:solidFill>
                <a:latin typeface="Arial"/>
              </a:rPr>
              <a:t>« famille »</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our les archives, les musées, les collections spéciales, les bulletins de généalogie, les revues d’associations de famill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E68D6F-CC61-48FB-9F92-B034481715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hapitre 10 s’applique à des entités de famille </a:t>
            </a:r>
            <a:r>
              <a:rPr b="0"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r la politique d’indexation actuelle pour les regroupements </a:t>
            </a:r>
            <a:r>
              <a:rPr b="0" lang="en-US" sz="2800" spc="-1" strike="noStrike">
                <a:solidFill>
                  <a:srgbClr val="008093"/>
                </a:solidFill>
                <a:latin typeface="Arial"/>
              </a:rPr>
              <a:t>généraux</a:t>
            </a:r>
            <a:r>
              <a:rPr b="0" lang="en-US"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E03F7FA-4FC7-4221-8535-FB4F107C25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1"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2"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1E6D86-2710-4F71-A173-710331A1B5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a:t>
            </a:r>
            <a:r>
              <a:rPr b="0" lang="en-US"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ssociée </a:t>
            </a:r>
            <a:r>
              <a:rPr b="0" lang="en-US" sz="2400" spc="-1" strike="noStrike">
                <a:solidFill>
                  <a:srgbClr val="008093"/>
                </a:solidFill>
                <a:latin typeface="Arial"/>
              </a:rPr>
              <a:t>(RDA 10.4)</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a:t>
            </a:r>
            <a:r>
              <a:rPr b="0" lang="en-US" sz="2400" spc="-1" strike="noStrike">
                <a:solidFill>
                  <a:srgbClr val="008093"/>
                </a:solidFill>
                <a:latin typeface="Arial"/>
              </a:rPr>
              <a:t> (RDA 10.5) </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e illustre de la famille </a:t>
            </a:r>
            <a:r>
              <a:rPr b="0" lang="en-US" sz="2400" spc="-1" strike="noStrike">
                <a:solidFill>
                  <a:srgbClr val="008093"/>
                </a:solidFill>
                <a:latin typeface="Arial"/>
              </a:rPr>
              <a:t>(RDA 10.6)</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i nécessaire pour distinguer </a:t>
            </a:r>
            <a:r>
              <a:rPr b="0" i="1" lang="en-US" sz="2800" spc="-1" strike="noStrike">
                <a:solidFill>
                  <a:srgbClr val="000000"/>
                </a:solidFill>
                <a:latin typeface="Arial"/>
              </a:rPr>
              <a:t>ou</a:t>
            </a:r>
            <a:r>
              <a:rPr b="0" lang="en-US"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B71836-FA02-4984-A0DE-09B96A8216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hoix du catalogueur</a:t>
            </a:r>
            <a:r>
              <a:rPr b="0" lang="en-US" sz="2400" spc="-1" strike="noStrike">
                <a:solidFill>
                  <a:srgbClr val="000000"/>
                </a:solidFill>
                <a:latin typeface="Arial"/>
              </a:rPr>
              <a:t>, par exemple : « Famille », </a:t>
            </a:r>
            <a:br>
              <a:rPr sz="2400"/>
            </a:br>
            <a:r>
              <a:rPr b="0" lang="en-US"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1"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2"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0C26FB-3971-45A4-A11C-714B774AC06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Identification des famill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1DAD978-7F88-424C-935E-37DB416AC93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9e sièc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ècle » n’est plus abrégé !</a:t>
            </a:r>
            <a:endParaRPr b="0" lang="en-US" sz="2400" spc="-1" strike="noStrike">
              <a:solidFill>
                <a:srgbClr val="000000"/>
              </a:solidFill>
              <a:latin typeface="Arial"/>
            </a:endParaRPr>
          </a:p>
        </p:txBody>
      </p:sp>
      <p:sp>
        <p:nvSpPr>
          <p:cNvPr id="167"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8"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2482A86-B32E-407F-BC8A-F28086453D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3"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4"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 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048FE4-651B-4A54-BE5F-9BABED1697C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79"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0"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3# $a Trudeau (Famille : $g </a:t>
            </a:r>
            <a:r>
              <a:rPr b="1" lang="en-US" sz="2400" spc="-1" strike="noStrike">
                <a:solidFill>
                  <a:srgbClr val="008093"/>
                </a:solidFill>
                <a:latin typeface="Courier New"/>
              </a:rPr>
              <a:t>Trudeau, Pierre Elliott, 1919-2000</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17D4381-EF4A-40F2-8BB6-0EFDA95E83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familles:</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 : Dates spéciales cod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 : Renseignements sur la famil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nouvelles zon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1C29DE-9B68-4BA3-AC7C-40B3366FCF4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88"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D73780-3858-43B3-AC4A-EEAF2E7261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76700E-9950-4C7C-A8B0-AF32F8059E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BDF045-5EC9-4D78-9638-40620E0E67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63B0DD-6BC3-47C0-8611-4C6C3F2452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5"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0DB586-CB3D-40F1-A198-30B5414667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0617FB-9EC9-46EA-90E1-9B703B56A8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F5EFB00-2E5E-4BFD-8583-AC0F7285359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CB0031-BB29-444C-A1FE-8DD6C793357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3A91C0-0FF8-41B5-B3D4-EA9145C5366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2"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3"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3A17D7F-0D64-42CD-A014-CA70E91F94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27"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congrès, etc., si le nom de l’institution fournit </a:t>
            </a:r>
            <a:r>
              <a:rPr b="0" lang="en-US" sz="2400" spc="-1" strike="noStrike">
                <a:solidFill>
                  <a:srgbClr val="008093"/>
                </a:solidFill>
                <a:latin typeface="Arial"/>
              </a:rPr>
              <a:t>une meilleure identification</a:t>
            </a:r>
            <a:r>
              <a:rPr b="0" lang="en-US"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férer l’ajout d’une institution à l’ajout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et la langue enregistrées comme nom privilégié de l’institution (</a:t>
            </a:r>
            <a:r>
              <a:rPr b="0" lang="en-US" sz="2800" spc="-1" strike="noStrike" u="sng">
                <a:solidFill>
                  <a:srgbClr val="008093"/>
                </a:solidFill>
                <a:uFillTx/>
                <a:latin typeface="Arial"/>
              </a:rPr>
              <a:t>non pas</a:t>
            </a:r>
            <a:r>
              <a:rPr b="0" lang="en-US"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C0D092-5D78-43F5-ABAC-EF24AE5A15C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age MARC21 pour l’institution associée</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Congrès</a:t>
            </a:r>
            <a:r>
              <a:rPr b="0" lang="en-US"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Autres collectivités</a:t>
            </a:r>
            <a:r>
              <a:rPr b="0" lang="en-US"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2"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3"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4"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5"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B847FC5-9A9E-4678-BC7B-2C765CB2A6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fondation (RDA 11.4.3)</a:t>
            </a:r>
            <a:br>
              <a:rPr sz="2800"/>
            </a:br>
            <a:r>
              <a:rPr b="1" lang="en-US"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date </a:t>
            </a:r>
            <a:r>
              <a:rPr b="0" lang="en-US" sz="2800" spc="-1" strike="noStrike">
                <a:solidFill>
                  <a:srgbClr val="008093"/>
                </a:solidFill>
                <a:latin typeface="Arial"/>
              </a:rPr>
              <a:t>si nécessaire</a:t>
            </a:r>
            <a:r>
              <a:rPr b="0" lang="en-US"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1"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555719-E832-4430-A840-16AD44E5D79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collectivités dont le nom </a:t>
            </a:r>
            <a:r>
              <a:rPr b="0" lang="en-US" sz="2000" spc="-1" strike="noStrike">
                <a:solidFill>
                  <a:srgbClr val="008093"/>
                </a:solidFill>
                <a:latin typeface="Arial"/>
              </a:rPr>
              <a:t>n’évoque pas</a:t>
            </a:r>
            <a:r>
              <a:rPr b="0" lang="en-US"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si nécessaire</a:t>
            </a:r>
            <a:r>
              <a:rPr b="0" lang="en-US"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46"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Tragically Hip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7"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EAB9A6-3760-43AE-B4F1-A3984DFDEE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338B9E-A716-4E44-85BA-6DD7E93E484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56"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E1DB32-268E-468E-9277-8F5499E8A6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16BF76-0C9B-46CD-9152-AB76E5D3425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708C97-46D6-42F2-9C51-8EFFB27BA3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B7A23E0-4620-4D68-A610-E00DF5C5DC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noms</a:t>
            </a:r>
            <a:r>
              <a:rPr b="0" lang="en-US"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enregistrer les lieux </a:t>
            </a:r>
            <a:r>
              <a:rPr b="0" lang="en-US" sz="2800" spc="-1" strike="noStrike">
                <a:solidFill>
                  <a:srgbClr val="008093"/>
                </a:solidFill>
                <a:latin typeface="Arial"/>
              </a:rPr>
              <a:t>associés</a:t>
            </a:r>
            <a:r>
              <a:rPr b="0" lang="en-US"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FD0985-5B18-4836-AB3C-E627AFEFA1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7C588A8-B5F5-4EF9-8B95-7EC794D9E2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7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7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9F5D0C6-C653-47B0-B8C1-DF4727373D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68EBE71-A6E7-48CD-B359-767D0312DB8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3B2CAB-99DD-40AF-B982-21D2186FA4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FB572B-7973-4D8B-83B2-8CC6E56176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09T15:23:04Z</dcterms:modified>
  <cp:revision>326</cp:revision>
  <dc:subject/>
  <dc:title>Diapositive 1</dc:title>
</cp:coreProperties>
</file>